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84400" cy="480960"/>
          </a:xfrm>
          <a:prstGeom prst="rect">
            <a:avLst/>
          </a:prstGeom>
          <a:noFill/>
          <a:ln w="0">
            <a:noFill/>
          </a:ln>
        </p:spPr>
        <p:txBody>
          <a:bodyPr lIns="94320" rIns="94320" tIns="47160" bIns="47160" anchor="ctr">
            <a:noAutofit/>
          </a:bodyPr>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03840" y="0"/>
            <a:ext cx="2984400" cy="480960"/>
          </a:xfrm>
          <a:prstGeom prst="rect">
            <a:avLst/>
          </a:prstGeom>
          <a:noFill/>
          <a:ln w="0">
            <a:noFill/>
          </a:ln>
        </p:spPr>
        <p:txBody>
          <a:bodyPr lIns="94320" rIns="94320" tIns="47160" bIns="47160" anchor="ctr">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GB" sz="1200" spc="-1" strike="noStrike">
                <a:solidFill>
                  <a:srgbClr val="000000"/>
                </a:solidFill>
                <a:latin typeface="Verdana"/>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42560"/>
            <a:ext cx="2984400" cy="480960"/>
          </a:xfrm>
          <a:prstGeom prst="rect">
            <a:avLst/>
          </a:prstGeom>
          <a:noFill/>
          <a:ln w="0">
            <a:noFill/>
          </a:ln>
        </p:spPr>
        <p:txBody>
          <a:bodyPr lIns="94320" rIns="94320" tIns="47160" bIns="47160" anchor="b">
            <a:noAutofit/>
          </a:bodyPr>
          <a:lstStyle>
            <a:lvl1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GB" sz="1200" spc="-1" strike="noStrike">
                <a:solidFill>
                  <a:srgbClr val="000000"/>
                </a:solidFill>
                <a:latin typeface="Verdana"/>
              </a:defRPr>
            </a:lvl1pPr>
          </a:lstStyle>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GB" sz="1200" spc="-1" strike="noStrike">
                <a:solidFill>
                  <a:srgbClr val="000000"/>
                </a:solidFill>
                <a:latin typeface="Verdana"/>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572FDD-E1BF-4557-83FF-3BA995B2530B}" type="slidenum">
              <a:rPr b="1"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 Target="../slides/slide7.xml"/><Relationship Id="rId7"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592280" y="1363680"/>
            <a:ext cx="3741840" cy="2806560"/>
          </a:xfrm>
          <a:prstGeom prst="rect">
            <a:avLst/>
          </a:prstGeom>
          <a:ln w="0">
            <a:noFill/>
          </a:ln>
        </p:spPr>
      </p:sp>
      <p:sp>
        <p:nvSpPr>
          <p:cNvPr id="1484"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rstly, set the sce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context is really important. If students can understand a reason for the work, and own it, it will become more valid and valuable. Statisticians solve </a:t>
            </a:r>
            <a:r>
              <a:rPr b="0" i="1" lang="en-GB" sz="1200" spc="-1" strike="noStrike">
                <a:solidFill>
                  <a:srgbClr val="000000"/>
                </a:solidFill>
                <a:latin typeface="Verdana"/>
              </a:rPr>
              <a:t>real problems</a:t>
            </a:r>
            <a:r>
              <a:rPr b="0" lang="en-GB" sz="1200" spc="-1" strike="noStrike">
                <a:solidFill>
                  <a:srgbClr val="000000"/>
                </a:solidFill>
                <a:latin typeface="Verdana"/>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a:t>
            </a:r>
            <a:r>
              <a:rPr b="0" i="1" lang="en-US" sz="1200" spc="-1" strike="noStrike">
                <a:solidFill>
                  <a:srgbClr val="000000"/>
                </a:solidFill>
                <a:latin typeface="Verdana"/>
              </a:rPr>
              <a:t>This year’s summer holiday had some great beaches, warm water and not too many crowds on the beach. Early one morning the only people around were a few other </a:t>
            </a:r>
            <a:r>
              <a:rPr b="0" i="1" lang="en-US" sz="1200" spc="-1" strike="noStrike" u="sng">
                <a:solidFill>
                  <a:srgbClr val="000000"/>
                </a:solidFill>
                <a:uFillTx/>
                <a:latin typeface="Verdana"/>
              </a:rPr>
              <a:t>teenagers</a:t>
            </a:r>
            <a:r>
              <a:rPr b="0" i="1" lang="en-US" sz="1200" spc="-1" strike="noStrike">
                <a:solidFill>
                  <a:srgbClr val="000000"/>
                </a:solidFill>
                <a:latin typeface="Verdana"/>
              </a:rPr>
              <a:t>; I chose a deserted part of the beach and thought it would be okay to hide my wallet and mobile in the bottom of my shoes next to my towel, with my ba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When I got back from swimming, my wallet and phone were still there, but my MP3 player had been stolen from my backpack.</a:t>
            </a:r>
            <a:r>
              <a:rPr b="0" lang="en-US"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Verdana"/>
              </a:rPr>
              <a:t>The beach photographs come from www.free-stockphotos.com</a:t>
            </a:r>
            <a:endParaRPr b="0" lang="en-US" sz="1200" spc="-1" strike="noStrike">
              <a:solidFill>
                <a:srgbClr val="000000"/>
              </a:solidFill>
              <a:latin typeface="Times New Roman"/>
            </a:endParaRPr>
          </a:p>
        </p:txBody>
      </p:sp>
      <p:sp>
        <p:nvSpPr>
          <p:cNvPr id="1485" name=""/>
          <p:cNvSpPr/>
          <p:nvPr/>
        </p:nvSpPr>
        <p:spPr>
          <a:xfrm>
            <a:off x="458640" y="320760"/>
            <a:ext cx="5410440" cy="691920"/>
          </a:xfrm>
          <a:prstGeom prst="rect">
            <a:avLst/>
          </a:prstGeom>
          <a:noFill/>
          <a:ln w="0">
            <a:noFill/>
          </a:ln>
        </p:spPr>
        <p:style>
          <a:lnRef idx="0"/>
          <a:fillRef idx="0"/>
          <a:effectRef idx="0"/>
          <a:fontRef idx="minor"/>
        </p:style>
        <p:txBody>
          <a:bodyPr lIns="94320" rIns="94320" tIns="47160" bIns="4716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QCA/RSSCSE</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ndling Data and Statistics Project</a:t>
            </a:r>
            <a:endParaRPr b="0" lang="en-US" sz="1400" spc="-1" strike="noStrike">
              <a:solidFill>
                <a:srgbClr val="000000"/>
              </a:solidFill>
              <a:latin typeface="Times New Roman"/>
            </a:endParaRPr>
          </a:p>
        </p:txBody>
      </p:sp>
      <p:pic>
        <p:nvPicPr>
          <p:cNvPr id="1486" name="" descr=""/>
          <p:cNvPicPr/>
          <p:nvPr/>
        </p:nvPicPr>
        <p:blipFill>
          <a:blip r:embed="rId1"/>
          <a:stretch/>
        </p:blipFill>
        <p:spPr>
          <a:xfrm>
            <a:off x="382680" y="8580600"/>
            <a:ext cx="552240" cy="758520"/>
          </a:xfrm>
          <a:prstGeom prst="rect">
            <a:avLst/>
          </a:prstGeom>
          <a:ln w="0">
            <a:noFill/>
          </a:ln>
        </p:spPr>
      </p:pic>
      <p:pic>
        <p:nvPicPr>
          <p:cNvPr id="1487" name="" descr=""/>
          <p:cNvPicPr/>
          <p:nvPr/>
        </p:nvPicPr>
        <p:blipFill>
          <a:blip r:embed="rId2"/>
          <a:stretch/>
        </p:blipFill>
        <p:spPr>
          <a:xfrm>
            <a:off x="1106640" y="8582040"/>
            <a:ext cx="722160" cy="75708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038240" y="722160"/>
            <a:ext cx="4811760" cy="3608640"/>
          </a:xfrm>
          <a:prstGeom prst="rect">
            <a:avLst/>
          </a:prstGeom>
          <a:ln w="0">
            <a:noFill/>
          </a:ln>
        </p:spPr>
      </p:sp>
      <p:sp>
        <p:nvSpPr>
          <p:cNvPr id="1507"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the slide says - time to collect some dat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038240" y="722160"/>
            <a:ext cx="4811760" cy="3608640"/>
          </a:xfrm>
          <a:prstGeom prst="rect">
            <a:avLst/>
          </a:prstGeom>
          <a:ln w="0">
            <a:noFill/>
          </a:ln>
        </p:spPr>
      </p:sp>
      <p:sp>
        <p:nvSpPr>
          <p:cNvPr id="1509"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the second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w that we have collected (enough) data we need to process it – to put it into format that will help answer our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038240" y="722160"/>
            <a:ext cx="4811760" cy="3608640"/>
          </a:xfrm>
          <a:prstGeom prst="rect">
            <a:avLst/>
          </a:prstGeom>
          <a:ln w="0">
            <a:noFill/>
          </a:ln>
        </p:spPr>
      </p:sp>
      <p:sp>
        <p:nvSpPr>
          <p:cNvPr id="151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at this stage, that things get related back to the problem. There are different approaches that could be taken in getting the students to draw charts to represent the da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ould let the students get on and draw graphs of their choice and then analyse them as a group or tell them which ones to d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st for exploring the relationships here, are scatter graph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udents could also draw stem and leaf diagrams for the distributions of heights and weights at the particular foot leng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uttons in the bottom right of the screen will take you through either of the 2 routes and will skip the unrelated slid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038240" y="722160"/>
            <a:ext cx="4811760" cy="3608640"/>
          </a:xfrm>
          <a:prstGeom prst="rect">
            <a:avLst/>
          </a:prstGeom>
          <a:ln w="0">
            <a:noFill/>
          </a:ln>
        </p:spPr>
      </p:sp>
      <p:sp>
        <p:nvSpPr>
          <p:cNvPr id="1513"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 animates the plotting of one point on a scatter grap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could show how to plot more than one point or ask pupi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o point on the whiteboard/projection where additional points would go for foot lengths and heights you genera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slide then shows an actual sample of points from the CensusAtSchool proje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038240" y="722160"/>
            <a:ext cx="4811760" cy="3608640"/>
          </a:xfrm>
          <a:prstGeom prst="rect">
            <a:avLst/>
          </a:prstGeom>
          <a:ln w="0">
            <a:noFill/>
          </a:ln>
        </p:spPr>
      </p:sp>
      <p:sp>
        <p:nvSpPr>
          <p:cNvPr id="1515"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third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aving processed our data we now need to describe what we have foun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038240" y="722160"/>
            <a:ext cx="4811760" cy="3608640"/>
          </a:xfrm>
          <a:prstGeom prst="rect">
            <a:avLst/>
          </a:prstGeom>
          <a:ln w="0">
            <a:noFill/>
          </a:ln>
        </p:spPr>
      </p:sp>
      <p:sp>
        <p:nvSpPr>
          <p:cNvPr id="1517"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courage students to discuss the relationship – not simply to spot the (positive/negative) correl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could use a prompt – I notice that as………… increases …………… increases.</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y may be looking at different hypotheses. Make sure they relate their graphs to their statement from their pla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038240" y="722160"/>
            <a:ext cx="4811760" cy="3608640"/>
          </a:xfrm>
          <a:prstGeom prst="rect">
            <a:avLst/>
          </a:prstGeom>
          <a:ln w="0">
            <a:noFill/>
          </a:ln>
        </p:spPr>
      </p:sp>
      <p:sp>
        <p:nvSpPr>
          <p:cNvPr id="1519"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tate the problem – give examples of the statistic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guage we want them to use - see suggested vocabulary from teachers sh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038240" y="722160"/>
            <a:ext cx="4811760" cy="3608640"/>
          </a:xfrm>
          <a:prstGeom prst="rect">
            <a:avLst/>
          </a:prstGeom>
          <a:ln w="0">
            <a:noFill/>
          </a:ln>
        </p:spPr>
      </p:sp>
      <p:sp>
        <p:nvSpPr>
          <p:cNvPr id="152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an opportunity to discuss the limits of what has been done. Possible points to bring out a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ality of the random sample – discuss whether the methods used were truly rand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ze of the sample – what would happen if we took a larger samp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ow reliable are the inferences we mak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y involve probabilities – there may of course be an outlier, so in fact we would need other evidence (it may help us narrow down the person, but not convict the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at other information could support the enquir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y are finger prints used? (unique, reliab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y to encourage the students to engage with these and perhaps even start to plan a new investigation with justified changes. This part is notoriously done badly – a list of bullet points – my sample wasn’t big enough etc </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038240" y="722160"/>
            <a:ext cx="4811760" cy="3608640"/>
          </a:xfrm>
          <a:prstGeom prst="rect">
            <a:avLst/>
          </a:prstGeom>
          <a:ln w="0">
            <a:noFill/>
          </a:ln>
        </p:spPr>
      </p:sp>
      <p:sp>
        <p:nvSpPr>
          <p:cNvPr id="1523"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final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ing discussed our findings we could now start the whole cycle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extensions to this are related to left/right domin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038240" y="722160"/>
            <a:ext cx="4811760" cy="3608640"/>
          </a:xfrm>
          <a:prstGeom prst="rect">
            <a:avLst/>
          </a:prstGeom>
          <a:ln w="0">
            <a:noFill/>
          </a:ln>
        </p:spPr>
      </p:sp>
      <p:sp>
        <p:nvSpPr>
          <p:cNvPr id="1525"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 can be accessed from the previous slide which has a choice of routes to take during data proces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udents investigating what ‘an average student’ of foot length 25cm would be like could consider looking at mean/mode/median  he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suitable if they have obtained enough data. This could be a problem for primary data collection but the web linkon the RSSCSE website to the CensusAtSchool website allows downloading of random samples from the 24,000 person database specifying a foot length of 25c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038240" y="722160"/>
            <a:ext cx="4811760" cy="3608640"/>
          </a:xfrm>
          <a:prstGeom prst="rect">
            <a:avLst/>
          </a:prstGeom>
          <a:ln w="0">
            <a:noFill/>
          </a:ln>
        </p:spPr>
      </p:sp>
      <p:sp>
        <p:nvSpPr>
          <p:cNvPr id="1489"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tting the scene continu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 took a photograph of a footprint I found around my stuff.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 reported the crime to the police and filled in some paperwork. They said that my footprint photograph was not going to help the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Verdana"/>
              </a:rPr>
              <a:t>I don’t think they were right – I am sure they could have used it to work out something about the thief.</a:t>
            </a:r>
            <a:r>
              <a:rPr b="0" i="1" lang="en-US" sz="1200" spc="-1" strike="noStrike">
                <a:solidFill>
                  <a:srgbClr val="000000"/>
                </a:solidFill>
                <a:latin typeface="Verdana"/>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e the £1 coin on the photograph; this could be used to generate a short discussion by ask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y did the victim of the theft use put a coin next to the footpri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 coins fit the length of the print; the standard diameter is 22.50mm according to </a:t>
            </a:r>
            <a:r>
              <a:rPr b="0" lang="en-GB" sz="1000" spc="-1" strike="noStrike">
                <a:solidFill>
                  <a:srgbClr val="000000"/>
                </a:solidFill>
                <a:latin typeface="Verdana"/>
              </a:rPr>
              <a:t>www.24carat.co.uk/coinspecs2000frame.html</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038240" y="722160"/>
            <a:ext cx="4811760" cy="3608640"/>
          </a:xfrm>
          <a:prstGeom prst="rect">
            <a:avLst/>
          </a:prstGeom>
          <a:ln w="0">
            <a:noFill/>
          </a:ln>
        </p:spPr>
      </p:sp>
      <p:sp>
        <p:nvSpPr>
          <p:cNvPr id="1527" name="PlaceHolder 2"/>
          <p:cNvSpPr>
            <a:spLocks noGrp="1"/>
          </p:cNvSpPr>
          <p:nvPr>
            <p:ph type="body"/>
          </p:nvPr>
        </p:nvSpPr>
        <p:spPr>
          <a:xfrm>
            <a:off x="918720" y="4811400"/>
            <a:ext cx="5002200" cy="46911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final screen, from a series of similar screens, which the shows which stage in the Problem Solving Approach we have reach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ving discussed our findings we could now start the whole cycle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extensions to this are related to left/right domin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038240" y="722160"/>
            <a:ext cx="4811760" cy="3608640"/>
          </a:xfrm>
          <a:prstGeom prst="rect">
            <a:avLst/>
          </a:prstGeom>
          <a:ln w="0">
            <a:noFill/>
          </a:ln>
        </p:spPr>
      </p:sp>
      <p:sp>
        <p:nvSpPr>
          <p:cNvPr id="149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lvl="1" marL="2667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66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
          <p:cNvSpPr/>
          <p:nvPr/>
        </p:nvSpPr>
        <p:spPr>
          <a:xfrm>
            <a:off x="1071720" y="4811760"/>
            <a:ext cx="5051160" cy="4330800"/>
          </a:xfrm>
          <a:prstGeom prst="rect">
            <a:avLst/>
          </a:prstGeom>
          <a:noFill/>
          <a:ln w="0">
            <a:noFill/>
          </a:ln>
        </p:spPr>
        <p:style>
          <a:lnRef idx="0"/>
          <a:fillRef idx="0"/>
          <a:effectRef idx="0"/>
          <a:fontRef idx="minor"/>
        </p:style>
        <p:txBody>
          <a:bodyPr lIns="94320" rIns="9432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and the next slide lend themselves to a fair amount of discussion - possibly starting in pairs then in small groups (neighbouring tables) and then up to whole cla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might the footprint hel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might each factor tell us 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at patterns might you expect to see if you explored relationships? </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ys might have bigger feet than girls</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aller people might have bigger feet</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lder people might have bigger feet</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ghter people might have smaller fe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might a footprint tell you about a person’s injuries?</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th of print</a:t>
            </a:r>
            <a:endParaRPr b="0" lang="en-US" sz="1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ebbed feet and Bun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How useful could a footprint be in determining gender?</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t would probably be more helpful in population of adults. Since it was teenagers on the beach, we only consider these her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038240" y="722160"/>
            <a:ext cx="4811760" cy="3608640"/>
          </a:xfrm>
          <a:prstGeom prst="rect">
            <a:avLst/>
          </a:prstGeom>
          <a:ln w="0">
            <a:noFill/>
          </a:ln>
        </p:spPr>
      </p:sp>
      <p:sp>
        <p:nvSpPr>
          <p:cNvPr id="1494" name=""/>
          <p:cNvSpPr/>
          <p:nvPr/>
        </p:nvSpPr>
        <p:spPr>
          <a:xfrm>
            <a:off x="765000" y="5653080"/>
            <a:ext cx="2733840" cy="482760"/>
          </a:xfrm>
          <a:prstGeom prst="rect">
            <a:avLst/>
          </a:prstGeom>
          <a:noFill/>
          <a:ln w="0">
            <a:noFill/>
          </a:ln>
        </p:spPr>
        <p:style>
          <a:lnRef idx="0"/>
          <a:fillRef idx="0"/>
          <a:effectRef idx="0"/>
          <a:fontRef idx="minor"/>
        </p:style>
        <p:txBody>
          <a:bodyPr lIns="94320" rIns="94320" tIns="47160" bIns="47160" anchor="ctr">
            <a:spAutoFit/>
          </a:bodyPr>
          <a:p>
            <a:pPr algn="ctr">
              <a:lnSpc>
                <a:spcPct val="100000"/>
              </a:lnSpc>
              <a:spcBef>
                <a:spcPts val="1562"/>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400" spc="-1" strike="noStrike">
              <a:solidFill>
                <a:srgbClr val="000000"/>
              </a:solidFill>
              <a:latin typeface="Times New Roman"/>
            </a:endParaRPr>
          </a:p>
        </p:txBody>
      </p:sp>
      <p:sp>
        <p:nvSpPr>
          <p:cNvPr id="1495" name=""/>
          <p:cNvSpPr/>
          <p:nvPr/>
        </p:nvSpPr>
        <p:spPr>
          <a:xfrm>
            <a:off x="1071720" y="4811760"/>
            <a:ext cx="5051160" cy="4330800"/>
          </a:xfrm>
          <a:prstGeom prst="rect">
            <a:avLst/>
          </a:prstGeom>
          <a:noFill/>
          <a:ln w="0">
            <a:noFill/>
          </a:ln>
        </p:spPr>
        <p:style>
          <a:lnRef idx="0"/>
          <a:fillRef idx="0"/>
          <a:effectRef idx="0"/>
          <a:fontRef idx="minor"/>
        </p:style>
        <p:txBody>
          <a:bodyPr lIns="94320" rIns="9432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gnoring injuries (since the footprint seems ‘normal’) and foot size (not gaining extra but equivalent info) we concentrate on these four variables. The depth of the footprint was not recorded and so weight could also be discou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What do we need to do to be able to investigate possible </a:t>
            </a:r>
            <a:r>
              <a:rPr b="1" lang="en-GB" sz="1200" spc="-1" strike="noStrike">
                <a:solidFill>
                  <a:srgbClr val="3333cc"/>
                </a:solidFill>
                <a:latin typeface="Verdana"/>
              </a:rPr>
              <a:t>relationships</a:t>
            </a:r>
            <a:r>
              <a:rPr b="0" lang="en-GB" sz="1200" spc="-1" strike="noStrike">
                <a:solidFill>
                  <a:srgbClr val="3333cc"/>
                </a:solidFill>
                <a:latin typeface="Verdana"/>
              </a:rPr>
              <a:t>? (and strength of relationshi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e need some data from suitable sample and enough to draw graphs or find patterns that could help 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pils might suggest that these relationships are not ‘very strong’ - but collecting data to prove this is still useful - ie a null hypothesis. Those with doubts could take on the role of an expert witnesses for the defence - looking for holes in police evid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038240" y="722160"/>
            <a:ext cx="4811760" cy="3608640"/>
          </a:xfrm>
          <a:prstGeom prst="rect">
            <a:avLst/>
          </a:prstGeom>
          <a:ln w="0">
            <a:noFill/>
          </a:ln>
        </p:spPr>
      </p:sp>
      <p:sp>
        <p:nvSpPr>
          <p:cNvPr id="1497"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udents should choose here what they would like to investigate. You could edit and alter these questions - this will mean making similar edits to later sl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may wish the whole group to do the same thing, or you may like to give them the option of choosing individually or in small grou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a:t>
            </a:r>
            <a:r>
              <a:rPr b="1" lang="en-US" sz="1200" spc="-1" strike="noStrike">
                <a:solidFill>
                  <a:srgbClr val="000000"/>
                </a:solidFill>
                <a:latin typeface="Verdana"/>
              </a:rPr>
              <a:t>two options </a:t>
            </a:r>
            <a:r>
              <a:rPr b="0" lang="en-US" sz="1200" spc="-1" strike="noStrike">
                <a:solidFill>
                  <a:srgbClr val="000000"/>
                </a:solidFill>
                <a:latin typeface="Verdana"/>
              </a:rPr>
              <a:t>covered by the remaining slides</a:t>
            </a:r>
            <a:r>
              <a:rPr b="1" lang="en-US" sz="1200" spc="-1" strike="noStrike">
                <a:solidFill>
                  <a:srgbClr val="000000"/>
                </a:solidFill>
                <a:latin typeface="Verdana"/>
              </a:rPr>
              <a:t>:</a:t>
            </a:r>
            <a:r>
              <a:rPr b="0" lang="en-US"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ither</a:t>
            </a:r>
            <a:r>
              <a:rPr b="0" lang="en-US" sz="1200" spc="-1" strike="noStrike">
                <a:solidFill>
                  <a:srgbClr val="000000"/>
                </a:solidFill>
                <a:latin typeface="Verdana"/>
              </a:rPr>
              <a:t> investigating the relationship between height and foot length using scatter diagra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r</a:t>
            </a:r>
            <a:r>
              <a:rPr b="0" lang="en-US" sz="1200" spc="-1" strike="noStrike">
                <a:solidFill>
                  <a:srgbClr val="000000"/>
                </a:solidFill>
                <a:latin typeface="Verdana"/>
              </a:rPr>
              <a:t> finding as many people as possible with a foot length of 25cm and determining the average values for this pop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038240" y="722160"/>
            <a:ext cx="4811760" cy="3608640"/>
          </a:xfrm>
          <a:prstGeom prst="rect">
            <a:avLst/>
          </a:prstGeom>
          <a:ln w="0">
            <a:noFill/>
          </a:ln>
        </p:spPr>
      </p:sp>
      <p:sp>
        <p:nvSpPr>
          <p:cNvPr id="1499"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ourage the students to describe what they </a:t>
            </a:r>
            <a:r>
              <a:rPr b="1" lang="en-US" sz="1200" spc="-1" strike="noStrike">
                <a:solidFill>
                  <a:srgbClr val="000000"/>
                </a:solidFill>
                <a:latin typeface="Verdana"/>
              </a:rPr>
              <a:t>expect</a:t>
            </a:r>
            <a:r>
              <a:rPr b="0" lang="en-US" sz="1200" spc="-1" strike="noStrike">
                <a:solidFill>
                  <a:srgbClr val="000000"/>
                </a:solidFill>
                <a:latin typeface="Verdana"/>
              </a:rPr>
              <a:t> will happen. Try to use phrases like:</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wonder….</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noticed…</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exp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y may also like to discuss why they think this might be the cas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038240" y="722160"/>
            <a:ext cx="4811760" cy="3608640"/>
          </a:xfrm>
          <a:prstGeom prst="rect">
            <a:avLst/>
          </a:prstGeom>
          <a:ln w="0">
            <a:noFill/>
          </a:ln>
        </p:spPr>
      </p:sp>
      <p:sp>
        <p:nvSpPr>
          <p:cNvPr id="1501"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a:lnSpc>
                <a:spcPct val="100000"/>
              </a:lnSpc>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What data is needed to investigate the students’ question?</a:t>
            </a:r>
            <a:endParaRPr b="0" lang="en-US" sz="1200" spc="-1" strike="noStrike">
              <a:solidFill>
                <a:srgbClr val="000000"/>
              </a:solidFill>
              <a:latin typeface="Times New Roman"/>
            </a:endParaRPr>
          </a:p>
          <a:p>
            <a:pPr>
              <a:lnSpc>
                <a:spcPct val="100000"/>
              </a:lnSpc>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What is the best way to collect the data?</a:t>
            </a:r>
            <a:endParaRPr b="0" lang="en-US" sz="1200" spc="-1" strike="noStrike">
              <a:solidFill>
                <a:srgbClr val="000000"/>
              </a:solidFill>
              <a:latin typeface="Times New Roman"/>
            </a:endParaRPr>
          </a:p>
          <a:p>
            <a:pPr>
              <a:lnSpc>
                <a:spcPct val="100000"/>
              </a:lnSpc>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Efficiency?</a:t>
            </a:r>
            <a:endParaRPr b="0" lang="en-US" sz="1200" spc="-1" strike="noStrike">
              <a:solidFill>
                <a:srgbClr val="000000"/>
              </a:solidFill>
              <a:latin typeface="Times New Roman"/>
            </a:endParaRPr>
          </a:p>
          <a:p>
            <a:pPr>
              <a:lnSpc>
                <a:spcPct val="100000"/>
              </a:lnSpc>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Sampling?</a:t>
            </a:r>
            <a:endParaRPr b="0" lang="en-US" sz="1200" spc="-1" strike="noStrike">
              <a:solidFill>
                <a:srgbClr val="000000"/>
              </a:solidFill>
              <a:latin typeface="Times New Roman"/>
            </a:endParaRPr>
          </a:p>
          <a:p>
            <a:pPr>
              <a:lnSpc>
                <a:spcPct val="100000"/>
              </a:lnSpc>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How are we going to record the data?</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an opportunity for students to plan </a:t>
            </a:r>
            <a:r>
              <a:rPr b="1" lang="en-GB" sz="1200" spc="-1" strike="noStrike">
                <a:solidFill>
                  <a:srgbClr val="000000"/>
                </a:solidFill>
                <a:latin typeface="Verdana"/>
              </a:rPr>
              <a:t>how</a:t>
            </a:r>
            <a:r>
              <a:rPr b="0" lang="en-GB" sz="1200" spc="-1" strike="noStrike">
                <a:solidFill>
                  <a:srgbClr val="000000"/>
                </a:solidFill>
                <a:latin typeface="Verdana"/>
              </a:rPr>
              <a:t> they will collect the data, think of an appropriate way of recording the data and discuss measurem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could discuss what size sample should be taken and could also think about different ways of taking random sampl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ou have a choice of pupils collecting their own</a:t>
            </a:r>
            <a:r>
              <a:rPr b="1" lang="en-GB" sz="1200" spc="-1" strike="noStrike">
                <a:solidFill>
                  <a:srgbClr val="000000"/>
                </a:solidFill>
                <a:latin typeface="Verdana"/>
              </a:rPr>
              <a:t> primary</a:t>
            </a:r>
            <a:r>
              <a:rPr b="0" lang="en-GB" sz="1200" spc="-1" strike="noStrike">
                <a:solidFill>
                  <a:srgbClr val="000000"/>
                </a:solidFill>
                <a:latin typeface="Verdana"/>
              </a:rPr>
              <a:t> data or being supplied with </a:t>
            </a:r>
            <a:r>
              <a:rPr b="1" lang="en-GB" sz="1200" spc="-1" strike="noStrike">
                <a:solidFill>
                  <a:srgbClr val="000000"/>
                </a:solidFill>
                <a:latin typeface="Verdana"/>
              </a:rPr>
              <a:t>secondary</a:t>
            </a:r>
            <a:r>
              <a:rPr b="0" lang="en-GB" sz="1200" spc="-1" strike="noStrike">
                <a:solidFill>
                  <a:srgbClr val="000000"/>
                </a:solidFill>
                <a:latin typeface="Verdana"/>
              </a:rPr>
              <a:t> data; random samples have been collected from the CensusAtSchool web site and made into </a:t>
            </a:r>
            <a:r>
              <a:rPr b="1" lang="en-GB" sz="1200" spc="-1" strike="noStrike">
                <a:solidFill>
                  <a:srgbClr val="000000"/>
                </a:solidFill>
                <a:latin typeface="Verdana"/>
              </a:rPr>
              <a:t>PDF</a:t>
            </a:r>
            <a:r>
              <a:rPr b="0" lang="en-GB" sz="1200" spc="-1" strike="noStrike">
                <a:solidFill>
                  <a:srgbClr val="000000"/>
                </a:solidFill>
                <a:latin typeface="Verdana"/>
              </a:rPr>
              <a:t> files to print off. Alternatively you can use the web link on the RSSCSE site to obtain your own spreadsheet of up to 200 random samples. - this is discussed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038240" y="722160"/>
            <a:ext cx="4811760" cy="3608640"/>
          </a:xfrm>
          <a:prstGeom prst="rect">
            <a:avLst/>
          </a:prstGeom>
          <a:ln w="0">
            <a:noFill/>
          </a:ln>
        </p:spPr>
      </p:sp>
      <p:sp>
        <p:nvSpPr>
          <p:cNvPr id="1503"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provides an opportunity to discuss primary and secondary data sources. Since we know that it was teenagers on the beach, school children are an appropriate population to consider. Possible discussion points a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en would it be better to use a secondary data sour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it is data which has already been collected and would be very difficult for ‘us’ to get (e.g. the national censu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at are the problems with using a secondary data sour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you have not done the data collection yourself it is often difficult to judge how well it was collected and recorded – students probably have examples of when people have surveyed them in the past, you could discuss whether you would trust the information the people collect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What are the advantag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ten secondary data sources are much bigger than we could practically collect ourselves. If someone else has already done it, why do it aga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038240" y="722160"/>
            <a:ext cx="4811760" cy="3608640"/>
          </a:xfrm>
          <a:prstGeom prst="rect">
            <a:avLst/>
          </a:prstGeom>
          <a:ln w="0">
            <a:noFill/>
          </a:ln>
        </p:spPr>
      </p:sp>
      <p:sp>
        <p:nvSpPr>
          <p:cNvPr id="1505" name="PlaceHolder 2"/>
          <p:cNvSpPr>
            <a:spLocks noGrp="1"/>
          </p:cNvSpPr>
          <p:nvPr>
            <p:ph type="body"/>
          </p:nvPr>
        </p:nvSpPr>
        <p:spPr>
          <a:xfrm>
            <a:off x="919080" y="4811760"/>
            <a:ext cx="5050080" cy="43308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first screen, from a series of similar screens, which shows which stage in the Problem Solving Approach we have reach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e of the primary aims of these materials is to reinforce the problem solving approach – to get students thinking about the whole process of investigation, rather than simply focusing on technicalit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im is that they should begin to think critically about an investigative approach, and should give due time and thought to interpreting and discussing their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could use this as an opportunity to review where the class is at, and how well people have understood the plan that has been mad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students are pursuing different lines of enquiry they could feedback to the group as to how they are going to go about the proces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AC3F1-F873-43D3-A2A0-26CE2BCC5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1641A-8EAE-4270-8E1C-C82E07779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0C4EC-343C-4E29-B4C0-39F0E1A78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23A67-D53B-4BFD-B4A6-D8E96125A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30CC5-CEA5-42C4-9646-D4378453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FE0B6-1181-4A25-89A9-E79E4E72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DF71-830B-443B-A66A-43CC7B851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8A281-35DB-422C-9E6A-9F2FDB46D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615C4-577E-4F95-B5F9-422773782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B47A-C7F8-4506-A9B8-C594F0395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31CD-5F20-4C65-BDDD-20E33492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917BE-0058-4BE9-ACD9-B38F3212A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E241-978B-4031-8DEE-79580010C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ensusatschool.ntu.ac.uk/internationalrds.asp"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5148360" y="1268280"/>
            <a:ext cx="3162240" cy="4638960"/>
          </a:xfrm>
          <a:prstGeom prst="rect">
            <a:avLst/>
          </a:prstGeom>
          <a:ln w="0">
            <a:noFill/>
          </a:ln>
        </p:spPr>
      </p:pic>
      <p:pic>
        <p:nvPicPr>
          <p:cNvPr id="53" name="" descr=""/>
          <p:cNvPicPr/>
          <p:nvPr/>
        </p:nvPicPr>
        <p:blipFill>
          <a:blip r:embed="rId2"/>
          <a:stretch/>
        </p:blipFill>
        <p:spPr>
          <a:xfrm>
            <a:off x="900000" y="2781360"/>
            <a:ext cx="3745080" cy="3171600"/>
          </a:xfrm>
          <a:prstGeom prst="rect">
            <a:avLst/>
          </a:prstGeom>
          <a:ln w="0">
            <a:noFill/>
          </a:ln>
        </p:spPr>
      </p:pic>
      <p:sp>
        <p:nvSpPr>
          <p:cNvPr id="54" name=""/>
          <p:cNvSpPr/>
          <p:nvPr/>
        </p:nvSpPr>
        <p:spPr>
          <a:xfrm>
            <a:off x="792000" y="1089000"/>
            <a:ext cx="3705480" cy="146988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cene of Crime</a:t>
            </a:r>
            <a:br>
              <a:rPr sz="4000"/>
            </a:br>
            <a:r>
              <a:rPr b="1" lang="en-US" sz="4000" spc="-1" strike="noStrike">
                <a:solidFill>
                  <a:srgbClr val="000000"/>
                </a:solidFill>
                <a:latin typeface="Verdana"/>
              </a:rPr>
              <a:t>Evidence</a:t>
            </a:r>
            <a:endParaRPr b="0" lang="en-US" sz="4000" spc="-1" strike="noStrike">
              <a:solidFill>
                <a:srgbClr val="000000"/>
              </a:solidFill>
              <a:latin typeface="Times New Roman"/>
            </a:endParaRPr>
          </a:p>
        </p:txBody>
      </p:sp>
      <p:pic>
        <p:nvPicPr>
          <p:cNvPr id="55" name="" descr=""/>
          <p:cNvPicPr/>
          <p:nvPr/>
        </p:nvPicPr>
        <p:blipFill>
          <a:blip r:embed="rId3"/>
          <a:stretch/>
        </p:blipFill>
        <p:spPr>
          <a:xfrm>
            <a:off x="3203640" y="3860640"/>
            <a:ext cx="2376360" cy="2376720"/>
          </a:xfrm>
          <a:prstGeom prst="rect">
            <a:avLst/>
          </a:prstGeom>
          <a:ln w="0">
            <a:noFill/>
          </a:ln>
        </p:spPr>
      </p:pic>
      <p:sp>
        <p:nvSpPr>
          <p:cNvPr id="56" name=""/>
          <p:cNvSpPr/>
          <p:nvPr/>
        </p:nvSpPr>
        <p:spPr>
          <a:xfrm>
            <a:off x="1027800" y="5680080"/>
            <a:ext cx="1646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99"/>
                </a:solidFill>
                <a:latin typeface="Verdana"/>
              </a:rPr>
              <a:t>www.free-stockphotos.com</a:t>
            </a:r>
            <a:endParaRPr b="0" lang="en-US" sz="900" spc="-1" strike="noStrike">
              <a:solidFill>
                <a:srgbClr val="000000"/>
              </a:solidFill>
              <a:latin typeface="Times New Roman"/>
            </a:endParaRPr>
          </a:p>
        </p:txBody>
      </p:sp>
      <p:sp>
        <p:nvSpPr>
          <p:cNvPr id="57"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58"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59"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Introduction</a:t>
            </a:r>
            <a:endParaRPr b="0" lang="en-US" sz="500" spc="-1" strike="noStrike">
              <a:solidFill>
                <a:srgbClr val="000000"/>
              </a:solidFill>
              <a:latin typeface="Times New Roman"/>
            </a:endParaRPr>
          </a:p>
        </p:txBody>
      </p:sp>
      <p:pic>
        <p:nvPicPr>
          <p:cNvPr id="61" name="" descr=""/>
          <p:cNvPicPr/>
          <p:nvPr/>
        </p:nvPicPr>
        <p:blipFill>
          <a:blip r:embed="rId4"/>
          <a:stretch/>
        </p:blipFill>
        <p:spPr>
          <a:xfrm>
            <a:off x="3492360" y="1989000"/>
            <a:ext cx="1617840" cy="1871640"/>
          </a:xfrm>
          <a:prstGeom prst="rect">
            <a:avLst/>
          </a:prstGeom>
          <a:ln w="0">
            <a:noFill/>
          </a:ln>
        </p:spPr>
      </p:pic>
      <p:sp>
        <p:nvSpPr>
          <p:cNvPr id="6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499"/>
                                          </p:stCondLst>
                                        </p:cTn>
                                        <p:tgtEl>
                                          <p:spTgt spid="55"/>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61"/>
                                        </p:tgtEl>
                                      </p:cBhvr>
                                    </p:animEffect>
                                    <p:set>
                                      <p:cBhvr>
                                        <p:cTn id="14" dur="1" fill="hold">
                                          <p:stCondLst>
                                            <p:cond delay="1999"/>
                                          </p:stCondLst>
                                        </p:cTn>
                                        <p:tgtEl>
                                          <p:spTgt spid="61"/>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0"/>
            <a:ext cx="2286000" cy="90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320920" y="187920"/>
            <a:ext cx="2057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490" name=""/>
          <p:cNvGrpSpPr/>
          <p:nvPr/>
        </p:nvGrpSpPr>
        <p:grpSpPr>
          <a:xfrm>
            <a:off x="3569760" y="200160"/>
            <a:ext cx="1143000" cy="838080"/>
            <a:chOff x="3569760" y="200160"/>
            <a:chExt cx="1143000" cy="838080"/>
          </a:xfrm>
        </p:grpSpPr>
        <p:sp>
          <p:nvSpPr>
            <p:cNvPr id="491" name=""/>
            <p:cNvSpPr/>
            <p:nvPr/>
          </p:nvSpPr>
          <p:spPr>
            <a:xfrm flipH="1">
              <a:off x="3569400" y="20016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4159440" y="22500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4159440" y="22500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3602160" y="63972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3602160" y="63972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4112280" y="52200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4112280" y="52200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4525200" y="56448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4477320" y="59148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4374720" y="59148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457880" y="27432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4338000" y="30528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4230360" y="34884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4541400" y="31788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4227120" y="35352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4278960" y="43668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4358520" y="64872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8" name=""/>
            <p:cNvSpPr/>
            <p:nvPr/>
          </p:nvSpPr>
          <p:spPr>
            <a:xfrm flipH="1">
              <a:off x="4438440" y="75672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9" name=""/>
            <p:cNvSpPr/>
            <p:nvPr/>
          </p:nvSpPr>
          <p:spPr>
            <a:xfrm flipH="1">
              <a:off x="4268160" y="23760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10" name=""/>
            <p:cNvSpPr/>
            <p:nvPr/>
          </p:nvSpPr>
          <p:spPr>
            <a:xfrm flipH="1">
              <a:off x="4178880" y="27540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4237560" y="49680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2" name=""/>
            <p:cNvSpPr/>
            <p:nvPr/>
          </p:nvSpPr>
          <p:spPr>
            <a:xfrm flipH="1">
              <a:off x="4574520" y="29556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4314960" y="55548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51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515"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516" name=""/>
          <p:cNvSpPr/>
          <p:nvPr/>
        </p:nvSpPr>
        <p:spPr>
          <a:xfrm>
            <a:off x="0" y="1052640"/>
            <a:ext cx="914400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ime to get some data!</a:t>
            </a:r>
            <a:endParaRPr b="0" lang="en-US" sz="2800" spc="-1" strike="noStrike">
              <a:solidFill>
                <a:srgbClr val="000000"/>
              </a:solidFill>
              <a:latin typeface="Times New Roman"/>
            </a:endParaRPr>
          </a:p>
        </p:txBody>
      </p:sp>
      <p:sp>
        <p:nvSpPr>
          <p:cNvPr id="5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Which data</a:t>
            </a:r>
            <a:endParaRPr b="0" lang="en-US" sz="800" spc="-1" strike="noStrike">
              <a:solidFill>
                <a:srgbClr val="000000"/>
              </a:solidFill>
              <a:latin typeface="Times New Roman"/>
            </a:endParaRPr>
          </a:p>
        </p:txBody>
      </p:sp>
      <p:sp>
        <p:nvSpPr>
          <p:cNvPr id="518" name=""/>
          <p:cNvSpPr/>
          <p:nvPr/>
        </p:nvSpPr>
        <p:spPr>
          <a:xfrm>
            <a:off x="0" y="6553080"/>
            <a:ext cx="9144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2268360" y="3860640"/>
            <a:ext cx="2930400" cy="2160360"/>
            <a:chOff x="2268360" y="3860640"/>
            <a:chExt cx="2930400" cy="2160360"/>
          </a:xfrm>
        </p:grpSpPr>
        <p:sp>
          <p:nvSpPr>
            <p:cNvPr id="520" name=""/>
            <p:cNvSpPr/>
            <p:nvPr/>
          </p:nvSpPr>
          <p:spPr>
            <a:xfrm flipH="1">
              <a:off x="3776040" y="3860640"/>
              <a:ext cx="1422360" cy="17409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3776040" y="3860640"/>
              <a:ext cx="1422360" cy="17409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268360" y="5003280"/>
              <a:ext cx="1471680" cy="101772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2268360" y="5003280"/>
              <a:ext cx="1471680" cy="101772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3650400" y="4677840"/>
              <a:ext cx="568440" cy="41040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3650400" y="4677840"/>
              <a:ext cx="568440" cy="41040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4766760" y="4795560"/>
              <a:ext cx="96840" cy="7862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4638600" y="4869360"/>
              <a:ext cx="98640" cy="67824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4359240" y="4869360"/>
              <a:ext cx="279360" cy="54612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584600" y="3996360"/>
              <a:ext cx="20880" cy="69048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4261680" y="4080960"/>
              <a:ext cx="160200" cy="6415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3969720" y="4201920"/>
              <a:ext cx="291960" cy="47376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4811040" y="4117320"/>
              <a:ext cx="74520" cy="54396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3960000" y="4214880"/>
              <a:ext cx="1109880" cy="55656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4099680" y="4444560"/>
              <a:ext cx="893880" cy="30204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4315680" y="5026680"/>
              <a:ext cx="560520" cy="957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4532400" y="5325120"/>
              <a:ext cx="311040" cy="6660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flipH="1">
              <a:off x="4073400" y="3894840"/>
              <a:ext cx="930240" cy="20052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3830040" y="3999600"/>
              <a:ext cx="260280" cy="64584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3989520" y="4608720"/>
              <a:ext cx="931680" cy="19692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a:off x="4901400" y="4055760"/>
              <a:ext cx="260280" cy="6451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4199040" y="4771800"/>
              <a:ext cx="720720" cy="9756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544" name=""/>
          <p:cNvSpPr/>
          <p:nvPr/>
        </p:nvSpPr>
        <p:spPr>
          <a:xfrm rot="4125600">
            <a:off x="4689720" y="323424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123</a:t>
            </a:r>
            <a:endParaRPr b="0" lang="en-US" sz="2400" spc="-1" strike="noStrike">
              <a:solidFill>
                <a:srgbClr val="000000"/>
              </a:solidFill>
              <a:latin typeface="Times New Roman"/>
            </a:endParaRPr>
          </a:p>
        </p:txBody>
      </p:sp>
      <p:sp>
        <p:nvSpPr>
          <p:cNvPr id="545" name=""/>
          <p:cNvSpPr/>
          <p:nvPr/>
        </p:nvSpPr>
        <p:spPr>
          <a:xfrm rot="20175000">
            <a:off x="4212000" y="281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7.6</a:t>
            </a:r>
            <a:endParaRPr b="0" lang="en-US" sz="2400" spc="-1" strike="noStrike">
              <a:solidFill>
                <a:srgbClr val="000000"/>
              </a:solidFill>
              <a:latin typeface="Times New Roman"/>
            </a:endParaRPr>
          </a:p>
        </p:txBody>
      </p:sp>
      <p:sp>
        <p:nvSpPr>
          <p:cNvPr id="546" name=""/>
          <p:cNvSpPr/>
          <p:nvPr/>
        </p:nvSpPr>
        <p:spPr>
          <a:xfrm rot="202200">
            <a:off x="4211280" y="33926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Yes</a:t>
            </a:r>
            <a:endParaRPr b="0" lang="en-US" sz="2400" spc="-1" strike="noStrike">
              <a:solidFill>
                <a:srgbClr val="000000"/>
              </a:solidFill>
              <a:latin typeface="Times New Roman"/>
            </a:endParaRPr>
          </a:p>
        </p:txBody>
      </p:sp>
      <p:sp>
        <p:nvSpPr>
          <p:cNvPr id="547" name=""/>
          <p:cNvSpPr/>
          <p:nvPr/>
        </p:nvSpPr>
        <p:spPr>
          <a:xfrm rot="1000200">
            <a:off x="4319640" y="2421000"/>
            <a:ext cx="117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Verdana"/>
              </a:rPr>
              <a:t>Not sure</a:t>
            </a:r>
            <a:endParaRPr b="0" lang="en-US" sz="1600" spc="-1" strike="noStrike">
              <a:solidFill>
                <a:srgbClr val="000000"/>
              </a:solidFill>
              <a:latin typeface="Times New Roman"/>
            </a:endParaRPr>
          </a:p>
        </p:txBody>
      </p:sp>
      <p:sp>
        <p:nvSpPr>
          <p:cNvPr id="548" name=""/>
          <p:cNvSpPr/>
          <p:nvPr/>
        </p:nvSpPr>
        <p:spPr>
          <a:xfrm rot="4125600">
            <a:off x="3752640" y="20815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5.6</a:t>
            </a:r>
            <a:endParaRPr b="0" lang="en-US" sz="2400" spc="-1" strike="noStrike">
              <a:solidFill>
                <a:srgbClr val="000000"/>
              </a:solidFill>
              <a:latin typeface="Times New Roman"/>
            </a:endParaRPr>
          </a:p>
        </p:txBody>
      </p:sp>
      <p:sp>
        <p:nvSpPr>
          <p:cNvPr id="549" name=""/>
          <p:cNvSpPr/>
          <p:nvPr/>
        </p:nvSpPr>
        <p:spPr>
          <a:xfrm rot="21265800">
            <a:off x="3348000" y="24206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100</a:t>
            </a:r>
            <a:endParaRPr b="0" lang="en-US" sz="2400" spc="-1" strike="noStrike">
              <a:solidFill>
                <a:srgbClr val="000000"/>
              </a:solidFill>
              <a:latin typeface="Times New Roman"/>
            </a:endParaRPr>
          </a:p>
        </p:txBody>
      </p:sp>
      <p:sp>
        <p:nvSpPr>
          <p:cNvPr id="550" name=""/>
          <p:cNvSpPr/>
          <p:nvPr/>
        </p:nvSpPr>
        <p:spPr>
          <a:xfrm rot="202200">
            <a:off x="3708000" y="3465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12</a:t>
            </a:r>
            <a:endParaRPr b="0" lang="en-US" sz="2400" spc="-1" strike="noStrike">
              <a:solidFill>
                <a:srgbClr val="000000"/>
              </a:solidFill>
              <a:latin typeface="Times New Roman"/>
            </a:endParaRPr>
          </a:p>
        </p:txBody>
      </p:sp>
      <p:sp>
        <p:nvSpPr>
          <p:cNvPr id="551" name=""/>
          <p:cNvSpPr/>
          <p:nvPr/>
        </p:nvSpPr>
        <p:spPr>
          <a:xfrm rot="20037600">
            <a:off x="3527640" y="2923920"/>
            <a:ext cx="11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Verdana"/>
              </a:rPr>
              <a:t>1.24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546200" y="3303720"/>
            <a:ext cx="2286000" cy="102528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554" name=""/>
          <p:cNvGrpSpPr/>
          <p:nvPr/>
        </p:nvGrpSpPr>
        <p:grpSpPr>
          <a:xfrm>
            <a:off x="1150560" y="2798640"/>
            <a:ext cx="965160" cy="839880"/>
            <a:chOff x="1150560" y="2798640"/>
            <a:chExt cx="965160" cy="839880"/>
          </a:xfrm>
        </p:grpSpPr>
        <p:sp>
          <p:nvSpPr>
            <p:cNvPr id="555"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59"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792000" y="2619360"/>
            <a:ext cx="3149640" cy="171288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311640" y="460224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563" name=""/>
          <p:cNvGrpSpPr/>
          <p:nvPr/>
        </p:nvGrpSpPr>
        <p:grpSpPr>
          <a:xfrm>
            <a:off x="3220920" y="5229360"/>
            <a:ext cx="838440" cy="838080"/>
            <a:chOff x="3220920" y="5229360"/>
            <a:chExt cx="838440" cy="838080"/>
          </a:xfrm>
        </p:grpSpPr>
        <p:sp>
          <p:nvSpPr>
            <p:cNvPr id="564"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68"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69"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0"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1"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2"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3"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4"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5"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8"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9"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0"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1"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2"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3"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6"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7"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8"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9"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0"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1"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2"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3"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4"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5"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8"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9"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1"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2"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3"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4"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15"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7"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6"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8"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2"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640"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641"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642"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644" name=""/>
          <p:cNvGrpSpPr/>
          <p:nvPr/>
        </p:nvGrpSpPr>
        <p:grpSpPr>
          <a:xfrm>
            <a:off x="4842000" y="1628640"/>
            <a:ext cx="857160" cy="731880"/>
            <a:chOff x="4842000" y="1628640"/>
            <a:chExt cx="857160" cy="731880"/>
          </a:xfrm>
        </p:grpSpPr>
        <p:sp>
          <p:nvSpPr>
            <p:cNvPr id="645"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656" name=""/>
          <p:cNvGrpSpPr/>
          <p:nvPr/>
        </p:nvGrpSpPr>
        <p:grpSpPr>
          <a:xfrm>
            <a:off x="6641640" y="3517920"/>
            <a:ext cx="1143000" cy="838080"/>
            <a:chOff x="6641640" y="3517920"/>
            <a:chExt cx="1143000" cy="838080"/>
          </a:xfrm>
        </p:grpSpPr>
        <p:sp>
          <p:nvSpPr>
            <p:cNvPr id="657"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4"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5"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6"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681"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682" name=""/>
          <p:cNvSpPr/>
          <p:nvPr/>
        </p:nvSpPr>
        <p:spPr>
          <a:xfrm>
            <a:off x="2860560" y="4419720"/>
            <a:ext cx="3149640" cy="180000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6553080"/>
            <a:ext cx="9144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689" name=""/>
          <p:cNvSpPr/>
          <p:nvPr/>
        </p:nvSpPr>
        <p:spPr>
          <a:xfrm>
            <a:off x="6192720" y="4780080"/>
            <a:ext cx="204480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83"/>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689"/>
                                        </p:tgtEl>
                                        <p:attrNameLst>
                                          <p:attrName>style.visibility</p:attrName>
                                        </p:attrNameLst>
                                      </p:cBhvr>
                                      <p:to>
                                        <p:strVal val="visible"/>
                                      </p:to>
                                    </p:set>
                                  </p:childTnLst>
                                </p:cTn>
                              </p:par>
                              <p:par>
                                <p:cTn id="150" nodeType="withEffect" fill="hold" presetClass="exit" presetID="1">
                                  <p:stCondLst>
                                    <p:cond delay="0"/>
                                  </p:stCondLst>
                                  <p:childTnLst>
                                    <p:set>
                                      <p:cBhvr>
                                        <p:cTn id="151" dur="1" fill="hold">
                                          <p:stCondLst>
                                            <p:cond delay="0"/>
                                          </p:stCondLst>
                                        </p:cTn>
                                        <p:tgtEl>
                                          <p:spTgt spid="682"/>
                                        </p:tgtEl>
                                        <p:attrNameLst>
                                          <p:attrName>style.visibility</p:attrName>
                                        </p:attrNameLst>
                                      </p:cBhvr>
                                      <p:to>
                                        <p:strVal val="hidden"/>
                                      </p:to>
                                    </p:set>
                                  </p:childTnLst>
                                </p:cTn>
                              </p:par>
                              <p:par>
                                <p:cTn id="152" nodeType="withEffect" fill="hold" presetClass="entr" presetID="1">
                                  <p:stCondLst>
                                    <p:cond delay="0"/>
                                  </p:stCondLst>
                                  <p:childTnLst>
                                    <p:set>
                                      <p:cBhvr>
                                        <p:cTn id="153"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957040" y="33876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Reminder</a:t>
            </a:r>
            <a:endParaRPr b="0" lang="en-US" sz="1800" spc="-1" strike="noStrike">
              <a:solidFill>
                <a:srgbClr val="000000"/>
              </a:solidFill>
              <a:latin typeface="Times New Roman"/>
            </a:endParaRPr>
          </a:p>
        </p:txBody>
      </p:sp>
      <p:sp>
        <p:nvSpPr>
          <p:cNvPr id="691"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572000" y="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751280" y="187920"/>
            <a:ext cx="198144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695" name=""/>
          <p:cNvGrpSpPr/>
          <p:nvPr/>
        </p:nvGrpSpPr>
        <p:grpSpPr>
          <a:xfrm>
            <a:off x="4068720" y="192240"/>
            <a:ext cx="838080" cy="838080"/>
            <a:chOff x="4068720" y="192240"/>
            <a:chExt cx="838080" cy="838080"/>
          </a:xfrm>
        </p:grpSpPr>
        <p:sp>
          <p:nvSpPr>
            <p:cNvPr id="696" name=""/>
            <p:cNvSpPr/>
            <p:nvPr/>
          </p:nvSpPr>
          <p:spPr>
            <a:xfrm>
              <a:off x="4068720" y="192240"/>
              <a:ext cx="83808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0"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1"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2"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3"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4"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5"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6"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7"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8"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9"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0"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1"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2"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3"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a:off x="4410720" y="73368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653720" y="44964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8"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0"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1"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3"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4"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5"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6"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7"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8"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9"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30"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31"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
            <p:cNvSpPr/>
            <p:nvPr/>
          </p:nvSpPr>
          <p:spPr>
            <a:xfrm>
              <a:off x="4298760" y="21672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298760" y="21672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36572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36572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399560" y="27972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399560" y="27972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3340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43340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467600" y="43704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467600" y="43704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01440" y="48456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4" name=""/>
            <p:cNvSpPr/>
            <p:nvPr/>
          </p:nvSpPr>
          <p:spPr>
            <a:xfrm>
              <a:off x="4501440" y="48456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5" name=""/>
            <p:cNvSpPr/>
            <p:nvPr/>
          </p:nvSpPr>
          <p:spPr>
            <a:xfrm>
              <a:off x="4332600" y="48456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6" name=""/>
            <p:cNvSpPr/>
            <p:nvPr/>
          </p:nvSpPr>
          <p:spPr>
            <a:xfrm>
              <a:off x="4332600" y="48456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47" name=""/>
            <p:cNvSpPr/>
            <p:nvPr/>
          </p:nvSpPr>
          <p:spPr>
            <a:xfrm>
              <a:off x="4323600" y="24804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32600" y="52380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9" name=""/>
            <p:cNvSpPr/>
            <p:nvPr/>
          </p:nvSpPr>
          <p:spPr>
            <a:xfrm>
              <a:off x="4109040" y="32652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85800" y="40788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285800" y="40788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96680" y="40788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396680" y="40788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230720" y="53748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7" name=""/>
            <p:cNvSpPr/>
            <p:nvPr/>
          </p:nvSpPr>
          <p:spPr>
            <a:xfrm>
              <a:off x="4230720" y="53748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4222800" y="35784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230720" y="60624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0" name=""/>
            <p:cNvSpPr/>
            <p:nvPr/>
          </p:nvSpPr>
          <p:spPr>
            <a:xfrm>
              <a:off x="4327200" y="635040"/>
              <a:ext cx="11988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359240" y="68508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395240" y="695520"/>
              <a:ext cx="20412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362840" y="64440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4" name=""/>
            <p:cNvSpPr/>
            <p:nvPr/>
          </p:nvSpPr>
          <p:spPr>
            <a:xfrm>
              <a:off x="4198680" y="31536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389480" y="40968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124520" y="58752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096800" y="34092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68" name="" descr=""/>
          <p:cNvPicPr/>
          <p:nvPr/>
        </p:nvPicPr>
        <p:blipFill>
          <a:blip r:embed="rId1"/>
          <a:stretch/>
        </p:blipFill>
        <p:spPr>
          <a:xfrm>
            <a:off x="4751280" y="2708280"/>
            <a:ext cx="3511800" cy="2881440"/>
          </a:xfrm>
          <a:prstGeom prst="rect">
            <a:avLst/>
          </a:prstGeom>
          <a:ln w="0">
            <a:noFill/>
          </a:ln>
        </p:spPr>
      </p:pic>
      <p:sp>
        <p:nvSpPr>
          <p:cNvPr id="769" name=""/>
          <p:cNvSpPr/>
          <p:nvPr/>
        </p:nvSpPr>
        <p:spPr>
          <a:xfrm>
            <a:off x="431640" y="1808280"/>
            <a:ext cx="8010720" cy="63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we have collected our data, how can we use it to solve our </a:t>
            </a:r>
            <a:r>
              <a:rPr b="0" i="1" lang="en-US" sz="2400" spc="-1" strike="noStrike">
                <a:solidFill>
                  <a:srgbClr val="000000"/>
                </a:solidFill>
                <a:latin typeface="Verdana"/>
              </a:rPr>
              <a:t>problem</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770" name=""/>
          <p:cNvSpPr/>
          <p:nvPr/>
        </p:nvSpPr>
        <p:spPr>
          <a:xfrm>
            <a:off x="639720" y="1066680"/>
            <a:ext cx="806472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pic>
        <p:nvPicPr>
          <p:cNvPr id="771" name="" descr=""/>
          <p:cNvPicPr/>
          <p:nvPr/>
        </p:nvPicPr>
        <p:blipFill>
          <a:blip r:embed="rId2"/>
          <a:stretch/>
        </p:blipFill>
        <p:spPr>
          <a:xfrm>
            <a:off x="2717640" y="2708280"/>
            <a:ext cx="1795680" cy="2881440"/>
          </a:xfrm>
          <a:prstGeom prst="rect">
            <a:avLst/>
          </a:prstGeom>
          <a:ln w="0">
            <a:noFill/>
          </a:ln>
        </p:spPr>
      </p:pic>
      <p:sp>
        <p:nvSpPr>
          <p:cNvPr id="772" name=""/>
          <p:cNvSpPr/>
          <p:nvPr/>
        </p:nvSpPr>
        <p:spPr>
          <a:xfrm>
            <a:off x="316080" y="2865600"/>
            <a:ext cx="2249280" cy="25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What can we suggest about the thief from the 25cm footprint?</a:t>
            </a:r>
            <a:br>
              <a:rPr sz="2200"/>
            </a:br>
            <a:br>
              <a:rPr sz="800"/>
            </a:br>
            <a:r>
              <a:rPr b="0" lang="en-US" sz="2200" spc="-1" strike="noStrike">
                <a:solidFill>
                  <a:srgbClr val="3333cc"/>
                </a:solidFill>
                <a:latin typeface="Verdana"/>
              </a:rPr>
              <a:t>For example their height?</a:t>
            </a:r>
            <a:endParaRPr b="0" lang="en-US" sz="2200" spc="-1" strike="noStrike">
              <a:solidFill>
                <a:srgbClr val="000000"/>
              </a:solidFill>
              <a:latin typeface="Times New Roman"/>
            </a:endParaRPr>
          </a:p>
        </p:txBody>
      </p:sp>
      <p:sp>
        <p:nvSpPr>
          <p:cNvPr id="773"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774"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775"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Which process?</a:t>
            </a:r>
            <a:endParaRPr b="0" lang="en-US" sz="500" spc="-1" strike="noStrike">
              <a:solidFill>
                <a:srgbClr val="000000"/>
              </a:solidFill>
              <a:latin typeface="Times New Roman"/>
            </a:endParaRPr>
          </a:p>
        </p:txBody>
      </p:sp>
      <p:sp>
        <p:nvSpPr>
          <p:cNvPr id="77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779" name=""/>
          <p:cNvSpPr/>
          <p:nvPr/>
        </p:nvSpPr>
        <p:spPr>
          <a:xfrm>
            <a:off x="4751280" y="5859360"/>
            <a:ext cx="1710000" cy="358920"/>
          </a:xfrm>
          <a:prstGeom prst="rect">
            <a:avLst/>
          </a:prstGeom>
          <a:solidFill>
            <a:srgbClr val="808080"/>
          </a:soli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4751280" y="5859360"/>
            <a:ext cx="1710000" cy="358920"/>
            <a:chOff x="4751280" y="5859360"/>
            <a:chExt cx="1710000" cy="358920"/>
          </a:xfrm>
        </p:grpSpPr>
        <p:sp>
          <p:nvSpPr>
            <p:cNvPr id="781" name=""/>
            <p:cNvSpPr/>
            <p:nvPr/>
          </p:nvSpPr>
          <p:spPr>
            <a:xfrm>
              <a:off x="4751280" y="6218280"/>
              <a:ext cx="171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751280" y="5859360"/>
              <a:ext cx="0" cy="35712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61280" y="5859360"/>
              <a:ext cx="0" cy="35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751280" y="5859360"/>
              <a:ext cx="171000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5" name=""/>
          <p:cNvSpPr/>
          <p:nvPr/>
        </p:nvSpPr>
        <p:spPr>
          <a:xfrm>
            <a:off x="0" y="5859360"/>
            <a:ext cx="4321080" cy="270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here to investigate</a:t>
            </a:r>
            <a:endParaRPr b="0" lang="en-US" sz="2200" spc="-1" strike="noStrike">
              <a:solidFill>
                <a:srgbClr val="000000"/>
              </a:solidFill>
              <a:latin typeface="Times New Roman"/>
            </a:endParaRPr>
          </a:p>
        </p:txBody>
      </p:sp>
      <p:sp>
        <p:nvSpPr>
          <p:cNvPr id="786" name=""/>
          <p:cNvSpPr/>
          <p:nvPr/>
        </p:nvSpPr>
        <p:spPr>
          <a:xfrm>
            <a:off x="4751280" y="5948280"/>
            <a:ext cx="171000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rrelation</a:t>
            </a:r>
            <a:endParaRPr b="0" lang="en-US" sz="1600" spc="-1" strike="noStrike">
              <a:solidFill>
                <a:srgbClr val="000000"/>
              </a:solidFill>
              <a:latin typeface="Times New Roman"/>
            </a:endParaRPr>
          </a:p>
        </p:txBody>
      </p:sp>
      <p:sp>
        <p:nvSpPr>
          <p:cNvPr id="787" name=""/>
          <p:cNvSpPr/>
          <p:nvPr/>
        </p:nvSpPr>
        <p:spPr>
          <a:xfrm>
            <a:off x="6551640" y="5859360"/>
            <a:ext cx="1709640" cy="358920"/>
          </a:xfrm>
          <a:prstGeom prst="rect">
            <a:avLst/>
          </a:prstGeom>
          <a:solidFill>
            <a:srgbClr val="808080"/>
          </a:soli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 name=""/>
          <p:cNvGrpSpPr/>
          <p:nvPr/>
        </p:nvGrpSpPr>
        <p:grpSpPr>
          <a:xfrm>
            <a:off x="6551640" y="5859360"/>
            <a:ext cx="1709640" cy="358920"/>
            <a:chOff x="6551640" y="5859360"/>
            <a:chExt cx="1709640" cy="358920"/>
          </a:xfrm>
        </p:grpSpPr>
        <p:sp>
          <p:nvSpPr>
            <p:cNvPr id="789" name=""/>
            <p:cNvSpPr/>
            <p:nvPr/>
          </p:nvSpPr>
          <p:spPr>
            <a:xfrm>
              <a:off x="6551640" y="6218280"/>
              <a:ext cx="170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551640" y="5859360"/>
              <a:ext cx="0" cy="35712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261280" y="5859360"/>
              <a:ext cx="0" cy="35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551640" y="5859360"/>
              <a:ext cx="170964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6642000" y="5948280"/>
            <a:ext cx="153036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verag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7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71"/>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0"/>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8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86"/>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793"/>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77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78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788"/>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7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6642000" y="2619360"/>
            <a:ext cx="180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we plot more data, the points appear to be scattered over the graph.</a:t>
            </a:r>
            <a:endParaRPr b="0" lang="en-US" sz="2000" spc="-1" strike="noStrike">
              <a:solidFill>
                <a:srgbClr val="000000"/>
              </a:solidFill>
              <a:latin typeface="Times New Roman"/>
            </a:endParaRPr>
          </a:p>
        </p:txBody>
      </p:sp>
      <p:sp>
        <p:nvSpPr>
          <p:cNvPr id="795" name=""/>
          <p:cNvSpPr/>
          <p:nvPr/>
        </p:nvSpPr>
        <p:spPr>
          <a:xfrm>
            <a:off x="6630840" y="2614680"/>
            <a:ext cx="180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one </a:t>
            </a:r>
            <a:r>
              <a:rPr b="1" lang="en-US" sz="2000" spc="-1" strike="noStrike">
                <a:solidFill>
                  <a:srgbClr val="008000"/>
                </a:solidFill>
                <a:latin typeface="Verdana"/>
              </a:rPr>
              <a:t>150</a:t>
            </a:r>
            <a:r>
              <a:rPr b="0" lang="en-US" sz="2000" spc="-1" strike="noStrike">
                <a:solidFill>
                  <a:srgbClr val="008000"/>
                </a:solidFill>
                <a:latin typeface="Verdana"/>
              </a:rPr>
              <a:t>cm</a:t>
            </a:r>
            <a:r>
              <a:rPr b="0" lang="en-US" sz="2000" spc="-1" strike="noStrike">
                <a:solidFill>
                  <a:srgbClr val="000000"/>
                </a:solidFill>
                <a:latin typeface="Verdana"/>
              </a:rPr>
              <a:t> tall with </a:t>
            </a:r>
            <a:r>
              <a:rPr b="1" lang="en-US" sz="2000" spc="-1" strike="noStrike">
                <a:solidFill>
                  <a:srgbClr val="ff6600"/>
                </a:solidFill>
                <a:latin typeface="Verdana"/>
              </a:rPr>
              <a:t>22</a:t>
            </a:r>
            <a:r>
              <a:rPr b="0" lang="en-US" sz="2000" spc="-1" strike="noStrike">
                <a:solidFill>
                  <a:srgbClr val="ff6600"/>
                </a:solidFill>
                <a:latin typeface="Verdana"/>
              </a:rPr>
              <a:t>cm</a:t>
            </a:r>
            <a:r>
              <a:rPr b="0" lang="en-US" sz="2000" spc="-1" strike="noStrike">
                <a:solidFill>
                  <a:srgbClr val="000000"/>
                </a:solidFill>
                <a:latin typeface="Verdana"/>
              </a:rPr>
              <a:t> feet is plotted here.</a:t>
            </a:r>
            <a:endParaRPr b="0" lang="en-US" sz="2000" spc="-1" strike="noStrike">
              <a:solidFill>
                <a:srgbClr val="000000"/>
              </a:solidFill>
              <a:latin typeface="Times New Roman"/>
            </a:endParaRPr>
          </a:p>
        </p:txBody>
      </p:sp>
      <p:pic>
        <p:nvPicPr>
          <p:cNvPr id="796" name="" descr=""/>
          <p:cNvPicPr/>
          <p:nvPr/>
        </p:nvPicPr>
        <p:blipFill>
          <a:blip r:embed="rId1"/>
          <a:stretch/>
        </p:blipFill>
        <p:spPr>
          <a:xfrm>
            <a:off x="2502000" y="2708280"/>
            <a:ext cx="4051080" cy="3346560"/>
          </a:xfrm>
          <a:prstGeom prst="rect">
            <a:avLst/>
          </a:prstGeom>
          <a:ln w="0">
            <a:noFill/>
          </a:ln>
        </p:spPr>
      </p:pic>
      <p:pic>
        <p:nvPicPr>
          <p:cNvPr id="797" name="" descr=""/>
          <p:cNvPicPr/>
          <p:nvPr/>
        </p:nvPicPr>
        <p:blipFill>
          <a:blip r:embed="rId2"/>
          <a:stretch/>
        </p:blipFill>
        <p:spPr>
          <a:xfrm>
            <a:off x="2502000" y="2708280"/>
            <a:ext cx="4049640" cy="3343320"/>
          </a:xfrm>
          <a:prstGeom prst="rect">
            <a:avLst/>
          </a:prstGeom>
          <a:ln w="0">
            <a:noFill/>
          </a:ln>
        </p:spPr>
      </p:pic>
      <p:sp>
        <p:nvSpPr>
          <p:cNvPr id="798"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25320" y="1446120"/>
            <a:ext cx="819180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see if there is a link between </a:t>
            </a:r>
            <a:r>
              <a:rPr b="1" i="1" lang="en-US" sz="2400" spc="-1" strike="noStrike">
                <a:solidFill>
                  <a:srgbClr val="000000"/>
                </a:solidFill>
                <a:latin typeface="Verdana"/>
              </a:rPr>
              <a:t>foot length</a:t>
            </a:r>
            <a:r>
              <a:rPr b="0" lang="en-US" sz="2400" spc="-1" strike="noStrike">
                <a:solidFill>
                  <a:srgbClr val="000000"/>
                </a:solidFill>
                <a:latin typeface="Verdana"/>
              </a:rPr>
              <a:t> and </a:t>
            </a:r>
            <a:r>
              <a:rPr b="1" i="1" lang="en-US" sz="2400" spc="-1" strike="noStrike">
                <a:solidFill>
                  <a:srgbClr val="000000"/>
                </a:solidFill>
                <a:latin typeface="Verdana"/>
              </a:rPr>
              <a:t>height</a:t>
            </a:r>
            <a:r>
              <a:rPr b="0" lang="en-US" sz="2400" spc="-1" strike="noStrike">
                <a:solidFill>
                  <a:srgbClr val="000000"/>
                </a:solidFill>
                <a:latin typeface="Verdana"/>
              </a:rPr>
              <a:t>, a useful chart is a</a:t>
            </a:r>
            <a:r>
              <a:rPr b="1" lang="en-US" sz="2400" spc="-1" strike="noStrike">
                <a:solidFill>
                  <a:srgbClr val="000000"/>
                </a:solidFill>
                <a:latin typeface="Verdana"/>
              </a:rPr>
              <a:t>  scatter graph</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801" name=""/>
          <p:cNvGrpSpPr/>
          <p:nvPr/>
        </p:nvGrpSpPr>
        <p:grpSpPr>
          <a:xfrm>
            <a:off x="971640" y="2527200"/>
            <a:ext cx="1981080" cy="1260720"/>
            <a:chOff x="971640" y="2527200"/>
            <a:chExt cx="1981080" cy="1260720"/>
          </a:xfrm>
        </p:grpSpPr>
        <p:sp>
          <p:nvSpPr>
            <p:cNvPr id="802" name=""/>
            <p:cNvSpPr/>
            <p:nvPr/>
          </p:nvSpPr>
          <p:spPr>
            <a:xfrm>
              <a:off x="971640" y="2619360"/>
              <a:ext cx="1349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Height</a:t>
              </a:r>
              <a:endParaRPr b="0" lang="en-US" sz="2000" spc="-1" strike="noStrike">
                <a:solidFill>
                  <a:srgbClr val="000000"/>
                </a:solidFill>
                <a:latin typeface="Times New Roman"/>
              </a:endParaRPr>
            </a:p>
          </p:txBody>
        </p:sp>
        <p:sp>
          <p:nvSpPr>
            <p:cNvPr id="803" name=""/>
            <p:cNvSpPr/>
            <p:nvPr/>
          </p:nvSpPr>
          <p:spPr>
            <a:xfrm>
              <a:off x="2322360" y="2527200"/>
              <a:ext cx="630360" cy="1260720"/>
            </a:xfrm>
            <a:prstGeom prst="upArrow">
              <a:avLst>
                <a:gd name="adj1" fmla="val 50000"/>
                <a:gd name="adj2"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383080" y="5587920"/>
            <a:ext cx="2880000" cy="630360"/>
            <a:chOff x="5383080" y="5587920"/>
            <a:chExt cx="2880000" cy="630360"/>
          </a:xfrm>
        </p:grpSpPr>
        <p:sp>
          <p:nvSpPr>
            <p:cNvPr id="805" name=""/>
            <p:cNvSpPr/>
            <p:nvPr/>
          </p:nvSpPr>
          <p:spPr>
            <a:xfrm>
              <a:off x="6913440" y="5587920"/>
              <a:ext cx="13496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Foo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length</a:t>
              </a:r>
              <a:endParaRPr b="0" lang="en-US" sz="2000" spc="-1" strike="noStrike">
                <a:solidFill>
                  <a:srgbClr val="000000"/>
                </a:solidFill>
                <a:latin typeface="Times New Roman"/>
              </a:endParaRPr>
            </a:p>
          </p:txBody>
        </p:sp>
        <p:sp>
          <p:nvSpPr>
            <p:cNvPr id="806" name=""/>
            <p:cNvSpPr/>
            <p:nvPr/>
          </p:nvSpPr>
          <p:spPr>
            <a:xfrm>
              <a:off x="5383080" y="5587920"/>
              <a:ext cx="1440000" cy="630360"/>
            </a:xfrm>
            <a:prstGeom prst="rightArrow">
              <a:avLst>
                <a:gd name="adj1" fmla="val 50000"/>
                <a:gd name="adj2" fmla="val 5711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440240" y="4238640"/>
            <a:ext cx="179280" cy="179280"/>
            <a:chOff x="4440240" y="4238640"/>
            <a:chExt cx="179280" cy="179280"/>
          </a:xfrm>
        </p:grpSpPr>
        <p:sp>
          <p:nvSpPr>
            <p:cNvPr id="808" name=""/>
            <p:cNvSpPr/>
            <p:nvPr/>
          </p:nvSpPr>
          <p:spPr>
            <a:xfrm flipV="1">
              <a:off x="4440240" y="4238640"/>
              <a:ext cx="17928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440240" y="4238640"/>
              <a:ext cx="17928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flipV="1">
            <a:off x="4527720" y="4335480"/>
            <a:ext cx="0" cy="11700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060720" y="4335480"/>
            <a:ext cx="1425600" cy="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58720" y="3352680"/>
            <a:ext cx="1979640" cy="2490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This is useful when looking at everyone's data</a:t>
            </a:r>
            <a:r>
              <a:rPr b="1" lang="en-US" sz="2400" spc="-1" strike="noStrike">
                <a:solidFill>
                  <a:srgbClr val="808080"/>
                </a:solidFill>
                <a:latin typeface="Verdana"/>
              </a:rPr>
              <a:t>.</a:t>
            </a:r>
            <a:endParaRPr b="0" lang="en-US" sz="2400" spc="-1" strike="noStrike">
              <a:solidFill>
                <a:srgbClr val="000000"/>
              </a:solidFill>
              <a:latin typeface="Times New Roman"/>
            </a:endParaRPr>
          </a:p>
        </p:txBody>
      </p:sp>
      <p:sp>
        <p:nvSpPr>
          <p:cNvPr id="813" name=""/>
          <p:cNvSpPr/>
          <p:nvPr/>
        </p:nvSpPr>
        <p:spPr>
          <a:xfrm>
            <a:off x="4572000" y="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751280" y="187920"/>
            <a:ext cx="198144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815" name=""/>
          <p:cNvGrpSpPr/>
          <p:nvPr/>
        </p:nvGrpSpPr>
        <p:grpSpPr>
          <a:xfrm>
            <a:off x="4068720" y="192240"/>
            <a:ext cx="838080" cy="838080"/>
            <a:chOff x="4068720" y="192240"/>
            <a:chExt cx="838080" cy="838080"/>
          </a:xfrm>
        </p:grpSpPr>
        <p:sp>
          <p:nvSpPr>
            <p:cNvPr id="816" name=""/>
            <p:cNvSpPr/>
            <p:nvPr/>
          </p:nvSpPr>
          <p:spPr>
            <a:xfrm>
              <a:off x="4068720" y="192240"/>
              <a:ext cx="83808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0"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1"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2"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3"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4"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5"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6"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27"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8"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9"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0"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1"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2"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3"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 name=""/>
            <p:cNvSpPr/>
            <p:nvPr/>
          </p:nvSpPr>
          <p:spPr>
            <a:xfrm>
              <a:off x="4410720" y="73368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653720" y="44964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8"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9"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0"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1"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2"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3"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4"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5"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6"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7"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8"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9"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0"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1"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2"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3" name=""/>
            <p:cNvSpPr/>
            <p:nvPr/>
          </p:nvSpPr>
          <p:spPr>
            <a:xfrm>
              <a:off x="4298760" y="21672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298760" y="21672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36572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36572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399560" y="27972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399560" y="27972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43340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43340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467600" y="43704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467600" y="43704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501440" y="48456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4" name=""/>
            <p:cNvSpPr/>
            <p:nvPr/>
          </p:nvSpPr>
          <p:spPr>
            <a:xfrm>
              <a:off x="4501440" y="48456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5" name=""/>
            <p:cNvSpPr/>
            <p:nvPr/>
          </p:nvSpPr>
          <p:spPr>
            <a:xfrm>
              <a:off x="4332600" y="48456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6" name=""/>
            <p:cNvSpPr/>
            <p:nvPr/>
          </p:nvSpPr>
          <p:spPr>
            <a:xfrm>
              <a:off x="4332600" y="48456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7" name=""/>
            <p:cNvSpPr/>
            <p:nvPr/>
          </p:nvSpPr>
          <p:spPr>
            <a:xfrm>
              <a:off x="4323600" y="24804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332600" y="52380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69" name=""/>
            <p:cNvSpPr/>
            <p:nvPr/>
          </p:nvSpPr>
          <p:spPr>
            <a:xfrm>
              <a:off x="4109040" y="32652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285800" y="40788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285800" y="40788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396680" y="40788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396680" y="40788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230720" y="53748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7" name=""/>
            <p:cNvSpPr/>
            <p:nvPr/>
          </p:nvSpPr>
          <p:spPr>
            <a:xfrm>
              <a:off x="4230720" y="53748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4222800" y="35784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230720" y="60624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80" name=""/>
            <p:cNvSpPr/>
            <p:nvPr/>
          </p:nvSpPr>
          <p:spPr>
            <a:xfrm>
              <a:off x="4327200" y="635040"/>
              <a:ext cx="11988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359240" y="68508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395240" y="695520"/>
              <a:ext cx="20412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362840" y="64440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4" name=""/>
            <p:cNvSpPr/>
            <p:nvPr/>
          </p:nvSpPr>
          <p:spPr>
            <a:xfrm>
              <a:off x="4198680" y="31536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389480" y="40968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124520" y="58752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096800" y="34092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88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890"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Regression</a:t>
            </a:r>
            <a:endParaRPr b="0" lang="en-US" sz="500" spc="-1" strike="noStrike">
              <a:solidFill>
                <a:srgbClr val="000000"/>
              </a:solidFill>
              <a:latin typeface="Times New Roman"/>
            </a:endParaRPr>
          </a:p>
        </p:txBody>
      </p:sp>
      <p:sp>
        <p:nvSpPr>
          <p:cNvPr id="89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796"/>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12"/>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801"/>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804"/>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795"/>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811"/>
                                        </p:tgtEl>
                                        <p:attrNameLst>
                                          <p:attrName>style.visibility</p:attrName>
                                        </p:attrNameLst>
                                      </p:cBhvr>
                                      <p:to>
                                        <p:strVal val="visible"/>
                                      </p:to>
                                    </p:set>
                                    <p:animEffect filter="fade" transition="in">
                                      <p:cBhvr additive="repl">
                                        <p:cTn id="200" dur="500"/>
                                        <p:tgtEl>
                                          <p:spTgt spid="811"/>
                                        </p:tgtEl>
                                      </p:cBhvr>
                                    </p:animEffect>
                                  </p:childTnLst>
                                </p:cTn>
                              </p:par>
                            </p:childTnLst>
                          </p:cTn>
                        </p:par>
                        <p:par>
                          <p:cTn id="201" fill="hold">
                            <p:stCondLst>
                              <p:cond delay="500"/>
                            </p:stCondLst>
                            <p:childTnLst>
                              <p:par>
                                <p:cTn id="202" nodeType="afterEffect" fill="hold" presetClass="entr" presetID="10">
                                  <p:stCondLst>
                                    <p:cond delay="0"/>
                                  </p:stCondLst>
                                  <p:childTnLst>
                                    <p:set>
                                      <p:cBhvr>
                                        <p:cTn id="203" dur="1" fill="hold">
                                          <p:stCondLst>
                                            <p:cond delay="0"/>
                                          </p:stCondLst>
                                        </p:cTn>
                                        <p:tgtEl>
                                          <p:spTgt spid="810"/>
                                        </p:tgtEl>
                                        <p:attrNameLst>
                                          <p:attrName>style.visibility</p:attrName>
                                        </p:attrNameLst>
                                      </p:cBhvr>
                                      <p:to>
                                        <p:strVal val="visible"/>
                                      </p:to>
                                    </p:set>
                                    <p:animEffect filter="fade" transition="in">
                                      <p:cBhvr additive="repl">
                                        <p:cTn id="204" dur="500"/>
                                        <p:tgtEl>
                                          <p:spTgt spid="810"/>
                                        </p:tgtEl>
                                      </p:cBhvr>
                                    </p:animEffect>
                                  </p:childTnLst>
                                </p:cTn>
                              </p:par>
                            </p:childTnLst>
                          </p:cTn>
                        </p:par>
                        <p:par>
                          <p:cTn id="205" fill="hold">
                            <p:stCondLst>
                              <p:cond delay="1000"/>
                            </p:stCondLst>
                            <p:childTnLst>
                              <p:par>
                                <p:cTn id="206" nodeType="afterEffect" fill="hold" presetClass="entr" presetID="1">
                                  <p:stCondLst>
                                    <p:cond delay="0"/>
                                  </p:stCondLst>
                                  <p:childTnLst>
                                    <p:set>
                                      <p:cBhvr>
                                        <p:cTn id="207" dur="1" fill="hold">
                                          <p:stCondLst>
                                            <p:cond delay="0"/>
                                          </p:stCondLst>
                                        </p:cTn>
                                        <p:tgtEl>
                                          <p:spTgt spid="807"/>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795"/>
                                        </p:tgtEl>
                                        <p:attrNameLst>
                                          <p:attrName>style.visibility</p:attrName>
                                        </p:attrNameLst>
                                      </p:cBhvr>
                                      <p:to>
                                        <p:strVal val="hidden"/>
                                      </p:to>
                                    </p:set>
                                  </p:childTnLst>
                                </p:cTn>
                              </p:par>
                              <p:par>
                                <p:cTn id="212" nodeType="withEffect" fill="hold" presetClass="entr" presetID="1">
                                  <p:stCondLst>
                                    <p:cond delay="0"/>
                                  </p:stCondLst>
                                  <p:childTnLst>
                                    <p:set>
                                      <p:cBhvr>
                                        <p:cTn id="213" dur="1" fill="hold">
                                          <p:stCondLst>
                                            <p:cond delay="0"/>
                                          </p:stCondLst>
                                        </p:cTn>
                                        <p:tgtEl>
                                          <p:spTgt spid="794"/>
                                        </p:tgtEl>
                                        <p:attrNameLst>
                                          <p:attrName>style.visibility</p:attrName>
                                        </p:attrNameLst>
                                      </p:cBhvr>
                                      <p:to>
                                        <p:strVal val="visible"/>
                                      </p:to>
                                    </p:set>
                                  </p:childTnLst>
                                </p:cTn>
                              </p:par>
                              <p:par>
                                <p:cTn id="214" nodeType="withEffect" fill="hold" presetClass="exit" presetID="10">
                                  <p:stCondLst>
                                    <p:cond delay="0"/>
                                  </p:stCondLst>
                                  <p:childTnLst>
                                    <p:animEffect filter="fade" transition="out">
                                      <p:cBhvr additive="repl">
                                        <p:cTn id="215" dur="1000"/>
                                        <p:tgtEl>
                                          <p:spTgt spid="810"/>
                                        </p:tgtEl>
                                      </p:cBhvr>
                                    </p:animEffect>
                                    <p:set>
                                      <p:cBhvr>
                                        <p:cTn id="216" dur="1" fill="hold">
                                          <p:stCondLst>
                                            <p:cond delay="999"/>
                                          </p:stCondLst>
                                        </p:cTn>
                                        <p:tgtEl>
                                          <p:spTgt spid="810"/>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811"/>
                                        </p:tgtEl>
                                      </p:cBhvr>
                                    </p:animEffect>
                                    <p:set>
                                      <p:cBhvr>
                                        <p:cTn id="219" dur="1" fill="hold">
                                          <p:stCondLst>
                                            <p:cond delay="999"/>
                                          </p:stCondLst>
                                        </p:cTn>
                                        <p:tgtEl>
                                          <p:spTgt spid="811"/>
                                        </p:tgtEl>
                                        <p:attrNameLst>
                                          <p:attrName>style.visibility</p:attrName>
                                        </p:attrNameLst>
                                      </p:cBhvr>
                                      <p:to>
                                        <p:strVal val="hidden"/>
                                      </p:to>
                                    </p:set>
                                  </p:childTnLst>
                                </p:cTn>
                              </p:par>
                              <p:par>
                                <p:cTn id="220" nodeType="withEffect" fill="hold" presetClass="exit" presetID="10">
                                  <p:stCondLst>
                                    <p:cond delay="0"/>
                                  </p:stCondLst>
                                  <p:childTnLst>
                                    <p:animEffect filter="fade" transition="out">
                                      <p:cBhvr additive="repl">
                                        <p:cTn id="221" dur="1000"/>
                                        <p:tgtEl>
                                          <p:spTgt spid="807"/>
                                        </p:tgtEl>
                                      </p:cBhvr>
                                    </p:animEffect>
                                    <p:set>
                                      <p:cBhvr>
                                        <p:cTn id="222" dur="1" fill="hold">
                                          <p:stCondLst>
                                            <p:cond delay="999"/>
                                          </p:stCondLst>
                                        </p:cTn>
                                        <p:tgtEl>
                                          <p:spTgt spid="807"/>
                                        </p:tgtEl>
                                        <p:attrNameLst>
                                          <p:attrName>style.visibility</p:attrName>
                                        </p:attrNameLst>
                                      </p:cBhvr>
                                      <p:to>
                                        <p:strVal val="hidden"/>
                                      </p:to>
                                    </p:set>
                                  </p:childTnLst>
                                </p:cTn>
                              </p:par>
                              <p:par>
                                <p:cTn id="223" nodeType="withEffect" fill="hold" presetClass="entr" presetID="10">
                                  <p:stCondLst>
                                    <p:cond delay="0"/>
                                  </p:stCondLst>
                                  <p:childTnLst>
                                    <p:set>
                                      <p:cBhvr>
                                        <p:cTn id="224" dur="1" fill="hold">
                                          <p:stCondLst>
                                            <p:cond delay="0"/>
                                          </p:stCondLst>
                                        </p:cTn>
                                        <p:tgtEl>
                                          <p:spTgt spid="797"/>
                                        </p:tgtEl>
                                        <p:attrNameLst>
                                          <p:attrName>style.visibility</p:attrName>
                                        </p:attrNameLst>
                                      </p:cBhvr>
                                      <p:to>
                                        <p:strVal val="visible"/>
                                      </p:to>
                                    </p:set>
                                    <p:animEffect filter="fade" transition="in">
                                      <p:cBhvr additive="repl">
                                        <p:cTn id="225"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546200" y="3303720"/>
            <a:ext cx="2286000" cy="102528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896" name=""/>
          <p:cNvGrpSpPr/>
          <p:nvPr/>
        </p:nvGrpSpPr>
        <p:grpSpPr>
          <a:xfrm>
            <a:off x="1150560" y="2798640"/>
            <a:ext cx="965160" cy="839880"/>
            <a:chOff x="1150560" y="2798640"/>
            <a:chExt cx="965160" cy="839880"/>
          </a:xfrm>
        </p:grpSpPr>
        <p:sp>
          <p:nvSpPr>
            <p:cNvPr id="897"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01"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2" name=""/>
          <p:cNvSpPr/>
          <p:nvPr/>
        </p:nvSpPr>
        <p:spPr>
          <a:xfrm>
            <a:off x="880920" y="2619360"/>
            <a:ext cx="3149640" cy="171288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311640" y="4602240"/>
            <a:ext cx="2286000" cy="907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905" name=""/>
          <p:cNvGrpSpPr/>
          <p:nvPr/>
        </p:nvGrpSpPr>
        <p:grpSpPr>
          <a:xfrm>
            <a:off x="3220920" y="5229360"/>
            <a:ext cx="838440" cy="838080"/>
            <a:chOff x="3220920" y="5229360"/>
            <a:chExt cx="838440" cy="838080"/>
          </a:xfrm>
        </p:grpSpPr>
        <p:sp>
          <p:nvSpPr>
            <p:cNvPr id="906"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0"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1"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2"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3"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4"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5"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6"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7"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9"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0"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1"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2"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3"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4"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5"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8"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9"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0"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1"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2"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3"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4"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5"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6"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7"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8"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9"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0"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1"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4"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5"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6"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7"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9"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7"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8"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70"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4"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982"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983"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984"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986" name=""/>
          <p:cNvGrpSpPr/>
          <p:nvPr/>
        </p:nvGrpSpPr>
        <p:grpSpPr>
          <a:xfrm>
            <a:off x="4842000" y="1628640"/>
            <a:ext cx="857160" cy="731880"/>
            <a:chOff x="4842000" y="1628640"/>
            <a:chExt cx="857160" cy="731880"/>
          </a:xfrm>
        </p:grpSpPr>
        <p:sp>
          <p:nvSpPr>
            <p:cNvPr id="987"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0"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998" name=""/>
          <p:cNvGrpSpPr/>
          <p:nvPr/>
        </p:nvGrpSpPr>
        <p:grpSpPr>
          <a:xfrm>
            <a:off x="6641640" y="3517920"/>
            <a:ext cx="1143000" cy="838080"/>
            <a:chOff x="6641640" y="3517920"/>
            <a:chExt cx="1143000" cy="838080"/>
          </a:xfrm>
        </p:grpSpPr>
        <p:sp>
          <p:nvSpPr>
            <p:cNvPr id="999"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6"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7"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1023"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1024" name=""/>
          <p:cNvSpPr/>
          <p:nvPr/>
        </p:nvSpPr>
        <p:spPr>
          <a:xfrm rot="10800000">
            <a:off x="2502000" y="387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031" name=""/>
          <p:cNvSpPr/>
          <p:nvPr/>
        </p:nvSpPr>
        <p:spPr>
          <a:xfrm>
            <a:off x="792000" y="4959360"/>
            <a:ext cx="204480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024"/>
                                        </p:tgtEl>
                                        <p:attrNameLst>
                                          <p:attrName>style.visibility</p:attrName>
                                        </p:attrNameLst>
                                      </p:cBhvr>
                                      <p:to>
                                        <p:strVal val="visible"/>
                                      </p:to>
                                    </p:set>
                                  </p:childTnLst>
                                </p:cTn>
                              </p:par>
                              <p:par>
                                <p:cTn id="232" nodeType="withEffect" fill="hold" presetClass="entr" presetID="1" repeatCount="1000">
                                  <p:stCondLst>
                                    <p:cond delay="0"/>
                                  </p:stCondLst>
                                  <p:childTnLst>
                                    <p:set>
                                      <p:cBhvr>
                                        <p:cTn id="233" dur="1" fill="hold">
                                          <p:stCondLst>
                                            <p:cond delay="0"/>
                                          </p:stCondLst>
                                        </p:cTn>
                                        <p:tgtEl>
                                          <p:spTgt spid="1031"/>
                                        </p:tgtEl>
                                        <p:attrNameLst>
                                          <p:attrName>style.visibility</p:attrName>
                                        </p:attrNameLst>
                                      </p:cBhvr>
                                      <p:to>
                                        <p:strVal val="visible"/>
                                      </p:to>
                                    </p:set>
                                  </p:childTnLst>
                                </p:cTn>
                              </p:par>
                              <p:par>
                                <p:cTn id="234" nodeType="withEffect" fill="hold" presetClass="exit" presetID="1">
                                  <p:stCondLst>
                                    <p:cond delay="0"/>
                                  </p:stCondLst>
                                  <p:childTnLst>
                                    <p:set>
                                      <p:cBhvr>
                                        <p:cTn id="235" dur="1" fill="hold">
                                          <p:stCondLst>
                                            <p:cond delay="0"/>
                                          </p:stCondLst>
                                        </p:cTn>
                                        <p:tgtEl>
                                          <p:spTgt spid="902"/>
                                        </p:tgtEl>
                                        <p:attrNameLst>
                                          <p:attrName>style.visibility</p:attrName>
                                        </p:attrNameLst>
                                      </p:cBhvr>
                                      <p:to>
                                        <p:strVal val="hidden"/>
                                      </p:to>
                                    </p:set>
                                  </p:childTnLst>
                                </p:cTn>
                              </p:par>
                              <p:par>
                                <p:cTn id="236" nodeType="withEffect" fill="hold" presetClass="entr" presetID="1">
                                  <p:stCondLst>
                                    <p:cond delay="0"/>
                                  </p:stCondLst>
                                  <p:childTnLst>
                                    <p:set>
                                      <p:cBhvr>
                                        <p:cTn id="237"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611280" y="1359000"/>
            <a:ext cx="8191440" cy="11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es there appear to be a pattern or link between foot length and height?</a:t>
            </a:r>
            <a:endParaRPr b="0" lang="en-US" sz="2200" spc="-1" strike="noStrike">
              <a:solidFill>
                <a:srgbClr val="000000"/>
              </a:solidFill>
              <a:latin typeface="Times New Roman"/>
            </a:endParaRPr>
          </a:p>
        </p:txBody>
      </p:sp>
      <p:sp>
        <p:nvSpPr>
          <p:cNvPr id="1033" name=""/>
          <p:cNvSpPr/>
          <p:nvPr/>
        </p:nvSpPr>
        <p:spPr>
          <a:xfrm>
            <a:off x="611280" y="1359000"/>
            <a:ext cx="8191440" cy="11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Does there appear to be a pattern or link between foot length and height? Is there a relationship?</a:t>
            </a:r>
            <a:endParaRPr b="0" lang="en-US" sz="2200" spc="-1" strike="noStrike">
              <a:solidFill>
                <a:srgbClr val="000000"/>
              </a:solidFill>
              <a:latin typeface="Times New Roman"/>
            </a:endParaRPr>
          </a:p>
        </p:txBody>
      </p:sp>
      <p:sp>
        <p:nvSpPr>
          <p:cNvPr id="1034" name=""/>
          <p:cNvSpPr/>
          <p:nvPr/>
        </p:nvSpPr>
        <p:spPr>
          <a:xfrm>
            <a:off x="611280" y="1359000"/>
            <a:ext cx="8191440" cy="11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Does there appear to be a pattern or link between foot length and height? Is there a</a:t>
            </a:r>
            <a:r>
              <a:rPr b="0" lang="en-US" sz="2200" spc="-1" strike="noStrike">
                <a:solidFill>
                  <a:srgbClr val="000000"/>
                </a:solidFill>
                <a:latin typeface="Verdana"/>
              </a:rPr>
              <a:t> </a:t>
            </a:r>
            <a:r>
              <a:rPr b="0" lang="en-US" sz="2200" spc="-1" strike="noStrike">
                <a:solidFill>
                  <a:srgbClr val="ff6600"/>
                </a:solidFill>
                <a:latin typeface="Verdana"/>
              </a:rPr>
              <a:t>correlation</a:t>
            </a:r>
            <a:r>
              <a:rPr b="0" lang="en-US" sz="2200" spc="-1" strike="noStrike">
                <a:solidFill>
                  <a:srgbClr val="3333cc"/>
                </a:solidFill>
                <a:latin typeface="Verdana"/>
              </a:rPr>
              <a:t>?</a:t>
            </a:r>
            <a:endParaRPr b="0" lang="en-US" sz="2200" spc="-1" strike="noStrike">
              <a:solidFill>
                <a:srgbClr val="000000"/>
              </a:solidFill>
              <a:latin typeface="Times New Roman"/>
            </a:endParaRPr>
          </a:p>
        </p:txBody>
      </p:sp>
      <p:pic>
        <p:nvPicPr>
          <p:cNvPr id="1035" name="" descr=""/>
          <p:cNvPicPr/>
          <p:nvPr/>
        </p:nvPicPr>
        <p:blipFill>
          <a:blip r:embed="rId1"/>
          <a:stretch/>
        </p:blipFill>
        <p:spPr>
          <a:xfrm>
            <a:off x="2502000" y="2708280"/>
            <a:ext cx="4049640" cy="3343320"/>
          </a:xfrm>
          <a:prstGeom prst="rect">
            <a:avLst/>
          </a:prstGeom>
          <a:ln w="0">
            <a:noFill/>
          </a:ln>
        </p:spPr>
      </p:pic>
      <p:sp>
        <p:nvSpPr>
          <p:cNvPr id="1036"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58000" y="0"/>
            <a:ext cx="2286000" cy="304920"/>
          </a:xfrm>
          <a:prstGeom prst="rect">
            <a:avLst/>
          </a:prstGeom>
          <a:solidFill>
            <a:srgbClr val="ff99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3027240" y="3435480"/>
            <a:ext cx="3321000" cy="1312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0" name=""/>
          <p:cNvGrpSpPr/>
          <p:nvPr/>
        </p:nvGrpSpPr>
        <p:grpSpPr>
          <a:xfrm>
            <a:off x="971640" y="2527200"/>
            <a:ext cx="1981080" cy="1260720"/>
            <a:chOff x="971640" y="2527200"/>
            <a:chExt cx="1981080" cy="1260720"/>
          </a:xfrm>
        </p:grpSpPr>
        <p:sp>
          <p:nvSpPr>
            <p:cNvPr id="1041" name=""/>
            <p:cNvSpPr/>
            <p:nvPr/>
          </p:nvSpPr>
          <p:spPr>
            <a:xfrm>
              <a:off x="971640" y="2619360"/>
              <a:ext cx="1349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Height</a:t>
              </a:r>
              <a:endParaRPr b="0" lang="en-US" sz="2000" spc="-1" strike="noStrike">
                <a:solidFill>
                  <a:srgbClr val="000000"/>
                </a:solidFill>
                <a:latin typeface="Times New Roman"/>
              </a:endParaRPr>
            </a:p>
          </p:txBody>
        </p:sp>
        <p:sp>
          <p:nvSpPr>
            <p:cNvPr id="1042" name=""/>
            <p:cNvSpPr/>
            <p:nvPr/>
          </p:nvSpPr>
          <p:spPr>
            <a:xfrm>
              <a:off x="2322360" y="2527200"/>
              <a:ext cx="630360" cy="1260720"/>
            </a:xfrm>
            <a:prstGeom prst="upArrow">
              <a:avLst>
                <a:gd name="adj1" fmla="val 50000"/>
                <a:gd name="adj2"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3" name=""/>
          <p:cNvGrpSpPr/>
          <p:nvPr/>
        </p:nvGrpSpPr>
        <p:grpSpPr>
          <a:xfrm>
            <a:off x="5383080" y="5587920"/>
            <a:ext cx="2880000" cy="630360"/>
            <a:chOff x="5383080" y="5587920"/>
            <a:chExt cx="2880000" cy="630360"/>
          </a:xfrm>
        </p:grpSpPr>
        <p:sp>
          <p:nvSpPr>
            <p:cNvPr id="1044" name=""/>
            <p:cNvSpPr/>
            <p:nvPr/>
          </p:nvSpPr>
          <p:spPr>
            <a:xfrm>
              <a:off x="6913440" y="5587920"/>
              <a:ext cx="13496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Foo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length</a:t>
              </a:r>
              <a:endParaRPr b="0" lang="en-US" sz="2000" spc="-1" strike="noStrike">
                <a:solidFill>
                  <a:srgbClr val="000000"/>
                </a:solidFill>
                <a:latin typeface="Times New Roman"/>
              </a:endParaRPr>
            </a:p>
          </p:txBody>
        </p:sp>
        <p:sp>
          <p:nvSpPr>
            <p:cNvPr id="1045" name=""/>
            <p:cNvSpPr/>
            <p:nvPr/>
          </p:nvSpPr>
          <p:spPr>
            <a:xfrm>
              <a:off x="5383080" y="5587920"/>
              <a:ext cx="1440000" cy="630360"/>
            </a:xfrm>
            <a:prstGeom prst="rightArrow">
              <a:avLst>
                <a:gd name="adj1" fmla="val 50000"/>
                <a:gd name="adj2" fmla="val 5711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46" name="" descr=""/>
          <p:cNvPicPr/>
          <p:nvPr/>
        </p:nvPicPr>
        <p:blipFill>
          <a:blip r:embed="rId2"/>
          <a:stretch/>
        </p:blipFill>
        <p:spPr>
          <a:xfrm>
            <a:off x="6823080" y="2798640"/>
            <a:ext cx="1506600" cy="2340000"/>
          </a:xfrm>
          <a:prstGeom prst="rect">
            <a:avLst/>
          </a:prstGeom>
          <a:ln w="0">
            <a:noFill/>
          </a:ln>
        </p:spPr>
      </p:pic>
      <p:sp>
        <p:nvSpPr>
          <p:cNvPr id="1047" name=""/>
          <p:cNvSpPr/>
          <p:nvPr/>
        </p:nvSpPr>
        <p:spPr>
          <a:xfrm>
            <a:off x="611280" y="3879720"/>
            <a:ext cx="18000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would you find the height of the thief</a:t>
            </a:r>
            <a:r>
              <a:rPr b="0" lang="en-US" sz="2000" spc="-1" strike="noStrike">
                <a:solidFill>
                  <a:srgbClr val="000000"/>
                </a:solidFill>
                <a:latin typeface="Verdana"/>
              </a:rPr>
              <a:t> </a:t>
            </a:r>
            <a:r>
              <a:rPr b="0" lang="en-US" sz="2000" spc="-1" strike="noStrike">
                <a:solidFill>
                  <a:srgbClr val="3333cc"/>
                </a:solidFill>
                <a:latin typeface="Verdana"/>
              </a:rPr>
              <a:t>with</a:t>
            </a:r>
            <a:r>
              <a:rPr b="0" lang="en-US" sz="2000" spc="-1" strike="noStrike">
                <a:solidFill>
                  <a:srgbClr val="000000"/>
                </a:solidFill>
                <a:latin typeface="Verdana"/>
              </a:rPr>
              <a:t> </a:t>
            </a:r>
            <a:r>
              <a:rPr b="1" lang="en-US" sz="2000" spc="-1" strike="noStrike">
                <a:solidFill>
                  <a:srgbClr val="ff6600"/>
                </a:solidFill>
                <a:latin typeface="Verdana"/>
              </a:rPr>
              <a:t>25</a:t>
            </a:r>
            <a:r>
              <a:rPr b="0" lang="en-US" sz="2000" spc="-1" strike="noStrike">
                <a:solidFill>
                  <a:srgbClr val="ff6600"/>
                </a:solidFill>
                <a:latin typeface="Verdana"/>
              </a:rPr>
              <a:t>cm</a:t>
            </a:r>
            <a:r>
              <a:rPr b="0" lang="en-US" sz="2000" spc="-1" strike="noStrike">
                <a:solidFill>
                  <a:srgbClr val="000000"/>
                </a:solidFill>
                <a:latin typeface="Verdana"/>
              </a:rPr>
              <a:t> </a:t>
            </a:r>
            <a:r>
              <a:rPr b="0" lang="en-US" sz="2000" spc="-1" strike="noStrike">
                <a:solidFill>
                  <a:srgbClr val="3333cc"/>
                </a:solidFill>
                <a:latin typeface="Verdana"/>
              </a:rPr>
              <a:t>long feet?</a:t>
            </a:r>
            <a:endParaRPr b="0" lang="en-US" sz="2000" spc="-1" strike="noStrike">
              <a:solidFill>
                <a:srgbClr val="000000"/>
              </a:solidFill>
              <a:latin typeface="Times New Roman"/>
            </a:endParaRPr>
          </a:p>
        </p:txBody>
      </p:sp>
      <p:sp>
        <p:nvSpPr>
          <p:cNvPr id="1048"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04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05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Pattern spotting</a:t>
            </a:r>
            <a:endParaRPr b="0" lang="en-US" sz="500" spc="-1" strike="noStrike">
              <a:solidFill>
                <a:srgbClr val="000000"/>
              </a:solidFill>
              <a:latin typeface="Times New Roman"/>
            </a:endParaRPr>
          </a:p>
        </p:txBody>
      </p:sp>
      <p:sp>
        <p:nvSpPr>
          <p:cNvPr id="1052"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055" name=""/>
          <p:cNvSpPr/>
          <p:nvPr/>
        </p:nvSpPr>
        <p:spPr>
          <a:xfrm>
            <a:off x="6858000" y="0"/>
            <a:ext cx="2286000" cy="907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002360" y="18792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057" name=""/>
          <p:cNvGrpSpPr/>
          <p:nvPr/>
        </p:nvGrpSpPr>
        <p:grpSpPr>
          <a:xfrm>
            <a:off x="6181560" y="210960"/>
            <a:ext cx="965520" cy="839880"/>
            <a:chOff x="6181560" y="210960"/>
            <a:chExt cx="965520" cy="839880"/>
          </a:xfrm>
        </p:grpSpPr>
        <p:sp>
          <p:nvSpPr>
            <p:cNvPr id="1058" name=""/>
            <p:cNvSpPr/>
            <p:nvPr/>
          </p:nvSpPr>
          <p:spPr>
            <a:xfrm flipH="1">
              <a:off x="6181560" y="210960"/>
              <a:ext cx="96552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6217200" y="257040"/>
              <a:ext cx="89388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379920" y="430560"/>
              <a:ext cx="54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364080" y="50076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62" name=""/>
            <p:cNvSpPr/>
            <p:nvPr/>
          </p:nvSpPr>
          <p:spPr>
            <a:xfrm>
              <a:off x="6375960" y="570960"/>
              <a:ext cx="588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039"/>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033"/>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1000"/>
                                        <p:tgtEl>
                                          <p:spTgt spid="1033"/>
                                        </p:tgtEl>
                                      </p:cBhvr>
                                    </p:animEffect>
                                    <p:set>
                                      <p:cBhvr>
                                        <p:cTn id="252" dur="1" fill="hold">
                                          <p:stCondLst>
                                            <p:cond delay="999"/>
                                          </p:stCondLst>
                                        </p:cTn>
                                        <p:tgtEl>
                                          <p:spTgt spid="1033"/>
                                        </p:tgtEl>
                                        <p:attrNameLst>
                                          <p:attrName>style.visibility</p:attrName>
                                        </p:attrNameLst>
                                      </p:cBhvr>
                                      <p:to>
                                        <p:strVal val="hidden"/>
                                      </p:to>
                                    </p:set>
                                  </p:childTnLst>
                                </p:cTn>
                              </p:par>
                              <p:par>
                                <p:cTn id="253" nodeType="withEffect" fill="hold" presetClass="entr" presetID="10">
                                  <p:stCondLst>
                                    <p:cond delay="0"/>
                                  </p:stCondLst>
                                  <p:childTnLst>
                                    <p:set>
                                      <p:cBhvr>
                                        <p:cTn id="254" dur="1" fill="hold">
                                          <p:stCondLst>
                                            <p:cond delay="0"/>
                                          </p:stCondLst>
                                        </p:cTn>
                                        <p:tgtEl>
                                          <p:spTgt spid="1034"/>
                                        </p:tgtEl>
                                        <p:attrNameLst>
                                          <p:attrName>style.visibility</p:attrName>
                                        </p:attrNameLst>
                                      </p:cBhvr>
                                      <p:to>
                                        <p:strVal val="visible"/>
                                      </p:to>
                                    </p:set>
                                    <p:animEffect filter="fade" transition="in">
                                      <p:cBhvr additive="repl">
                                        <p:cTn id="255" dur="1000"/>
                                        <p:tgtEl>
                                          <p:spTgt spid="103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047"/>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858000" y="0"/>
            <a:ext cx="2286000" cy="907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002360" y="18792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068" name=""/>
          <p:cNvGrpSpPr/>
          <p:nvPr/>
        </p:nvGrpSpPr>
        <p:grpSpPr>
          <a:xfrm>
            <a:off x="6181560" y="210960"/>
            <a:ext cx="965520" cy="839880"/>
            <a:chOff x="6181560" y="210960"/>
            <a:chExt cx="965520" cy="839880"/>
          </a:xfrm>
        </p:grpSpPr>
        <p:sp>
          <p:nvSpPr>
            <p:cNvPr id="1069" name=""/>
            <p:cNvSpPr/>
            <p:nvPr/>
          </p:nvSpPr>
          <p:spPr>
            <a:xfrm flipH="1">
              <a:off x="6181560" y="210960"/>
              <a:ext cx="96552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217200" y="257040"/>
              <a:ext cx="89388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379920" y="430560"/>
              <a:ext cx="54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64080" y="50076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3" name=""/>
            <p:cNvSpPr/>
            <p:nvPr/>
          </p:nvSpPr>
          <p:spPr>
            <a:xfrm>
              <a:off x="6375960" y="570960"/>
              <a:ext cx="588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1325520" y="2146320"/>
            <a:ext cx="2160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Gender?</a:t>
            </a:r>
            <a:endParaRPr b="0" lang="en-US" sz="3200" spc="-1" strike="noStrike">
              <a:solidFill>
                <a:srgbClr val="000000"/>
              </a:solidFill>
              <a:latin typeface="Times New Roman"/>
            </a:endParaRPr>
          </a:p>
        </p:txBody>
      </p:sp>
      <p:sp>
        <p:nvSpPr>
          <p:cNvPr id="1075" name=""/>
          <p:cNvSpPr/>
          <p:nvPr/>
        </p:nvSpPr>
        <p:spPr>
          <a:xfrm>
            <a:off x="1397160" y="4449600"/>
            <a:ext cx="2160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Age?</a:t>
            </a:r>
            <a:endParaRPr b="0" lang="en-US" sz="3200" spc="-1" strike="noStrike">
              <a:solidFill>
                <a:srgbClr val="000000"/>
              </a:solidFill>
              <a:latin typeface="Times New Roman"/>
            </a:endParaRPr>
          </a:p>
        </p:txBody>
      </p:sp>
      <p:sp>
        <p:nvSpPr>
          <p:cNvPr id="1076" name=""/>
          <p:cNvSpPr/>
          <p:nvPr/>
        </p:nvSpPr>
        <p:spPr>
          <a:xfrm>
            <a:off x="5923080" y="21686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Height?</a:t>
            </a:r>
            <a:endParaRPr b="0" lang="en-US" sz="3200" spc="-1" strike="noStrike">
              <a:solidFill>
                <a:srgbClr val="000000"/>
              </a:solidFill>
              <a:latin typeface="Times New Roman"/>
            </a:endParaRPr>
          </a:p>
        </p:txBody>
      </p:sp>
      <p:sp>
        <p:nvSpPr>
          <p:cNvPr id="1077" name=""/>
          <p:cNvSpPr/>
          <p:nvPr/>
        </p:nvSpPr>
        <p:spPr>
          <a:xfrm>
            <a:off x="5789520" y="451944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Weight?</a:t>
            </a:r>
            <a:endParaRPr b="0" lang="en-US" sz="3200" spc="-1" strike="noStrike">
              <a:solidFill>
                <a:srgbClr val="000000"/>
              </a:solidFill>
              <a:latin typeface="Times New Roman"/>
            </a:endParaRPr>
          </a:p>
        </p:txBody>
      </p:sp>
      <p:pic>
        <p:nvPicPr>
          <p:cNvPr id="1078" name="" descr=""/>
          <p:cNvPicPr/>
          <p:nvPr/>
        </p:nvPicPr>
        <p:blipFill>
          <a:blip r:embed="rId1"/>
          <a:stretch/>
        </p:blipFill>
        <p:spPr>
          <a:xfrm>
            <a:off x="3581280" y="2168640"/>
            <a:ext cx="1795680" cy="2790720"/>
          </a:xfrm>
          <a:prstGeom prst="rect">
            <a:avLst/>
          </a:prstGeom>
          <a:ln w="0">
            <a:noFill/>
          </a:ln>
        </p:spPr>
      </p:pic>
      <p:sp>
        <p:nvSpPr>
          <p:cNvPr id="1079" name=""/>
          <p:cNvSpPr/>
          <p:nvPr/>
        </p:nvSpPr>
        <p:spPr>
          <a:xfrm>
            <a:off x="3355560" y="3249720"/>
            <a:ext cx="25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Foot length</a:t>
            </a:r>
            <a:endParaRPr b="0" lang="en-US" sz="3200" spc="-1" strike="noStrike">
              <a:solidFill>
                <a:srgbClr val="000000"/>
              </a:solidFill>
              <a:latin typeface="Times New Roman"/>
            </a:endParaRPr>
          </a:p>
        </p:txBody>
      </p:sp>
      <p:sp>
        <p:nvSpPr>
          <p:cNvPr id="1080" name=""/>
          <p:cNvSpPr/>
          <p:nvPr/>
        </p:nvSpPr>
        <p:spPr>
          <a:xfrm rot="2715000">
            <a:off x="3103920" y="2767680"/>
            <a:ext cx="792000" cy="431640"/>
          </a:xfrm>
          <a:prstGeom prst="leftRightArrow">
            <a:avLst>
              <a:gd name="adj1" fmla="val 50000"/>
              <a:gd name="adj2" fmla="val 36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rot="2715000">
            <a:off x="5335920" y="4063320"/>
            <a:ext cx="792360" cy="431640"/>
          </a:xfrm>
          <a:prstGeom prst="leftRightArrow">
            <a:avLst>
              <a:gd name="adj1" fmla="val 50000"/>
              <a:gd name="adj2" fmla="val 3654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rot="18990600">
            <a:off x="3139920" y="3955680"/>
            <a:ext cx="792360" cy="431640"/>
          </a:xfrm>
          <a:prstGeom prst="leftRightArrow">
            <a:avLst>
              <a:gd name="adj1" fmla="val 50000"/>
              <a:gd name="adj2" fmla="val 3654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rot="18990600">
            <a:off x="5227200" y="2731680"/>
            <a:ext cx="792360" cy="432000"/>
          </a:xfrm>
          <a:prstGeom prst="leftRightArrow">
            <a:avLst>
              <a:gd name="adj1" fmla="val 50000"/>
              <a:gd name="adj2" fmla="val 365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31640" y="1359000"/>
            <a:ext cx="7991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did you hope the footprint</a:t>
            </a:r>
            <a:br>
              <a:rPr sz="2400"/>
            </a:br>
            <a:r>
              <a:rPr b="0" lang="en-US" sz="2400" spc="-1" strike="noStrike">
                <a:solidFill>
                  <a:srgbClr val="3333cc"/>
                </a:solidFill>
                <a:latin typeface="Verdana"/>
              </a:rPr>
              <a:t>would tell us about the thief?</a:t>
            </a:r>
            <a:endParaRPr b="0" lang="en-US" sz="2400" spc="-1" strike="noStrike">
              <a:solidFill>
                <a:srgbClr val="000000"/>
              </a:solidFill>
              <a:latin typeface="Times New Roman"/>
            </a:endParaRPr>
          </a:p>
        </p:txBody>
      </p:sp>
      <p:sp>
        <p:nvSpPr>
          <p:cNvPr id="1085" name=""/>
          <p:cNvSpPr/>
          <p:nvPr/>
        </p:nvSpPr>
        <p:spPr>
          <a:xfrm>
            <a:off x="341280" y="5408640"/>
            <a:ext cx="8461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patterns have you found during this investigation?</a:t>
            </a:r>
            <a:r>
              <a:rPr b="0" lang="en-US" sz="2400" spc="-1" strike="noStrike">
                <a:solidFill>
                  <a:srgbClr val="000000"/>
                </a:solidFill>
                <a:latin typeface="Verdana"/>
              </a:rPr>
              <a:t> </a:t>
            </a:r>
            <a:r>
              <a:rPr b="0" lang="en-US" sz="2400" spc="-1" strike="noStrike">
                <a:solidFill>
                  <a:srgbClr val="808080"/>
                </a:solidFill>
                <a:latin typeface="Verdana"/>
              </a:rPr>
              <a:t>Remember to use statistical language!</a:t>
            </a:r>
            <a:endParaRPr b="0" lang="en-US" sz="2400" spc="-1" strike="noStrike">
              <a:solidFill>
                <a:srgbClr val="000000"/>
              </a:solidFill>
              <a:latin typeface="Times New Roman"/>
            </a:endParaRPr>
          </a:p>
        </p:txBody>
      </p:sp>
      <p:sp>
        <p:nvSpPr>
          <p:cNvPr id="1086"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087"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08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089"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Restate question</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076"/>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083"/>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081"/>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077"/>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082"/>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075"/>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108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074"/>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6858000" y="0"/>
            <a:ext cx="2286000" cy="907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002360" y="18792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sp>
        <p:nvSpPr>
          <p:cNvPr id="1093"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6" name=""/>
          <p:cNvGrpSpPr/>
          <p:nvPr/>
        </p:nvGrpSpPr>
        <p:grpSpPr>
          <a:xfrm>
            <a:off x="6181560" y="210960"/>
            <a:ext cx="965520" cy="839880"/>
            <a:chOff x="6181560" y="210960"/>
            <a:chExt cx="965520" cy="839880"/>
          </a:xfrm>
        </p:grpSpPr>
        <p:sp>
          <p:nvSpPr>
            <p:cNvPr id="1097" name=""/>
            <p:cNvSpPr/>
            <p:nvPr/>
          </p:nvSpPr>
          <p:spPr>
            <a:xfrm flipH="1">
              <a:off x="6181560" y="210960"/>
              <a:ext cx="96552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217200" y="257040"/>
              <a:ext cx="89388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379920" y="430560"/>
              <a:ext cx="54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364080" y="50076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1" name=""/>
            <p:cNvSpPr/>
            <p:nvPr/>
          </p:nvSpPr>
          <p:spPr>
            <a:xfrm>
              <a:off x="6375960" y="570960"/>
              <a:ext cx="588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2" name=""/>
          <p:cNvSpPr/>
          <p:nvPr/>
        </p:nvSpPr>
        <p:spPr>
          <a:xfrm>
            <a:off x="611280" y="225900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f you were to give the police some suggestions about the thief, how </a:t>
            </a:r>
            <a:r>
              <a:rPr b="0" i="1" lang="en-US" sz="2400" spc="-1" strike="noStrike">
                <a:solidFill>
                  <a:srgbClr val="3333cc"/>
                </a:solidFill>
                <a:latin typeface="Verdana"/>
              </a:rPr>
              <a:t>confident</a:t>
            </a:r>
            <a:r>
              <a:rPr b="0" lang="en-US" sz="2400" spc="-1" strike="noStrike">
                <a:solidFill>
                  <a:srgbClr val="3333cc"/>
                </a:solidFill>
                <a:latin typeface="Verdana"/>
              </a:rPr>
              <a:t> would you be that these were right?</a:t>
            </a:r>
            <a:endParaRPr b="0" lang="en-US" sz="2400" spc="-1" strike="noStrike">
              <a:solidFill>
                <a:srgbClr val="000000"/>
              </a:solidFill>
              <a:latin typeface="Times New Roman"/>
            </a:endParaRPr>
          </a:p>
        </p:txBody>
      </p:sp>
      <p:sp>
        <p:nvSpPr>
          <p:cNvPr id="1103" name=""/>
          <p:cNvSpPr/>
          <p:nvPr/>
        </p:nvSpPr>
        <p:spPr>
          <a:xfrm>
            <a:off x="611280" y="334008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re there any features you have </a:t>
            </a:r>
            <a:r>
              <a:rPr b="0" i="1" lang="en-US" sz="2400" spc="-1" strike="noStrike">
                <a:solidFill>
                  <a:srgbClr val="3333cc"/>
                </a:solidFill>
                <a:latin typeface="Verdana"/>
              </a:rPr>
              <a:t>noticed</a:t>
            </a:r>
            <a:r>
              <a:rPr b="0" lang="en-US" sz="2400" spc="-1" strike="noStrike">
                <a:solidFill>
                  <a:srgbClr val="3333cc"/>
                </a:solidFill>
                <a:latin typeface="Verdana"/>
              </a:rPr>
              <a:t> or </a:t>
            </a:r>
            <a:r>
              <a:rPr b="0" i="1" lang="en-US" sz="2400" spc="-1" strike="noStrike">
                <a:solidFill>
                  <a:srgbClr val="3333cc"/>
                </a:solidFill>
                <a:latin typeface="Verdana"/>
              </a:rPr>
              <a:t>wondered</a:t>
            </a:r>
            <a:r>
              <a:rPr b="0" lang="en-US" sz="2400" spc="-1" strike="noStrike">
                <a:solidFill>
                  <a:srgbClr val="3333cc"/>
                </a:solidFill>
                <a:latin typeface="Verdana"/>
              </a:rPr>
              <a:t> about during the investigation?</a:t>
            </a:r>
            <a:endParaRPr b="0" lang="en-US" sz="2400" spc="-1" strike="noStrike">
              <a:solidFill>
                <a:srgbClr val="000000"/>
              </a:solidFill>
              <a:latin typeface="Times New Roman"/>
            </a:endParaRPr>
          </a:p>
        </p:txBody>
      </p:sp>
      <p:sp>
        <p:nvSpPr>
          <p:cNvPr id="1104" name=""/>
          <p:cNvSpPr/>
          <p:nvPr/>
        </p:nvSpPr>
        <p:spPr>
          <a:xfrm>
            <a:off x="611280" y="432900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s there more or different data that we could collect to aid this investigation?</a:t>
            </a:r>
            <a:endParaRPr b="0" lang="en-US" sz="2400" spc="-1" strike="noStrike">
              <a:solidFill>
                <a:srgbClr val="000000"/>
              </a:solidFill>
              <a:latin typeface="Times New Roman"/>
            </a:endParaRPr>
          </a:p>
        </p:txBody>
      </p:sp>
      <p:sp>
        <p:nvSpPr>
          <p:cNvPr id="1105" name=""/>
          <p:cNvSpPr/>
          <p:nvPr/>
        </p:nvSpPr>
        <p:spPr>
          <a:xfrm>
            <a:off x="611280" y="135900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can the footprint tell us about the thief?</a:t>
            </a:r>
            <a:endParaRPr b="0" lang="en-US" sz="2400" spc="-1" strike="noStrike">
              <a:solidFill>
                <a:srgbClr val="000000"/>
              </a:solidFill>
              <a:latin typeface="Times New Roman"/>
            </a:endParaRPr>
          </a:p>
        </p:txBody>
      </p:sp>
      <p:sp>
        <p:nvSpPr>
          <p:cNvPr id="1106"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107"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10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109"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Evaluation</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10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103"/>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546200" y="3303720"/>
            <a:ext cx="2286000" cy="1025280"/>
          </a:xfrm>
          <a:prstGeom prst="rect">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113" name=""/>
          <p:cNvGrpSpPr/>
          <p:nvPr/>
        </p:nvGrpSpPr>
        <p:grpSpPr>
          <a:xfrm>
            <a:off x="1150560" y="2798640"/>
            <a:ext cx="965160" cy="839880"/>
            <a:chOff x="1150560" y="2798640"/>
            <a:chExt cx="965160" cy="839880"/>
          </a:xfrm>
        </p:grpSpPr>
        <p:sp>
          <p:nvSpPr>
            <p:cNvPr id="1114"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18"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3311640" y="4602240"/>
            <a:ext cx="2286000" cy="907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1121" name=""/>
          <p:cNvGrpSpPr/>
          <p:nvPr/>
        </p:nvGrpSpPr>
        <p:grpSpPr>
          <a:xfrm>
            <a:off x="3220920" y="5229360"/>
            <a:ext cx="838440" cy="838080"/>
            <a:chOff x="3220920" y="5229360"/>
            <a:chExt cx="838440" cy="838080"/>
          </a:xfrm>
        </p:grpSpPr>
        <p:sp>
          <p:nvSpPr>
            <p:cNvPr id="1122"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6"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7"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8"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29"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0"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1"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2"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3"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6"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7"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8"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39"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0"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1"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4"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5"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6"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7"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8"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9"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0"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1"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2"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3"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4"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5"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6"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7"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8"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0"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1"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2"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73"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75"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3"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4"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86"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19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200"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201"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202"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204" name=""/>
          <p:cNvGrpSpPr/>
          <p:nvPr/>
        </p:nvGrpSpPr>
        <p:grpSpPr>
          <a:xfrm>
            <a:off x="4842000" y="1628640"/>
            <a:ext cx="857160" cy="731880"/>
            <a:chOff x="4842000" y="1628640"/>
            <a:chExt cx="857160" cy="731880"/>
          </a:xfrm>
        </p:grpSpPr>
        <p:sp>
          <p:nvSpPr>
            <p:cNvPr id="1205"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8"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1216" name=""/>
          <p:cNvGrpSpPr/>
          <p:nvPr/>
        </p:nvGrpSpPr>
        <p:grpSpPr>
          <a:xfrm>
            <a:off x="6641640" y="3517920"/>
            <a:ext cx="1143000" cy="838080"/>
            <a:chOff x="6641640" y="3517920"/>
            <a:chExt cx="1143000" cy="838080"/>
          </a:xfrm>
        </p:grpSpPr>
        <p:sp>
          <p:nvSpPr>
            <p:cNvPr id="1217"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4"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5"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36"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8"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1241"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1242" name=""/>
          <p:cNvSpPr/>
          <p:nvPr/>
        </p:nvSpPr>
        <p:spPr>
          <a:xfrm rot="16200000">
            <a:off x="2411280" y="2619360"/>
            <a:ext cx="1620720" cy="1439640"/>
          </a:xfrm>
          <a:custGeom>
            <a:avLst/>
            <a:gdLst>
              <a:gd name="textAreaLeft" fmla="*/ 0 w 1620720"/>
              <a:gd name="textAreaRight" fmla="*/ 1621080 w 1620720"/>
              <a:gd name="textAreaTop" fmla="*/ 0 h 1439640"/>
              <a:gd name="textAreaBottom" fmla="*/ 1440000 h 143964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rot="10800000">
            <a:off x="2502000" y="387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30120" y="4516560"/>
            <a:ext cx="257832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
        <p:nvSpPr>
          <p:cNvPr id="1247"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36680" y="1663560"/>
            <a:ext cx="269388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build on the first try by continuing here...</a:t>
            </a:r>
            <a:endParaRPr b="0" lang="en-US" sz="2200" spc="-1" strike="noStrike">
              <a:solidFill>
                <a:srgbClr val="000000"/>
              </a:solidFill>
              <a:latin typeface="Times New Roman"/>
            </a:endParaRPr>
          </a:p>
        </p:txBody>
      </p:sp>
      <p:sp>
        <p:nvSpPr>
          <p:cNvPr id="1249" name=""/>
          <p:cNvSpPr/>
          <p:nvPr/>
        </p:nvSpPr>
        <p:spPr>
          <a:xfrm>
            <a:off x="466560" y="5232240"/>
            <a:ext cx="257832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Verdana"/>
              </a:rPr>
              <a:t>Have you got all the evidence you wa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249"/>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1248"/>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2" name="" descr=""/>
          <p:cNvPicPr/>
          <p:nvPr/>
        </p:nvPicPr>
        <p:blipFill>
          <a:blip r:embed="rId1"/>
          <a:stretch/>
        </p:blipFill>
        <p:spPr>
          <a:xfrm>
            <a:off x="4751280" y="2708280"/>
            <a:ext cx="3511800" cy="2944800"/>
          </a:xfrm>
          <a:prstGeom prst="rect">
            <a:avLst/>
          </a:prstGeom>
          <a:ln w="0">
            <a:noFill/>
          </a:ln>
        </p:spPr>
      </p:pic>
      <p:sp>
        <p:nvSpPr>
          <p:cNvPr id="1253" name=""/>
          <p:cNvSpPr/>
          <p:nvPr/>
        </p:nvSpPr>
        <p:spPr>
          <a:xfrm>
            <a:off x="431640" y="1989000"/>
            <a:ext cx="8010720" cy="98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ould look at all the people with the same foot length as the thief. </a:t>
            </a:r>
            <a:endParaRPr b="0" lang="en-US" sz="2400" spc="-1" strike="noStrike">
              <a:solidFill>
                <a:srgbClr val="000000"/>
              </a:solidFill>
              <a:latin typeface="Times New Roman"/>
            </a:endParaRPr>
          </a:p>
        </p:txBody>
      </p:sp>
      <p:sp>
        <p:nvSpPr>
          <p:cNvPr id="1254"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1255" name=""/>
          <p:cNvSpPr/>
          <p:nvPr/>
        </p:nvSpPr>
        <p:spPr>
          <a:xfrm>
            <a:off x="479520" y="3224160"/>
            <a:ext cx="3960720" cy="108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haps they are all around the same height.. </a:t>
            </a:r>
            <a:endParaRPr b="0" lang="en-US" sz="2400" spc="-1" strike="noStrike">
              <a:solidFill>
                <a:srgbClr val="000000"/>
              </a:solidFill>
              <a:latin typeface="Times New Roman"/>
            </a:endParaRPr>
          </a:p>
        </p:txBody>
      </p:sp>
      <p:sp>
        <p:nvSpPr>
          <p:cNvPr id="1256" name=""/>
          <p:cNvSpPr/>
          <p:nvPr/>
        </p:nvSpPr>
        <p:spPr>
          <a:xfrm>
            <a:off x="4775040" y="4680000"/>
            <a:ext cx="3318120" cy="131760"/>
          </a:xfrm>
          <a:prstGeom prst="rect">
            <a:avLst/>
          </a:prstGeom>
          <a:noFill/>
          <a:ln w="255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764240" y="5087880"/>
            <a:ext cx="3317760" cy="131760"/>
          </a:xfrm>
          <a:prstGeom prst="rect">
            <a:avLst/>
          </a:prstGeom>
          <a:noFill/>
          <a:ln w="2844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764240" y="4164120"/>
            <a:ext cx="3317760" cy="131760"/>
          </a:xfrm>
          <a:prstGeom prst="rect">
            <a:avLst/>
          </a:prstGeom>
          <a:noFill/>
          <a:ln w="255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87440" y="4441680"/>
            <a:ext cx="3960720" cy="15112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 we could work out their </a:t>
            </a:r>
            <a:r>
              <a:rPr b="1" lang="en-US" sz="2400" spc="-1" strike="noStrike">
                <a:solidFill>
                  <a:srgbClr val="000000"/>
                </a:solidFill>
                <a:latin typeface="Verdana"/>
              </a:rPr>
              <a:t>mean</a:t>
            </a:r>
            <a:r>
              <a:rPr b="0" lang="en-US" sz="2400" spc="-1" strike="noStrike">
                <a:solidFill>
                  <a:srgbClr val="000000"/>
                </a:solidFill>
                <a:latin typeface="Verdana"/>
              </a:rPr>
              <a:t>, </a:t>
            </a:r>
            <a:r>
              <a:rPr b="1" lang="en-US" sz="2400" spc="-1" strike="noStrike">
                <a:solidFill>
                  <a:srgbClr val="000000"/>
                </a:solidFill>
                <a:latin typeface="Verdana"/>
              </a:rPr>
              <a:t>mode</a:t>
            </a:r>
            <a:r>
              <a:rPr b="0" lang="en-US" sz="2400" spc="-1" strike="noStrike">
                <a:solidFill>
                  <a:srgbClr val="000000"/>
                </a:solidFill>
                <a:latin typeface="Verdana"/>
              </a:rPr>
              <a:t> and </a:t>
            </a:r>
            <a:r>
              <a:rPr b="1" lang="en-US" sz="2400" spc="-1" strike="noStrike">
                <a:solidFill>
                  <a:srgbClr val="000000"/>
                </a:solidFill>
                <a:latin typeface="Verdana"/>
              </a:rPr>
              <a:t>median</a:t>
            </a:r>
            <a:r>
              <a:rPr b="0" lang="en-US" sz="2400" spc="-1" strike="noStrike">
                <a:solidFill>
                  <a:srgbClr val="000000"/>
                </a:solidFill>
                <a:latin typeface="Verdana"/>
              </a:rPr>
              <a:t> heights.</a:t>
            </a:r>
            <a:endParaRPr b="0" lang="en-US" sz="2400" spc="-1" strike="noStrike">
              <a:solidFill>
                <a:srgbClr val="000000"/>
              </a:solidFill>
              <a:latin typeface="Times New Roman"/>
            </a:endParaRPr>
          </a:p>
        </p:txBody>
      </p:sp>
      <p:sp>
        <p:nvSpPr>
          <p:cNvPr id="1260" name=""/>
          <p:cNvSpPr/>
          <p:nvPr/>
        </p:nvSpPr>
        <p:spPr>
          <a:xfrm>
            <a:off x="4572000" y="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751280" y="187920"/>
            <a:ext cx="198144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1262" name=""/>
          <p:cNvGrpSpPr/>
          <p:nvPr/>
        </p:nvGrpSpPr>
        <p:grpSpPr>
          <a:xfrm>
            <a:off x="4068720" y="192240"/>
            <a:ext cx="838080" cy="838080"/>
            <a:chOff x="4068720" y="192240"/>
            <a:chExt cx="838080" cy="838080"/>
          </a:xfrm>
        </p:grpSpPr>
        <p:sp>
          <p:nvSpPr>
            <p:cNvPr id="1263" name=""/>
            <p:cNvSpPr/>
            <p:nvPr/>
          </p:nvSpPr>
          <p:spPr>
            <a:xfrm>
              <a:off x="4068720" y="192240"/>
              <a:ext cx="83808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344480" y="32472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7" name=""/>
            <p:cNvSpPr/>
            <p:nvPr/>
          </p:nvSpPr>
          <p:spPr>
            <a:xfrm>
              <a:off x="4602240" y="65556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8"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9" name=""/>
            <p:cNvSpPr/>
            <p:nvPr/>
          </p:nvSpPr>
          <p:spPr>
            <a:xfrm>
              <a:off x="4594320" y="61452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0"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1" name=""/>
            <p:cNvSpPr/>
            <p:nvPr/>
          </p:nvSpPr>
          <p:spPr>
            <a:xfrm>
              <a:off x="4614480" y="56340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2"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3" name=""/>
            <p:cNvSpPr/>
            <p:nvPr/>
          </p:nvSpPr>
          <p:spPr>
            <a:xfrm>
              <a:off x="4736880" y="50004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4"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5" name=""/>
            <p:cNvSpPr/>
            <p:nvPr/>
          </p:nvSpPr>
          <p:spPr>
            <a:xfrm>
              <a:off x="4548240" y="60876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6"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7" name=""/>
            <p:cNvSpPr/>
            <p:nvPr/>
          </p:nvSpPr>
          <p:spPr>
            <a:xfrm>
              <a:off x="4545360" y="64620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8"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9" name=""/>
            <p:cNvSpPr/>
            <p:nvPr/>
          </p:nvSpPr>
          <p:spPr>
            <a:xfrm>
              <a:off x="4684680" y="54000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0"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1" name=""/>
            <p:cNvSpPr/>
            <p:nvPr/>
          </p:nvSpPr>
          <p:spPr>
            <a:xfrm>
              <a:off x="4496760" y="67752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2" name=""/>
            <p:cNvSpPr/>
            <p:nvPr/>
          </p:nvSpPr>
          <p:spPr>
            <a:xfrm>
              <a:off x="4410720" y="73368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653720" y="44964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5" name=""/>
            <p:cNvSpPr/>
            <p:nvPr/>
          </p:nvSpPr>
          <p:spPr>
            <a:xfrm>
              <a:off x="4550040" y="66564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6"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7" name=""/>
            <p:cNvSpPr/>
            <p:nvPr/>
          </p:nvSpPr>
          <p:spPr>
            <a:xfrm>
              <a:off x="4541760" y="62496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8"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9" name=""/>
            <p:cNvSpPr/>
            <p:nvPr/>
          </p:nvSpPr>
          <p:spPr>
            <a:xfrm>
              <a:off x="4561200" y="57384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0"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1" name=""/>
            <p:cNvSpPr/>
            <p:nvPr/>
          </p:nvSpPr>
          <p:spPr>
            <a:xfrm>
              <a:off x="4683960" y="51012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2"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3" name=""/>
            <p:cNvSpPr/>
            <p:nvPr/>
          </p:nvSpPr>
          <p:spPr>
            <a:xfrm>
              <a:off x="4494960" y="61884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4"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 name=""/>
            <p:cNvSpPr/>
            <p:nvPr/>
          </p:nvSpPr>
          <p:spPr>
            <a:xfrm>
              <a:off x="4493160" y="65628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6"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7" name=""/>
            <p:cNvSpPr/>
            <p:nvPr/>
          </p:nvSpPr>
          <p:spPr>
            <a:xfrm>
              <a:off x="4631760" y="55008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8"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9" name=""/>
            <p:cNvSpPr/>
            <p:nvPr/>
          </p:nvSpPr>
          <p:spPr>
            <a:xfrm>
              <a:off x="4443480" y="68760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0" name=""/>
            <p:cNvSpPr/>
            <p:nvPr/>
          </p:nvSpPr>
          <p:spPr>
            <a:xfrm>
              <a:off x="4298760" y="21672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298760" y="21672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36572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36572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399560" y="27972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399560" y="27972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433400" y="40536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433400" y="40536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467600" y="43704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467600" y="43704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501440" y="48456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1" name=""/>
            <p:cNvSpPr/>
            <p:nvPr/>
          </p:nvSpPr>
          <p:spPr>
            <a:xfrm>
              <a:off x="4501440" y="48456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2" name=""/>
            <p:cNvSpPr/>
            <p:nvPr/>
          </p:nvSpPr>
          <p:spPr>
            <a:xfrm>
              <a:off x="4332600" y="48456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3" name=""/>
            <p:cNvSpPr/>
            <p:nvPr/>
          </p:nvSpPr>
          <p:spPr>
            <a:xfrm>
              <a:off x="4332600" y="48456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4" name=""/>
            <p:cNvSpPr/>
            <p:nvPr/>
          </p:nvSpPr>
          <p:spPr>
            <a:xfrm>
              <a:off x="4323600" y="24804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332600" y="52380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6" name=""/>
            <p:cNvSpPr/>
            <p:nvPr/>
          </p:nvSpPr>
          <p:spPr>
            <a:xfrm>
              <a:off x="4109040" y="32652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285800" y="40788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285800" y="40788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4341960" y="31968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4396680" y="40788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396680" y="40788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230720" y="53748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4230720" y="53748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5" name=""/>
            <p:cNvSpPr/>
            <p:nvPr/>
          </p:nvSpPr>
          <p:spPr>
            <a:xfrm>
              <a:off x="4222800" y="35784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230720" y="60624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7" name=""/>
            <p:cNvSpPr/>
            <p:nvPr/>
          </p:nvSpPr>
          <p:spPr>
            <a:xfrm>
              <a:off x="4327200" y="635040"/>
              <a:ext cx="11988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359240" y="68508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4395240" y="695520"/>
              <a:ext cx="20412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362840" y="64440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31" name=""/>
            <p:cNvSpPr/>
            <p:nvPr/>
          </p:nvSpPr>
          <p:spPr>
            <a:xfrm>
              <a:off x="4198680" y="31536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4389480" y="40968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124520" y="58752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096800" y="34092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5"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336"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337" name=""/>
          <p:cNvSpPr/>
          <p:nvPr/>
        </p:nvSpPr>
        <p:spPr>
          <a:xfrm>
            <a:off x="0" y="6553080"/>
            <a:ext cx="9144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Location</a:t>
            </a:r>
            <a:endParaRPr b="0" lang="en-US" sz="500" spc="-1" strike="noStrike">
              <a:solidFill>
                <a:srgbClr val="000000"/>
              </a:solidFill>
              <a:latin typeface="Times New Roman"/>
            </a:endParaRPr>
          </a:p>
        </p:txBody>
      </p:sp>
      <p:sp>
        <p:nvSpPr>
          <p:cNvPr id="1339"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341" name=""/>
          <p:cNvSpPr/>
          <p:nvPr/>
        </p:nvSpPr>
        <p:spPr>
          <a:xfrm>
            <a:off x="6462720" y="5950080"/>
            <a:ext cx="1709640" cy="358560"/>
          </a:xfrm>
          <a:prstGeom prst="rect">
            <a:avLst/>
          </a:prstGeom>
          <a:solidFill>
            <a:srgbClr val="808080"/>
          </a:soli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2" name=""/>
          <p:cNvGrpSpPr/>
          <p:nvPr/>
        </p:nvGrpSpPr>
        <p:grpSpPr>
          <a:xfrm>
            <a:off x="6462720" y="5950080"/>
            <a:ext cx="1709640" cy="358560"/>
            <a:chOff x="6462720" y="5950080"/>
            <a:chExt cx="1709640" cy="358560"/>
          </a:xfrm>
        </p:grpSpPr>
        <p:sp>
          <p:nvSpPr>
            <p:cNvPr id="1343" name=""/>
            <p:cNvSpPr/>
            <p:nvPr/>
          </p:nvSpPr>
          <p:spPr>
            <a:xfrm>
              <a:off x="6462720" y="6308640"/>
              <a:ext cx="170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462720" y="5950080"/>
              <a:ext cx="0" cy="35676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8172360" y="5950080"/>
              <a:ext cx="0" cy="35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462720" y="5950080"/>
              <a:ext cx="170964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7" name=""/>
          <p:cNvSpPr/>
          <p:nvPr/>
        </p:nvSpPr>
        <p:spPr>
          <a:xfrm>
            <a:off x="6553080" y="6039000"/>
            <a:ext cx="153036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ntinue</a:t>
            </a:r>
            <a:endParaRPr b="0" lang="en-US" sz="1600" spc="-1" strike="noStrike">
              <a:solidFill>
                <a:srgbClr val="000000"/>
              </a:solidFill>
              <a:latin typeface="Times New Roman"/>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256"/>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125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125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25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259"/>
                                        </p:tgtEl>
                                        <p:attrNameLst>
                                          <p:attrName>style.visibility</p:attrName>
                                        </p:attrNameLst>
                                      </p:cBhvr>
                                      <p:to>
                                        <p:strVal val="visible"/>
                                      </p:to>
                                    </p:set>
                                  </p:childTnLst>
                                </p:cTn>
                              </p:par>
                            </p:childTnLst>
                          </p:cTn>
                        </p:par>
                        <p:par>
                          <p:cTn id="330" fill="hold">
                            <p:stCondLst>
                              <p:cond delay="500"/>
                            </p:stCondLst>
                            <p:childTnLst>
                              <p:par>
                                <p:cTn id="331" nodeType="afterEffect" fill="hold" presetClass="entr" presetID="1">
                                  <p:stCondLst>
                                    <p:cond delay="0"/>
                                  </p:stCondLst>
                                  <p:childTnLst>
                                    <p:set>
                                      <p:cBhvr>
                                        <p:cTn id="332" dur="1" fill="hold">
                                          <p:stCondLst>
                                            <p:cond delay="0"/>
                                          </p:stCondLst>
                                        </p:cTn>
                                        <p:tgtEl>
                                          <p:spTgt spid="134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34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66" name=""/>
          <p:cNvGrpSpPr/>
          <p:nvPr/>
        </p:nvGrpSpPr>
        <p:grpSpPr>
          <a:xfrm>
            <a:off x="1692360" y="277920"/>
            <a:ext cx="857160" cy="731880"/>
            <a:chOff x="1692360" y="277920"/>
            <a:chExt cx="857160" cy="731880"/>
          </a:xfrm>
        </p:grpSpPr>
        <p:sp>
          <p:nvSpPr>
            <p:cNvPr id="67"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pic>
        <p:nvPicPr>
          <p:cNvPr id="79" name="" descr=""/>
          <p:cNvPicPr/>
          <p:nvPr/>
        </p:nvPicPr>
        <p:blipFill>
          <a:blip r:embed="rId1"/>
          <a:stretch/>
        </p:blipFill>
        <p:spPr>
          <a:xfrm>
            <a:off x="770040" y="2033640"/>
            <a:ext cx="2421000" cy="3384360"/>
          </a:xfrm>
          <a:prstGeom prst="rect">
            <a:avLst/>
          </a:prstGeom>
          <a:ln w="0">
            <a:noFill/>
          </a:ln>
        </p:spPr>
      </p:pic>
      <p:pic>
        <p:nvPicPr>
          <p:cNvPr id="80" name="" descr=""/>
          <p:cNvPicPr/>
          <p:nvPr/>
        </p:nvPicPr>
        <p:blipFill>
          <a:blip r:embed="rId2"/>
          <a:stretch/>
        </p:blipFill>
        <p:spPr>
          <a:xfrm>
            <a:off x="5738760" y="2033640"/>
            <a:ext cx="2587680" cy="3311640"/>
          </a:xfrm>
          <a:prstGeom prst="rect">
            <a:avLst/>
          </a:prstGeom>
          <a:ln w="0">
            <a:noFill/>
          </a:ln>
        </p:spPr>
      </p:pic>
      <p:sp>
        <p:nvSpPr>
          <p:cNvPr id="81" name=""/>
          <p:cNvSpPr/>
          <p:nvPr/>
        </p:nvSpPr>
        <p:spPr>
          <a:xfrm>
            <a:off x="611280" y="5589720"/>
            <a:ext cx="799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lice thought that the footprint was not that useful.</a:t>
            </a:r>
            <a:endParaRPr b="0" lang="en-US" sz="2200" spc="-1" strike="noStrike">
              <a:solidFill>
                <a:srgbClr val="000000"/>
              </a:solidFill>
              <a:latin typeface="Times New Roman"/>
            </a:endParaRPr>
          </a:p>
        </p:txBody>
      </p:sp>
      <p:pic>
        <p:nvPicPr>
          <p:cNvPr id="82" name="" descr=""/>
          <p:cNvPicPr/>
          <p:nvPr/>
        </p:nvPicPr>
        <p:blipFill>
          <a:blip r:embed="rId3"/>
          <a:stretch/>
        </p:blipFill>
        <p:spPr>
          <a:xfrm>
            <a:off x="3362400" y="2033640"/>
            <a:ext cx="2178000" cy="3384360"/>
          </a:xfrm>
          <a:prstGeom prst="rect">
            <a:avLst/>
          </a:prstGeom>
          <a:ln w="0">
            <a:noFill/>
          </a:ln>
        </p:spPr>
      </p:pic>
      <p:sp>
        <p:nvSpPr>
          <p:cNvPr id="83"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8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85"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Initial problem</a:t>
            </a:r>
            <a:endParaRPr b="0" lang="en-US" sz="500" spc="-1" strike="noStrike">
              <a:solidFill>
                <a:srgbClr val="000000"/>
              </a:solidFill>
              <a:latin typeface="Times New Roman"/>
            </a:endParaRPr>
          </a:p>
        </p:txBody>
      </p:sp>
      <p:pic>
        <p:nvPicPr>
          <p:cNvPr id="87" name="" descr=""/>
          <p:cNvPicPr/>
          <p:nvPr/>
        </p:nvPicPr>
        <p:blipFill>
          <a:blip r:embed="rId4"/>
          <a:stretch/>
        </p:blipFill>
        <p:spPr>
          <a:xfrm>
            <a:off x="4721400" y="5037120"/>
            <a:ext cx="285480" cy="260280"/>
          </a:xfrm>
          <a:prstGeom prst="rect">
            <a:avLst/>
          </a:prstGeom>
          <a:ln w="0">
            <a:noFill/>
          </a:ln>
          <a:effectLst>
            <a:outerShdw dist="17819" dir="2700000" blurRad="0" rotWithShape="0">
              <a:srgbClr val="808080">
                <a:alpha val="50000"/>
              </a:srgbClr>
            </a:outerShdw>
          </a:effectLst>
        </p:spPr>
      </p:pic>
      <p:sp>
        <p:nvSpPr>
          <p:cNvPr id="88"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
          <p:cNvSpPr/>
          <p:nvPr/>
        </p:nvSpPr>
        <p:spPr>
          <a:xfrm>
            <a:off x="1546200" y="3303720"/>
            <a:ext cx="2286000" cy="1025280"/>
          </a:xfrm>
          <a:prstGeom prst="rect">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1350" name=""/>
          <p:cNvGrpSpPr/>
          <p:nvPr/>
        </p:nvGrpSpPr>
        <p:grpSpPr>
          <a:xfrm>
            <a:off x="1150560" y="2798640"/>
            <a:ext cx="965160" cy="839880"/>
            <a:chOff x="1150560" y="2798640"/>
            <a:chExt cx="965160" cy="839880"/>
          </a:xfrm>
        </p:grpSpPr>
        <p:sp>
          <p:nvSpPr>
            <p:cNvPr id="1351"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355"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3311640" y="4602240"/>
            <a:ext cx="2286000" cy="907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1358" name=""/>
          <p:cNvGrpSpPr/>
          <p:nvPr/>
        </p:nvGrpSpPr>
        <p:grpSpPr>
          <a:xfrm>
            <a:off x="3220920" y="5229360"/>
            <a:ext cx="838440" cy="838080"/>
            <a:chOff x="3220920" y="5229360"/>
            <a:chExt cx="838440" cy="838080"/>
          </a:xfrm>
        </p:grpSpPr>
        <p:sp>
          <p:nvSpPr>
            <p:cNvPr id="1359"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3"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4"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5"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6"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7"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8"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9"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0"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1"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2"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3"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4"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5"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76"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7"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8"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1"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2"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3"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4"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5"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6"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7"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8"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9"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0"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1"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2"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3"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4"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5"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6"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07"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08"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09"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410"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2"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0"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1"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23"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27"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1436"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437"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438"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1439"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441" name=""/>
          <p:cNvGrpSpPr/>
          <p:nvPr/>
        </p:nvGrpSpPr>
        <p:grpSpPr>
          <a:xfrm>
            <a:off x="4842000" y="1628640"/>
            <a:ext cx="857160" cy="731880"/>
            <a:chOff x="4842000" y="1628640"/>
            <a:chExt cx="857160" cy="731880"/>
          </a:xfrm>
        </p:grpSpPr>
        <p:sp>
          <p:nvSpPr>
            <p:cNvPr id="1442"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5"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5111640" y="3338640"/>
            <a:ext cx="2286000" cy="9903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1453" name=""/>
          <p:cNvGrpSpPr/>
          <p:nvPr/>
        </p:nvGrpSpPr>
        <p:grpSpPr>
          <a:xfrm>
            <a:off x="6641640" y="3517920"/>
            <a:ext cx="1143000" cy="838080"/>
            <a:chOff x="6641640" y="3517920"/>
            <a:chExt cx="1143000" cy="838080"/>
          </a:xfrm>
        </p:grpSpPr>
        <p:sp>
          <p:nvSpPr>
            <p:cNvPr id="1454"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1"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2"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3"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5"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1477" name=""/>
          <p:cNvSpPr/>
          <p:nvPr/>
        </p:nvSpPr>
        <p:spPr>
          <a:xfrm>
            <a:off x="0" y="819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1478" name=""/>
          <p:cNvSpPr/>
          <p:nvPr/>
        </p:nvSpPr>
        <p:spPr>
          <a:xfrm rot="16200000">
            <a:off x="2411280" y="2619360"/>
            <a:ext cx="1620720" cy="1439640"/>
          </a:xfrm>
          <a:custGeom>
            <a:avLst/>
            <a:gdLst>
              <a:gd name="textAreaLeft" fmla="*/ 0 w 1620720"/>
              <a:gd name="textAreaRight" fmla="*/ 1621080 w 1620720"/>
              <a:gd name="textAreaTop" fmla="*/ 0 h 1439640"/>
              <a:gd name="textAreaBottom" fmla="*/ 1440000 h 143964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rot="10800000">
            <a:off x="2502000" y="387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rot="5194800">
            <a:off x="4930560" y="3608280"/>
            <a:ext cx="1620720" cy="1440000"/>
          </a:xfrm>
          <a:custGeom>
            <a:avLst/>
            <a:gdLst>
              <a:gd name="textAreaLeft" fmla="*/ 0 w 1620720"/>
              <a:gd name="textAreaRight" fmla="*/ 1621080 w 162072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0" y="6553080"/>
            <a:ext cx="9144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
                                  <p:stCondLst>
                                    <p:cond delay="0"/>
                                  </p:stCondLst>
                                  <p:childTnLst>
                                    <p:set>
                                      <p:cBhvr>
                                        <p:cTn id="342" dur="1" fill="hold">
                                          <p:stCondLst>
                                            <p:cond delay="0"/>
                                          </p:stCondLst>
                                        </p:cTn>
                                        <p:tgtEl>
                                          <p:spTgt spid="1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622840" y="340344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Injuries?</a:t>
            </a:r>
            <a:endParaRPr b="0" lang="en-US" sz="3200" spc="-1" strike="noStrike">
              <a:solidFill>
                <a:srgbClr val="000000"/>
              </a:solidFill>
              <a:latin typeface="Times New Roman"/>
            </a:endParaRPr>
          </a:p>
        </p:txBody>
      </p:sp>
      <p:sp>
        <p:nvSpPr>
          <p:cNvPr id="91" name=""/>
          <p:cNvSpPr/>
          <p:nvPr/>
        </p:nvSpPr>
        <p:spPr>
          <a:xfrm>
            <a:off x="1144440" y="2235240"/>
            <a:ext cx="2160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Gender?</a:t>
            </a:r>
            <a:endParaRPr b="0" lang="en-US" sz="3200" spc="-1" strike="noStrike">
              <a:solidFill>
                <a:srgbClr val="000000"/>
              </a:solidFill>
              <a:latin typeface="Times New Roman"/>
            </a:endParaRPr>
          </a:p>
        </p:txBody>
      </p:sp>
      <p:sp>
        <p:nvSpPr>
          <p:cNvPr id="92" name=""/>
          <p:cNvSpPr/>
          <p:nvPr/>
        </p:nvSpPr>
        <p:spPr>
          <a:xfrm>
            <a:off x="1216080" y="4538520"/>
            <a:ext cx="2160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Age?</a:t>
            </a:r>
            <a:endParaRPr b="0" lang="en-US" sz="3200" spc="-1" strike="noStrike">
              <a:solidFill>
                <a:srgbClr val="000000"/>
              </a:solidFill>
              <a:latin typeface="Times New Roman"/>
            </a:endParaRPr>
          </a:p>
        </p:txBody>
      </p:sp>
      <p:sp>
        <p:nvSpPr>
          <p:cNvPr id="93" name=""/>
          <p:cNvSpPr/>
          <p:nvPr/>
        </p:nvSpPr>
        <p:spPr>
          <a:xfrm>
            <a:off x="5608800" y="22352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Height?</a:t>
            </a:r>
            <a:endParaRPr b="0" lang="en-US" sz="3200" spc="-1" strike="noStrike">
              <a:solidFill>
                <a:srgbClr val="000000"/>
              </a:solidFill>
              <a:latin typeface="Times New Roman"/>
            </a:endParaRPr>
          </a:p>
        </p:txBody>
      </p:sp>
      <p:sp>
        <p:nvSpPr>
          <p:cNvPr id="94" name=""/>
          <p:cNvSpPr/>
          <p:nvPr/>
        </p:nvSpPr>
        <p:spPr>
          <a:xfrm>
            <a:off x="5608800" y="460836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Weight?</a:t>
            </a:r>
            <a:endParaRPr b="0" lang="en-US" sz="3200" spc="-1" strike="noStrike">
              <a:solidFill>
                <a:srgbClr val="000000"/>
              </a:solidFill>
              <a:latin typeface="Times New Roman"/>
            </a:endParaRPr>
          </a:p>
        </p:txBody>
      </p:sp>
      <p:sp>
        <p:nvSpPr>
          <p:cNvPr id="95" name=""/>
          <p:cNvSpPr/>
          <p:nvPr/>
        </p:nvSpPr>
        <p:spPr>
          <a:xfrm>
            <a:off x="784080" y="3314880"/>
            <a:ext cx="2592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Shoe size!</a:t>
            </a:r>
            <a:endParaRPr b="0" lang="en-US" sz="3200" spc="-1" strike="noStrike">
              <a:solidFill>
                <a:srgbClr val="000000"/>
              </a:solidFill>
              <a:latin typeface="Times New Roman"/>
            </a:endParaRPr>
          </a:p>
        </p:txBody>
      </p:sp>
      <p:sp>
        <p:nvSpPr>
          <p:cNvPr id="96"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00" name=""/>
          <p:cNvGrpSpPr/>
          <p:nvPr/>
        </p:nvGrpSpPr>
        <p:grpSpPr>
          <a:xfrm>
            <a:off x="1692360" y="277920"/>
            <a:ext cx="857160" cy="731880"/>
            <a:chOff x="1692360" y="277920"/>
            <a:chExt cx="857160" cy="731880"/>
          </a:xfrm>
        </p:grpSpPr>
        <p:sp>
          <p:nvSpPr>
            <p:cNvPr id="101"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111" name=""/>
          <p:cNvSpPr/>
          <p:nvPr/>
        </p:nvSpPr>
        <p:spPr>
          <a:xfrm>
            <a:off x="554040" y="5634000"/>
            <a:ext cx="79916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could the footprint tell us about the thief?</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3362400" y="2033640"/>
            <a:ext cx="2178000" cy="3384360"/>
          </a:xfrm>
          <a:prstGeom prst="rect">
            <a:avLst/>
          </a:prstGeom>
          <a:ln w="0">
            <a:noFill/>
          </a:ln>
        </p:spPr>
      </p:pic>
      <p:grpSp>
        <p:nvGrpSpPr>
          <p:cNvPr id="113" name=""/>
          <p:cNvGrpSpPr/>
          <p:nvPr/>
        </p:nvGrpSpPr>
        <p:grpSpPr>
          <a:xfrm>
            <a:off x="7812000" y="5229360"/>
            <a:ext cx="990720" cy="839520"/>
            <a:chOff x="7812000" y="5229360"/>
            <a:chExt cx="990720" cy="839520"/>
          </a:xfrm>
        </p:grpSpPr>
        <p:sp>
          <p:nvSpPr>
            <p:cNvPr id="114" name=""/>
            <p:cNvSpPr/>
            <p:nvPr/>
          </p:nvSpPr>
          <p:spPr>
            <a:xfrm>
              <a:off x="7812000" y="5229360"/>
              <a:ext cx="990720" cy="83952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848720" y="5275440"/>
              <a:ext cx="917280" cy="71928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8044560" y="5448960"/>
              <a:ext cx="5544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130600" y="5518800"/>
              <a:ext cx="48492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8" name=""/>
            <p:cNvSpPr/>
            <p:nvPr/>
          </p:nvSpPr>
          <p:spPr>
            <a:xfrm flipH="1">
              <a:off x="7999920" y="5589000"/>
              <a:ext cx="603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20"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21"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Footprint reveals?</a:t>
            </a:r>
            <a:endParaRPr b="0" lang="en-US" sz="500" spc="-1" strike="noStrike">
              <a:solidFill>
                <a:srgbClr val="000000"/>
              </a:solidFill>
              <a:latin typeface="Times New Roman"/>
            </a:endParaRPr>
          </a:p>
        </p:txBody>
      </p:sp>
      <p:sp>
        <p:nvSpPr>
          <p:cNvPr id="123"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11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1"/>
                                        </p:tgtEl>
                                        <p:attrNameLst>
                                          <p:attrName>style.visibility</p:attrName>
                                        </p:attrNameLst>
                                      </p:cBhvr>
                                      <p:to>
                                        <p:strVal val="visible"/>
                                      </p:to>
                                    </p:set>
                                  </p:childTnLst>
                                </p:cTn>
                              </p:par>
                              <p:par>
                                <p:cTn id="43" nodeType="withEffect" fill="hold" presetClass="exit" presetID="1">
                                  <p:stCondLst>
                                    <p:cond delay="0"/>
                                  </p:stCondLst>
                                  <p:childTnLst>
                                    <p:set>
                                      <p:cBhvr>
                                        <p:cTn id="44" dur="1" fill="hold">
                                          <p:stCondLst>
                                            <p:cond delay="0"/>
                                          </p:stCondLst>
                                        </p:cTn>
                                        <p:tgtEl>
                                          <p:spTgt spid="113"/>
                                        </p:tgtEl>
                                        <p:attrNameLst>
                                          <p:attrName>style.visibility</p:attrName>
                                        </p:attrNameLst>
                                      </p:cBhvr>
                                      <p:to>
                                        <p:strVal val="hidden"/>
                                      </p:to>
                                    </p:set>
                                  </p:childTnLst>
                                </p:cTn>
                              </p:par>
                            </p:childTnLst>
                          </p:cTn>
                        </p:par>
                        <p:par>
                          <p:cTn id="45" fill="hold">
                            <p:stCondLst>
                              <p:cond delay="500"/>
                            </p:stCondLst>
                            <p:childTnLst>
                              <p:par>
                                <p:cTn id="46" nodeType="afterEffect" fill="hold" presetClass="entr" presetID="1">
                                  <p:stCondLst>
                                    <p:cond delay="300"/>
                                  </p:stCondLst>
                                  <p:childTnLst>
                                    <p:set>
                                      <p:cBhvr>
                                        <p:cTn id="47" dur="1" fill="hold">
                                          <p:stCondLst>
                                            <p:cond delay="499"/>
                                          </p:stCondLst>
                                        </p:cTn>
                                        <p:tgtEl>
                                          <p:spTgt spid="92"/>
                                        </p:tgtEl>
                                        <p:attrNameLst>
                                          <p:attrName>style.visibility</p:attrName>
                                        </p:attrNameLst>
                                      </p:cBhvr>
                                      <p:to>
                                        <p:strVal val="visible"/>
                                      </p:to>
                                    </p:set>
                                  </p:childTnLst>
                                </p:cTn>
                              </p:par>
                            </p:childTnLst>
                          </p:cTn>
                        </p:par>
                        <p:par>
                          <p:cTn id="48" fill="hold">
                            <p:stCondLst>
                              <p:cond delay="1300"/>
                            </p:stCondLst>
                            <p:childTnLst>
                              <p:par>
                                <p:cTn id="49" nodeType="afterEffect" fill="hold" presetClass="entr" presetID="1">
                                  <p:stCondLst>
                                    <p:cond delay="300"/>
                                  </p:stCondLst>
                                  <p:childTnLst>
                                    <p:set>
                                      <p:cBhvr>
                                        <p:cTn id="50" dur="1" fill="hold">
                                          <p:stCondLst>
                                            <p:cond delay="499"/>
                                          </p:stCondLst>
                                        </p:cTn>
                                        <p:tgtEl>
                                          <p:spTgt spid="93"/>
                                        </p:tgtEl>
                                        <p:attrNameLst>
                                          <p:attrName>style.visibility</p:attrName>
                                        </p:attrNameLst>
                                      </p:cBhvr>
                                      <p:to>
                                        <p:strVal val="visible"/>
                                      </p:to>
                                    </p:set>
                                  </p:childTnLst>
                                </p:cTn>
                              </p:par>
                            </p:childTnLst>
                          </p:cTn>
                        </p:par>
                        <p:par>
                          <p:cTn id="51" fill="hold">
                            <p:stCondLst>
                              <p:cond delay="2100"/>
                            </p:stCondLst>
                            <p:childTnLst>
                              <p:par>
                                <p:cTn id="52" nodeType="afterEffect" fill="hold" presetClass="entr" presetID="1">
                                  <p:stCondLst>
                                    <p:cond delay="300"/>
                                  </p:stCondLst>
                                  <p:childTnLst>
                                    <p:set>
                                      <p:cBhvr>
                                        <p:cTn id="53" dur="1" fill="hold">
                                          <p:stCondLst>
                                            <p:cond delay="499"/>
                                          </p:stCondLst>
                                        </p:cTn>
                                        <p:tgtEl>
                                          <p:spTgt spid="94"/>
                                        </p:tgtEl>
                                        <p:attrNameLst>
                                          <p:attrName>style.visibility</p:attrName>
                                        </p:attrNameLst>
                                      </p:cBhvr>
                                      <p:to>
                                        <p:strVal val="visible"/>
                                      </p:to>
                                    </p:set>
                                  </p:childTnLst>
                                </p:cTn>
                              </p:par>
                            </p:childTnLst>
                          </p:cTn>
                        </p:par>
                        <p:par>
                          <p:cTn id="54" fill="hold">
                            <p:stCondLst>
                              <p:cond delay="2900"/>
                            </p:stCondLst>
                            <p:childTnLst>
                              <p:par>
                                <p:cTn id="55" nodeType="afterEffect" fill="hold" presetClass="entr" presetID="1">
                                  <p:stCondLst>
                                    <p:cond delay="300"/>
                                  </p:stCondLst>
                                  <p:childTnLst>
                                    <p:set>
                                      <p:cBhvr>
                                        <p:cTn id="56" dur="1" fill="hold">
                                          <p:stCondLst>
                                            <p:cond delay="499"/>
                                          </p:stCondLst>
                                        </p:cTn>
                                        <p:tgtEl>
                                          <p:spTgt spid="90"/>
                                        </p:tgtEl>
                                        <p:attrNameLst>
                                          <p:attrName>style.visibility</p:attrName>
                                        </p:attrNameLst>
                                      </p:cBhvr>
                                      <p:to>
                                        <p:strVal val="visible"/>
                                      </p:to>
                                    </p:set>
                                  </p:childTnLst>
                                </p:cTn>
                              </p:par>
                            </p:childTnLst>
                          </p:cTn>
                        </p:par>
                        <p:par>
                          <p:cTn id="57" fill="hold">
                            <p:stCondLst>
                              <p:cond delay="3700"/>
                            </p:stCondLst>
                            <p:childTnLst>
                              <p:par>
                                <p:cTn id="58" nodeType="afterEffect" fill="hold" presetClass="entr" presetID="1">
                                  <p:stCondLst>
                                    <p:cond delay="300"/>
                                  </p:stCondLst>
                                  <p:childTnLst>
                                    <p:set>
                                      <p:cBhvr>
                                        <p:cTn id="59"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54040" y="5634000"/>
            <a:ext cx="79916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could the footprint tell us about the thief?</a:t>
            </a:r>
            <a:endParaRPr b="0" lang="en-US" sz="2400" spc="-1" strike="noStrike">
              <a:solidFill>
                <a:srgbClr val="000000"/>
              </a:solidFill>
              <a:latin typeface="Times New Roman"/>
            </a:endParaRPr>
          </a:p>
        </p:txBody>
      </p:sp>
      <p:sp>
        <p:nvSpPr>
          <p:cNvPr id="126" name=""/>
          <p:cNvSpPr/>
          <p:nvPr/>
        </p:nvSpPr>
        <p:spPr>
          <a:xfrm>
            <a:off x="568440" y="5629320"/>
            <a:ext cx="79912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well are these measurements related?</a:t>
            </a:r>
            <a:endParaRPr b="0" lang="en-US" sz="2400" spc="-1" strike="noStrike">
              <a:solidFill>
                <a:srgbClr val="000000"/>
              </a:solidFill>
              <a:latin typeface="Times New Roman"/>
            </a:endParaRPr>
          </a:p>
        </p:txBody>
      </p:sp>
      <p:sp>
        <p:nvSpPr>
          <p:cNvPr id="127" name=""/>
          <p:cNvSpPr/>
          <p:nvPr/>
        </p:nvSpPr>
        <p:spPr>
          <a:xfrm>
            <a:off x="1144440" y="2235240"/>
            <a:ext cx="2160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Gender?</a:t>
            </a:r>
            <a:endParaRPr b="0" lang="en-US" sz="3200" spc="-1" strike="noStrike">
              <a:solidFill>
                <a:srgbClr val="000000"/>
              </a:solidFill>
              <a:latin typeface="Times New Roman"/>
            </a:endParaRPr>
          </a:p>
        </p:txBody>
      </p:sp>
      <p:sp>
        <p:nvSpPr>
          <p:cNvPr id="128" name=""/>
          <p:cNvSpPr/>
          <p:nvPr/>
        </p:nvSpPr>
        <p:spPr>
          <a:xfrm>
            <a:off x="1216080" y="4538520"/>
            <a:ext cx="2160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Age?</a:t>
            </a:r>
            <a:endParaRPr b="0" lang="en-US" sz="3200" spc="-1" strike="noStrike">
              <a:solidFill>
                <a:srgbClr val="000000"/>
              </a:solidFill>
              <a:latin typeface="Times New Roman"/>
            </a:endParaRPr>
          </a:p>
        </p:txBody>
      </p:sp>
      <p:sp>
        <p:nvSpPr>
          <p:cNvPr id="129" name=""/>
          <p:cNvSpPr/>
          <p:nvPr/>
        </p:nvSpPr>
        <p:spPr>
          <a:xfrm>
            <a:off x="5608800" y="22352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Height?</a:t>
            </a:r>
            <a:endParaRPr b="0" lang="en-US" sz="3200" spc="-1" strike="noStrike">
              <a:solidFill>
                <a:srgbClr val="000000"/>
              </a:solidFill>
              <a:latin typeface="Times New Roman"/>
            </a:endParaRPr>
          </a:p>
        </p:txBody>
      </p:sp>
      <p:sp>
        <p:nvSpPr>
          <p:cNvPr id="130" name=""/>
          <p:cNvSpPr/>
          <p:nvPr/>
        </p:nvSpPr>
        <p:spPr>
          <a:xfrm>
            <a:off x="5608800" y="460836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Weight?</a:t>
            </a:r>
            <a:endParaRPr b="0" lang="en-US" sz="3200" spc="-1" strike="noStrike">
              <a:solidFill>
                <a:srgbClr val="000000"/>
              </a:solidFill>
              <a:latin typeface="Times New Roman"/>
            </a:endParaRPr>
          </a:p>
        </p:txBody>
      </p:sp>
      <p:pic>
        <p:nvPicPr>
          <p:cNvPr id="131" name="" descr=""/>
          <p:cNvPicPr/>
          <p:nvPr/>
        </p:nvPicPr>
        <p:blipFill>
          <a:blip r:embed="rId1"/>
          <a:stretch/>
        </p:blipFill>
        <p:spPr>
          <a:xfrm>
            <a:off x="3362400" y="2033640"/>
            <a:ext cx="2178000" cy="3384360"/>
          </a:xfrm>
          <a:prstGeom prst="rect">
            <a:avLst/>
          </a:prstGeom>
          <a:ln w="0">
            <a:noFill/>
          </a:ln>
        </p:spPr>
      </p:pic>
      <p:sp>
        <p:nvSpPr>
          <p:cNvPr id="132" name=""/>
          <p:cNvSpPr/>
          <p:nvPr/>
        </p:nvSpPr>
        <p:spPr>
          <a:xfrm>
            <a:off x="3266640" y="3338640"/>
            <a:ext cx="25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Foot length</a:t>
            </a:r>
            <a:endParaRPr b="0" lang="en-US" sz="3200" spc="-1" strike="noStrike">
              <a:solidFill>
                <a:srgbClr val="000000"/>
              </a:solidFill>
              <a:latin typeface="Times New Roman"/>
            </a:endParaRPr>
          </a:p>
        </p:txBody>
      </p:sp>
      <p:sp>
        <p:nvSpPr>
          <p:cNvPr id="133" name=""/>
          <p:cNvSpPr/>
          <p:nvPr/>
        </p:nvSpPr>
        <p:spPr>
          <a:xfrm rot="2715000">
            <a:off x="2922840" y="2856600"/>
            <a:ext cx="792000" cy="431640"/>
          </a:xfrm>
          <a:prstGeom prst="leftRightArrow">
            <a:avLst>
              <a:gd name="adj1" fmla="val 50000"/>
              <a:gd name="adj2" fmla="val 36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715000">
            <a:off x="5155560" y="4151520"/>
            <a:ext cx="792360" cy="432000"/>
          </a:xfrm>
          <a:prstGeom prst="leftRightArrow">
            <a:avLst>
              <a:gd name="adj1" fmla="val 50000"/>
              <a:gd name="adj2" fmla="val 365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90600">
            <a:off x="2959200" y="4044600"/>
            <a:ext cx="792000" cy="431640"/>
          </a:xfrm>
          <a:prstGeom prst="leftRightArrow">
            <a:avLst>
              <a:gd name="adj1" fmla="val 50000"/>
              <a:gd name="adj2" fmla="val 36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8990600">
            <a:off x="5046480" y="2820960"/>
            <a:ext cx="792000" cy="432000"/>
          </a:xfrm>
          <a:prstGeom prst="leftRightArrow">
            <a:avLst>
              <a:gd name="adj1" fmla="val 50000"/>
              <a:gd name="adj2" fmla="val 364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41" name=""/>
          <p:cNvGrpSpPr/>
          <p:nvPr/>
        </p:nvGrpSpPr>
        <p:grpSpPr>
          <a:xfrm>
            <a:off x="1692360" y="277920"/>
            <a:ext cx="857160" cy="731880"/>
            <a:chOff x="1692360" y="277920"/>
            <a:chExt cx="857160" cy="731880"/>
          </a:xfrm>
        </p:grpSpPr>
        <p:sp>
          <p:nvSpPr>
            <p:cNvPr id="142"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grpSp>
        <p:nvGrpSpPr>
          <p:cNvPr id="152" name=""/>
          <p:cNvGrpSpPr/>
          <p:nvPr/>
        </p:nvGrpSpPr>
        <p:grpSpPr>
          <a:xfrm>
            <a:off x="7812000" y="5049720"/>
            <a:ext cx="989280" cy="839880"/>
            <a:chOff x="7812000" y="5049720"/>
            <a:chExt cx="989280" cy="839880"/>
          </a:xfrm>
        </p:grpSpPr>
        <p:sp>
          <p:nvSpPr>
            <p:cNvPr id="153" name=""/>
            <p:cNvSpPr/>
            <p:nvPr/>
          </p:nvSpPr>
          <p:spPr>
            <a:xfrm>
              <a:off x="7812000" y="5049720"/>
              <a:ext cx="98928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849080" y="5095800"/>
              <a:ext cx="91584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8044200" y="5269320"/>
              <a:ext cx="553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8129880" y="5339520"/>
              <a:ext cx="48420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57" name=""/>
            <p:cNvSpPr/>
            <p:nvPr/>
          </p:nvSpPr>
          <p:spPr>
            <a:xfrm flipH="1">
              <a:off x="7999200" y="5409720"/>
              <a:ext cx="6026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59"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60"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Strength of link?</a:t>
            </a:r>
            <a:endParaRPr b="0" lang="en-US" sz="500" spc="-1" strike="noStrike">
              <a:solidFill>
                <a:srgbClr val="000000"/>
              </a:solidFill>
              <a:latin typeface="Times New Roman"/>
            </a:endParaRPr>
          </a:p>
        </p:txBody>
      </p:sp>
      <p:sp>
        <p:nvSpPr>
          <p:cNvPr id="16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xit" presetID="10">
                                  <p:stCondLst>
                                    <p:cond delay="0"/>
                                  </p:stCondLst>
                                  <p:childTnLst>
                                    <p:animEffect filter="fade" transition="out">
                                      <p:cBhvr additive="repl">
                                        <p:cTn id="65" dur="1000"/>
                                        <p:tgtEl>
                                          <p:spTgt spid="131"/>
                                        </p:tgtEl>
                                      </p:cBhvr>
                                    </p:animEffect>
                                    <p:set>
                                      <p:cBhvr>
                                        <p:cTn id="66" dur="1" fill="hold">
                                          <p:stCondLst>
                                            <p:cond delay="999"/>
                                          </p:stCondLst>
                                        </p:cTn>
                                        <p:tgtEl>
                                          <p:spTgt spid="131"/>
                                        </p:tgtEl>
                                        <p:attrNameLst>
                                          <p:attrName>style.visibility</p:attrName>
                                        </p:attrNameLst>
                                      </p:cBhvr>
                                      <p:to>
                                        <p:strVal val="hidden"/>
                                      </p:to>
                                    </p:se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0"/>
                                          </p:stCondLst>
                                        </p:cTn>
                                        <p:tgtEl>
                                          <p:spTgt spid="132"/>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1">
                                  <p:stCondLst>
                                    <p:cond delay="0"/>
                                  </p:stCondLst>
                                  <p:childTnLst>
                                    <p:set>
                                      <p:cBhvr>
                                        <p:cTn id="72" dur="1" fill="hold">
                                          <p:stCondLst>
                                            <p:cond delay="0"/>
                                          </p:stCondLst>
                                        </p:cTn>
                                        <p:tgtEl>
                                          <p:spTgt spid="133"/>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0"/>
                                          </p:stCondLst>
                                        </p:cTn>
                                        <p:tgtEl>
                                          <p:spTgt spid="136"/>
                                        </p:tgtEl>
                                        <p:attrNameLst>
                                          <p:attrName>style.visibility</p:attrName>
                                        </p:attrNameLst>
                                      </p:cBhvr>
                                      <p:to>
                                        <p:strVal val="visible"/>
                                      </p:to>
                                    </p:set>
                                  </p:childTnLst>
                                </p:cTn>
                              </p:par>
                            </p:childTnLst>
                          </p:cTn>
                        </p:par>
                        <p:par>
                          <p:cTn id="76" fill="hold">
                            <p:stCondLst>
                              <p:cond delay="1000"/>
                            </p:stCondLst>
                            <p:childTnLst>
                              <p:par>
                                <p:cTn id="77" nodeType="afterEffect" fill="hold" presetClass="entr" presetID="1">
                                  <p:stCondLst>
                                    <p:cond delay="0"/>
                                  </p:stCondLst>
                                  <p:childTnLst>
                                    <p:set>
                                      <p:cBhvr>
                                        <p:cTn id="78" dur="1" fill="hold">
                                          <p:stCondLst>
                                            <p:cond delay="0"/>
                                          </p:stCondLst>
                                        </p:cTn>
                                        <p:tgtEl>
                                          <p:spTgt spid="135"/>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0"/>
                                          </p:stCondLst>
                                        </p:cTn>
                                        <p:tgtEl>
                                          <p:spTgt spid="134"/>
                                        </p:tgtEl>
                                        <p:attrNameLst>
                                          <p:attrName>style.visibility</p:attrName>
                                        </p:attrNameLst>
                                      </p:cBhvr>
                                      <p:to>
                                        <p:strVal val="visible"/>
                                      </p:to>
                                    </p:set>
                                  </p:childTnLst>
                                </p:cTn>
                              </p:par>
                              <p:par>
                                <p:cTn id="82" nodeType="withEffect" fill="hold" presetClass="exit" presetID="10">
                                  <p:stCondLst>
                                    <p:cond delay="0"/>
                                  </p:stCondLst>
                                  <p:childTnLst>
                                    <p:animEffect filter="fade" transition="out">
                                      <p:cBhvr additive="repl">
                                        <p:cTn id="83" dur="500"/>
                                        <p:tgtEl>
                                          <p:spTgt spid="125"/>
                                        </p:tgtEl>
                                      </p:cBhvr>
                                    </p:animEffect>
                                    <p:set>
                                      <p:cBhvr>
                                        <p:cTn id="84" dur="1" fill="hold">
                                          <p:stCondLst>
                                            <p:cond delay="499"/>
                                          </p:stCondLst>
                                        </p:cTn>
                                        <p:tgtEl>
                                          <p:spTgt spid="125"/>
                                        </p:tgtEl>
                                        <p:attrNameLst>
                                          <p:attrName>style.visibility</p:attrName>
                                        </p:attrNameLst>
                                      </p:cBhvr>
                                      <p:to>
                                        <p:strVal val="hidden"/>
                                      </p:to>
                                    </p:set>
                                  </p:childTnLst>
                                </p:cTn>
                              </p:par>
                            </p:childTnLst>
                          </p:cTn>
                        </p:par>
                        <p:par>
                          <p:cTn id="85" fill="hold">
                            <p:stCondLst>
                              <p:cond delay="1500"/>
                            </p:stCondLst>
                            <p:childTnLst>
                              <p:par>
                                <p:cTn id="86" nodeType="afterEffect" fill="hold" presetClass="entr" presetID="1">
                                  <p:stCondLst>
                                    <p:cond delay="0"/>
                                  </p:stCondLst>
                                  <p:childTnLst>
                                    <p:set>
                                      <p:cBhvr>
                                        <p:cTn id="87" dur="1" fill="hold">
                                          <p:stCondLst>
                                            <p:cond delay="0"/>
                                          </p:stCondLst>
                                        </p:cTn>
                                        <p:tgtEl>
                                          <p:spTgt spid="126"/>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92000" y="2438280"/>
            <a:ext cx="765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m going to use the thief's</a:t>
            </a:r>
            <a:r>
              <a:rPr b="1" lang="en-US" sz="2400" spc="-1" strike="noStrike">
                <a:solidFill>
                  <a:srgbClr val="000000"/>
                </a:solidFill>
                <a:latin typeface="Verdana"/>
              </a:rPr>
              <a:t> foot length </a:t>
            </a:r>
            <a:r>
              <a:rPr b="0" lang="en-US" sz="2400" spc="-1" strike="noStrike">
                <a:solidFill>
                  <a:srgbClr val="000000"/>
                </a:solidFill>
                <a:latin typeface="Verdana"/>
              </a:rPr>
              <a:t>to work out their likely ...</a:t>
            </a:r>
            <a:endParaRPr b="0" lang="en-US" sz="2400" spc="-1" strike="noStrike">
              <a:solidFill>
                <a:srgbClr val="000000"/>
              </a:solidFill>
              <a:latin typeface="Times New Roman"/>
            </a:endParaRPr>
          </a:p>
        </p:txBody>
      </p:sp>
      <p:sp>
        <p:nvSpPr>
          <p:cNvPr id="165"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69" name=""/>
          <p:cNvGrpSpPr/>
          <p:nvPr/>
        </p:nvGrpSpPr>
        <p:grpSpPr>
          <a:xfrm>
            <a:off x="1692360" y="277920"/>
            <a:ext cx="857160" cy="731880"/>
            <a:chOff x="1692360" y="277920"/>
            <a:chExt cx="857160" cy="731880"/>
          </a:xfrm>
        </p:grpSpPr>
        <p:sp>
          <p:nvSpPr>
            <p:cNvPr id="170"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180"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181"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182"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Strength of link?</a:t>
            </a:r>
            <a:endParaRPr b="0" lang="en-US" sz="500" spc="-1" strike="noStrike">
              <a:solidFill>
                <a:srgbClr val="000000"/>
              </a:solidFill>
              <a:latin typeface="Times New Roman"/>
            </a:endParaRPr>
          </a:p>
        </p:txBody>
      </p:sp>
      <p:sp>
        <p:nvSpPr>
          <p:cNvPr id="184" name=""/>
          <p:cNvSpPr/>
          <p:nvPr/>
        </p:nvSpPr>
        <p:spPr>
          <a:xfrm>
            <a:off x="790560" y="3879720"/>
            <a:ext cx="765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use measurements from other people to see if there is a strong link between </a:t>
            </a:r>
            <a:r>
              <a:rPr b="1" lang="en-US" sz="2400" spc="-1" strike="noStrike">
                <a:solidFill>
                  <a:srgbClr val="000000"/>
                </a:solidFill>
                <a:latin typeface="Verdana"/>
              </a:rPr>
              <a:t>foot length</a:t>
            </a:r>
            <a:r>
              <a:rPr b="0" lang="en-US" sz="2400" spc="-1" strike="noStrike">
                <a:solidFill>
                  <a:srgbClr val="000000"/>
                </a:solidFill>
                <a:latin typeface="Verdana"/>
              </a:rPr>
              <a:t> and ...</a:t>
            </a:r>
            <a:endParaRPr b="0" lang="en-US" sz="2400" spc="-1" strike="noStrike">
              <a:solidFill>
                <a:srgbClr val="000000"/>
              </a:solidFill>
              <a:latin typeface="Times New Roman"/>
            </a:endParaRPr>
          </a:p>
        </p:txBody>
      </p:sp>
      <p:sp>
        <p:nvSpPr>
          <p:cNvPr id="185"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46280" y="2438280"/>
            <a:ext cx="76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t>
            </a:r>
            <a:r>
              <a:rPr b="1" lang="en-US" sz="2400" spc="-1" strike="noStrike">
                <a:solidFill>
                  <a:srgbClr val="000000"/>
                </a:solidFill>
                <a:latin typeface="Verdana"/>
              </a:rPr>
              <a:t>expect</a:t>
            </a:r>
            <a:r>
              <a:rPr b="0" lang="en-US" sz="2400" spc="-1" strike="noStrike">
                <a:solidFill>
                  <a:srgbClr val="000000"/>
                </a:solidFill>
                <a:latin typeface="Verdana"/>
              </a:rPr>
              <a:t> to see that…</a:t>
            </a:r>
            <a:endParaRPr b="0" lang="en-US" sz="2400" spc="-1" strike="noStrike">
              <a:solidFill>
                <a:srgbClr val="000000"/>
              </a:solidFill>
              <a:latin typeface="Times New Roman"/>
            </a:endParaRPr>
          </a:p>
        </p:txBody>
      </p:sp>
      <p:sp>
        <p:nvSpPr>
          <p:cNvPr id="188"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192" name=""/>
          <p:cNvGrpSpPr/>
          <p:nvPr/>
        </p:nvGrpSpPr>
        <p:grpSpPr>
          <a:xfrm>
            <a:off x="1692360" y="277920"/>
            <a:ext cx="857160" cy="731880"/>
            <a:chOff x="1692360" y="277920"/>
            <a:chExt cx="857160" cy="731880"/>
          </a:xfrm>
        </p:grpSpPr>
        <p:sp>
          <p:nvSpPr>
            <p:cNvPr id="193"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203"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204"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205" name=""/>
          <p:cNvSpPr/>
          <p:nvPr/>
        </p:nvSpPr>
        <p:spPr>
          <a:xfrm>
            <a:off x="0" y="6553080"/>
            <a:ext cx="9144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Strength of link?</a:t>
            </a:r>
            <a:endParaRPr b="0" lang="en-US" sz="500" spc="-1" strike="noStrike">
              <a:solidFill>
                <a:srgbClr val="000000"/>
              </a:solidFill>
              <a:latin typeface="Times New Roman"/>
            </a:endParaRPr>
          </a:p>
        </p:txBody>
      </p:sp>
      <p:sp>
        <p:nvSpPr>
          <p:cNvPr id="207" name=""/>
          <p:cNvSpPr/>
          <p:nvPr/>
        </p:nvSpPr>
        <p:spPr>
          <a:xfrm>
            <a:off x="746280" y="3429000"/>
            <a:ext cx="76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a:t>
            </a:r>
            <a:r>
              <a:rPr b="1" lang="en-US" sz="2400" spc="-1" strike="noStrike">
                <a:solidFill>
                  <a:srgbClr val="000000"/>
                </a:solidFill>
                <a:latin typeface="Verdana"/>
              </a:rPr>
              <a:t>wonder</a:t>
            </a:r>
            <a:r>
              <a:rPr b="0" lang="en-US" sz="2400" spc="-1" strike="noStrike">
                <a:solidFill>
                  <a:srgbClr val="000000"/>
                </a:solidFill>
                <a:latin typeface="Verdana"/>
              </a:rPr>
              <a:t> if….</a:t>
            </a:r>
            <a:endParaRPr b="0" lang="en-US" sz="2400" spc="-1" strike="noStrike">
              <a:solidFill>
                <a:srgbClr val="000000"/>
              </a:solidFill>
              <a:latin typeface="Times New Roman"/>
            </a:endParaRPr>
          </a:p>
        </p:txBody>
      </p:sp>
      <p:sp>
        <p:nvSpPr>
          <p:cNvPr id="208" name=""/>
          <p:cNvSpPr/>
          <p:nvPr/>
        </p:nvSpPr>
        <p:spPr>
          <a:xfrm>
            <a:off x="746280" y="4329000"/>
            <a:ext cx="76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have noticed that…I </a:t>
            </a:r>
            <a:r>
              <a:rPr b="1" lang="en-US" sz="2400" spc="-1" strike="noStrike">
                <a:solidFill>
                  <a:srgbClr val="000000"/>
                </a:solidFill>
                <a:latin typeface="Verdana"/>
              </a:rPr>
              <a:t>wonder </a:t>
            </a:r>
            <a:r>
              <a:rPr b="0" lang="en-US" sz="2400" spc="-1" strike="noStrike">
                <a:solidFill>
                  <a:srgbClr val="000000"/>
                </a:solidFill>
                <a:latin typeface="Verdana"/>
              </a:rPr>
              <a:t>if I can show it is true…</a:t>
            </a:r>
            <a:endParaRPr b="0" lang="en-US" sz="2400" spc="-1" strike="noStrike">
              <a:solidFill>
                <a:srgbClr val="000000"/>
              </a:solidFill>
              <a:latin typeface="Times New Roman"/>
            </a:endParaRPr>
          </a:p>
        </p:txBody>
      </p:sp>
      <p:sp>
        <p:nvSpPr>
          <p:cNvPr id="209"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01840" y="0"/>
            <a:ext cx="2286000" cy="90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580920" y="277920"/>
            <a:ext cx="1143000" cy="838080"/>
            <a:chOff x="3580920" y="277920"/>
            <a:chExt cx="1143000" cy="838080"/>
          </a:xfrm>
        </p:grpSpPr>
        <p:sp>
          <p:nvSpPr>
            <p:cNvPr id="215" name=""/>
            <p:cNvSpPr/>
            <p:nvPr/>
          </p:nvSpPr>
          <p:spPr>
            <a:xfrm flipH="1">
              <a:off x="3580560" y="27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4536360" y="64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4488480" y="66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4385880" y="66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69040" y="35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349160" y="38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4241520" y="42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4552560" y="39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4238280" y="43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4290120" y="51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369680" y="72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2" name=""/>
            <p:cNvSpPr/>
            <p:nvPr/>
          </p:nvSpPr>
          <p:spPr>
            <a:xfrm flipH="1">
              <a:off x="4449600" y="83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3" name=""/>
            <p:cNvSpPr/>
            <p:nvPr/>
          </p:nvSpPr>
          <p:spPr>
            <a:xfrm flipH="1">
              <a:off x="4279320" y="31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4" name=""/>
            <p:cNvSpPr/>
            <p:nvPr/>
          </p:nvSpPr>
          <p:spPr>
            <a:xfrm flipH="1">
              <a:off x="4190040" y="35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248720" y="57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6" name=""/>
            <p:cNvSpPr/>
            <p:nvPr/>
          </p:nvSpPr>
          <p:spPr>
            <a:xfrm flipH="1">
              <a:off x="4585680" y="37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4326120" y="63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238" name=""/>
          <p:cNvSpPr/>
          <p:nvPr/>
        </p:nvSpPr>
        <p:spPr>
          <a:xfrm>
            <a:off x="625320" y="1168560"/>
            <a:ext cx="806472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ene of Crime Evidence</a:t>
            </a:r>
            <a:endParaRPr b="0" lang="en-US" sz="3200" spc="-1" strike="noStrike">
              <a:solidFill>
                <a:srgbClr val="000000"/>
              </a:solidFill>
              <a:latin typeface="Times New Roman"/>
            </a:endParaRPr>
          </a:p>
        </p:txBody>
      </p:sp>
      <p:sp>
        <p:nvSpPr>
          <p:cNvPr id="239" name=""/>
          <p:cNvSpPr/>
          <p:nvPr/>
        </p:nvSpPr>
        <p:spPr>
          <a:xfrm>
            <a:off x="611280" y="1898640"/>
            <a:ext cx="79912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data should we collect?</a:t>
            </a:r>
            <a:endParaRPr b="0" lang="en-US" sz="2400" spc="-1" strike="noStrike">
              <a:solidFill>
                <a:srgbClr val="000000"/>
              </a:solidFill>
              <a:latin typeface="Times New Roman"/>
            </a:endParaRPr>
          </a:p>
        </p:txBody>
      </p:sp>
      <p:grpSp>
        <p:nvGrpSpPr>
          <p:cNvPr id="240" name=""/>
          <p:cNvGrpSpPr/>
          <p:nvPr/>
        </p:nvGrpSpPr>
        <p:grpSpPr>
          <a:xfrm>
            <a:off x="701640" y="2979720"/>
            <a:ext cx="7472520" cy="1440000"/>
            <a:chOff x="701640" y="2979720"/>
            <a:chExt cx="7472520" cy="1440000"/>
          </a:xfrm>
        </p:grpSpPr>
        <p:sp>
          <p:nvSpPr>
            <p:cNvPr id="241" name=""/>
            <p:cNvSpPr/>
            <p:nvPr/>
          </p:nvSpPr>
          <p:spPr>
            <a:xfrm>
              <a:off x="701640" y="3390840"/>
              <a:ext cx="186840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570040" y="3390840"/>
              <a:ext cx="186876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437000" y="3390840"/>
              <a:ext cx="186696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305400" y="3390840"/>
              <a:ext cx="1868760" cy="3445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640" y="2979720"/>
              <a:ext cx="186840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040" y="2979720"/>
              <a:ext cx="186876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37000" y="2979720"/>
              <a:ext cx="186696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05400" y="2979720"/>
              <a:ext cx="1868760" cy="4111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01640" y="3735360"/>
              <a:ext cx="186840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570040" y="3735360"/>
              <a:ext cx="186876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37000" y="3735360"/>
              <a:ext cx="186696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05400" y="3735360"/>
              <a:ext cx="1868760" cy="3412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01640" y="4076640"/>
              <a:ext cx="186840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70040" y="4076640"/>
              <a:ext cx="186876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37000" y="4076640"/>
              <a:ext cx="186696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305400" y="4076640"/>
              <a:ext cx="1868760" cy="34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520560" y="4959360"/>
            <a:ext cx="7991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big a sample should we take?</a:t>
            </a:r>
            <a:endParaRPr b="0" lang="en-US" sz="2400" spc="-1" strike="noStrike">
              <a:solidFill>
                <a:srgbClr val="000000"/>
              </a:solidFill>
              <a:latin typeface="Times New Roman"/>
            </a:endParaRPr>
          </a:p>
        </p:txBody>
      </p:sp>
      <p:sp>
        <p:nvSpPr>
          <p:cNvPr id="258" name=""/>
          <p:cNvSpPr/>
          <p:nvPr/>
        </p:nvSpPr>
        <p:spPr>
          <a:xfrm rot="2708400">
            <a:off x="1646280" y="2394000"/>
            <a:ext cx="449280" cy="900000"/>
          </a:xfrm>
          <a:prstGeom prst="downArrow">
            <a:avLst>
              <a:gd name="adj1" fmla="val 50000"/>
              <a:gd name="adj2" fmla="val 5008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8678000">
            <a:off x="6957720" y="2394000"/>
            <a:ext cx="449280" cy="900000"/>
          </a:xfrm>
          <a:prstGeom prst="downArrow">
            <a:avLst>
              <a:gd name="adj1" fmla="val 50000"/>
              <a:gd name="adj2" fmla="val 5008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899000">
            <a:off x="3311640" y="2437920"/>
            <a:ext cx="449280" cy="900360"/>
          </a:xfrm>
          <a:prstGeom prst="downArrow">
            <a:avLst>
              <a:gd name="adj1" fmla="val 50000"/>
              <a:gd name="adj2" fmla="val 5010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9815600">
            <a:off x="4932360" y="2437920"/>
            <a:ext cx="449280" cy="900360"/>
          </a:xfrm>
          <a:prstGeom prst="downArrow">
            <a:avLst>
              <a:gd name="adj1" fmla="val 50000"/>
              <a:gd name="adj2" fmla="val 50100"/>
            </a:avLst>
          </a:prstGeom>
          <a:solidFill>
            <a:srgbClr val="99ff99">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241280" y="3608280"/>
            <a:ext cx="630360" cy="1351080"/>
          </a:xfrm>
          <a:prstGeom prst="downArrow">
            <a:avLst>
              <a:gd name="adj1" fmla="val 50000"/>
              <a:gd name="adj2" fmla="val 53584"/>
            </a:avLst>
          </a:prstGeom>
          <a:solidFill>
            <a:srgbClr val="ffffff">
              <a:alpha val="6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823080" y="1808280"/>
            <a:ext cx="720720" cy="630000"/>
            <a:chOff x="6823080" y="1808280"/>
            <a:chExt cx="720720" cy="630000"/>
          </a:xfrm>
        </p:grpSpPr>
        <p:sp>
          <p:nvSpPr>
            <p:cNvPr id="264" name=""/>
            <p:cNvSpPr/>
            <p:nvPr/>
          </p:nvSpPr>
          <p:spPr>
            <a:xfrm>
              <a:off x="6823080" y="1808280"/>
              <a:ext cx="720720" cy="63000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849720" y="1842840"/>
              <a:ext cx="667080" cy="54000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6992280" y="1973160"/>
              <a:ext cx="4032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054920" y="2025720"/>
              <a:ext cx="352800" cy="2520"/>
            </a:xfrm>
            <a:prstGeom prst="line">
              <a:avLst/>
            </a:prstGeom>
            <a:ln w="38160">
              <a:solidFill>
                <a:srgbClr val="000000"/>
              </a:solidFill>
              <a:prstDash val="sysDot"/>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 name=""/>
            <p:cNvSpPr/>
            <p:nvPr/>
          </p:nvSpPr>
          <p:spPr>
            <a:xfrm flipH="1">
              <a:off x="6959880" y="2078280"/>
              <a:ext cx="4388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270"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271" name=""/>
          <p:cNvSpPr/>
          <p:nvPr/>
        </p:nvSpPr>
        <p:spPr>
          <a:xfrm>
            <a:off x="0" y="6580080"/>
            <a:ext cx="9144000" cy="27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685800" y="6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Which data?</a:t>
            </a:r>
            <a:endParaRPr b="0" lang="en-US" sz="500" spc="-1" strike="noStrike">
              <a:solidFill>
                <a:srgbClr val="000000"/>
              </a:solidFill>
              <a:latin typeface="Times New Roman"/>
            </a:endParaRPr>
          </a:p>
        </p:txBody>
      </p:sp>
      <p:grpSp>
        <p:nvGrpSpPr>
          <p:cNvPr id="273" name=""/>
          <p:cNvGrpSpPr/>
          <p:nvPr/>
        </p:nvGrpSpPr>
        <p:grpSpPr>
          <a:xfrm>
            <a:off x="7182000" y="4599000"/>
            <a:ext cx="720720" cy="630360"/>
            <a:chOff x="7182000" y="4599000"/>
            <a:chExt cx="720720" cy="630360"/>
          </a:xfrm>
        </p:grpSpPr>
        <p:sp>
          <p:nvSpPr>
            <p:cNvPr id="274" name=""/>
            <p:cNvSpPr/>
            <p:nvPr/>
          </p:nvSpPr>
          <p:spPr>
            <a:xfrm>
              <a:off x="7182000" y="4599000"/>
              <a:ext cx="720720" cy="63036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7208640" y="4633560"/>
              <a:ext cx="667080" cy="54036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7351200" y="4763880"/>
              <a:ext cx="4032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7413840" y="4816440"/>
              <a:ext cx="352800" cy="2520"/>
            </a:xfrm>
            <a:prstGeom prst="line">
              <a:avLst/>
            </a:prstGeom>
            <a:ln w="38160">
              <a:solidFill>
                <a:srgbClr val="000000"/>
              </a:solidFill>
              <a:prstDash val="sysDot"/>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8" name=""/>
            <p:cNvSpPr/>
            <p:nvPr/>
          </p:nvSpPr>
          <p:spPr>
            <a:xfrm flipH="1">
              <a:off x="7318800" y="4869000"/>
              <a:ext cx="4388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1692360" y="277920"/>
            <a:ext cx="857160" cy="731880"/>
            <a:chOff x="1692360" y="277920"/>
            <a:chExt cx="857160" cy="731880"/>
          </a:xfrm>
        </p:grpSpPr>
        <p:sp>
          <p:nvSpPr>
            <p:cNvPr id="281"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4"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292" name=""/>
          <p:cNvSpPr/>
          <p:nvPr/>
        </p:nvSpPr>
        <p:spPr>
          <a:xfrm>
            <a:off x="0" y="6580080"/>
            <a:ext cx="4572000" cy="27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sp>
        <p:nvSpPr>
          <p:cNvPr id="294" name=""/>
          <p:cNvSpPr/>
          <p:nvPr/>
        </p:nvSpPr>
        <p:spPr>
          <a:xfrm>
            <a:off x="2411280" y="187920"/>
            <a:ext cx="2057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258"/>
                                        </p:tgtEl>
                                        <p:attrNameLst>
                                          <p:attrName>style.visibility</p:attrName>
                                        </p:attrNameLst>
                                      </p:cBhvr>
                                      <p:to>
                                        <p:strVal val="visible"/>
                                      </p:to>
                                    </p:set>
                                    <p:animEffect filter="fade" transition="in">
                                      <p:cBhvr additive="repl">
                                        <p:cTn id="96" dur="1000"/>
                                        <p:tgtEl>
                                          <p:spTgt spid="258"/>
                                        </p:tgtEl>
                                      </p:cBhvr>
                                    </p:animEffect>
                                  </p:childTnLst>
                                </p:cTn>
                              </p:par>
                              <p:par>
                                <p:cTn id="97" nodeType="withEffect" fill="hold" presetClass="entr" presetID="10">
                                  <p:stCondLst>
                                    <p:cond delay="0"/>
                                  </p:stCondLst>
                                  <p:childTnLst>
                                    <p:set>
                                      <p:cBhvr>
                                        <p:cTn id="98" dur="1" fill="hold">
                                          <p:stCondLst>
                                            <p:cond delay="0"/>
                                          </p:stCondLst>
                                        </p:cTn>
                                        <p:tgtEl>
                                          <p:spTgt spid="260"/>
                                        </p:tgtEl>
                                        <p:attrNameLst>
                                          <p:attrName>style.visibility</p:attrName>
                                        </p:attrNameLst>
                                      </p:cBhvr>
                                      <p:to>
                                        <p:strVal val="visible"/>
                                      </p:to>
                                    </p:set>
                                    <p:animEffect filter="fade" transition="in">
                                      <p:cBhvr additive="repl">
                                        <p:cTn id="99" dur="1000"/>
                                        <p:tgtEl>
                                          <p:spTgt spid="260"/>
                                        </p:tgtEl>
                                      </p:cBhvr>
                                    </p:animEffect>
                                  </p:childTnLst>
                                </p:cTn>
                              </p:par>
                              <p:par>
                                <p:cTn id="100" nodeType="withEffect" fill="hold" presetClass="entr" presetID="10">
                                  <p:stCondLst>
                                    <p:cond delay="0"/>
                                  </p:stCondLst>
                                  <p:childTnLst>
                                    <p:set>
                                      <p:cBhvr>
                                        <p:cTn id="101" dur="1" fill="hold">
                                          <p:stCondLst>
                                            <p:cond delay="0"/>
                                          </p:stCondLst>
                                        </p:cTn>
                                        <p:tgtEl>
                                          <p:spTgt spid="261"/>
                                        </p:tgtEl>
                                        <p:attrNameLst>
                                          <p:attrName>style.visibility</p:attrName>
                                        </p:attrNameLst>
                                      </p:cBhvr>
                                      <p:to>
                                        <p:strVal val="visible"/>
                                      </p:to>
                                    </p:set>
                                    <p:animEffect filter="fade" transition="in">
                                      <p:cBhvr additive="repl">
                                        <p:cTn id="102" dur="1000"/>
                                        <p:tgtEl>
                                          <p:spTgt spid="261"/>
                                        </p:tgtEl>
                                      </p:cBhvr>
                                    </p:animEffect>
                                  </p:childTnLst>
                                </p:cTn>
                              </p:par>
                              <p:par>
                                <p:cTn id="103" nodeType="withEffect" fill="hold" presetClass="entr" presetID="10">
                                  <p:stCondLst>
                                    <p:cond delay="0"/>
                                  </p:stCondLst>
                                  <p:childTnLst>
                                    <p:set>
                                      <p:cBhvr>
                                        <p:cTn id="104" dur="1" fill="hold">
                                          <p:stCondLst>
                                            <p:cond delay="0"/>
                                          </p:stCondLst>
                                        </p:cTn>
                                        <p:tgtEl>
                                          <p:spTgt spid="259"/>
                                        </p:tgtEl>
                                        <p:attrNameLst>
                                          <p:attrName>style.visibility</p:attrName>
                                        </p:attrNameLst>
                                      </p:cBhvr>
                                      <p:to>
                                        <p:strVal val="visible"/>
                                      </p:to>
                                    </p:set>
                                    <p:animEffect filter="fade" transition="in">
                                      <p:cBhvr additive="repl">
                                        <p:cTn id="105" dur="1000"/>
                                        <p:tgtEl>
                                          <p:spTgt spid="259"/>
                                        </p:tgtEl>
                                      </p:cBhvr>
                                    </p:animEffect>
                                  </p:childTnLst>
                                </p:cTn>
                              </p:par>
                              <p:par>
                                <p:cTn id="106" nodeType="withEffect" fill="hold" presetClass="entr" presetID="1">
                                  <p:stCondLst>
                                    <p:cond delay="0"/>
                                  </p:stCondLst>
                                  <p:childTnLst>
                                    <p:set>
                                      <p:cBhvr>
                                        <p:cTn id="107" dur="1" fill="hold">
                                          <p:stCondLst>
                                            <p:cond delay="0"/>
                                          </p:stCondLst>
                                        </p:cTn>
                                        <p:tgtEl>
                                          <p:spTgt spid="263"/>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57"/>
                                        </p:tgtEl>
                                        <p:attrNameLst>
                                          <p:attrName>style.visibility</p:attrName>
                                        </p:attrNameLst>
                                      </p:cBhvr>
                                      <p:to>
                                        <p:strVal val="visible"/>
                                      </p:to>
                                    </p:set>
                                  </p:childTnLst>
                                </p:cTn>
                              </p:par>
                              <p:par>
                                <p:cTn id="112" nodeType="withEffect" fill="hold" presetClass="entr" presetID="10">
                                  <p:stCondLst>
                                    <p:cond delay="0"/>
                                  </p:stCondLst>
                                  <p:childTnLst>
                                    <p:set>
                                      <p:cBhvr>
                                        <p:cTn id="113" dur="1" fill="hold">
                                          <p:stCondLst>
                                            <p:cond delay="0"/>
                                          </p:stCondLst>
                                        </p:cTn>
                                        <p:tgtEl>
                                          <p:spTgt spid="262"/>
                                        </p:tgtEl>
                                        <p:attrNameLst>
                                          <p:attrName>style.visibility</p:attrName>
                                        </p:attrNameLst>
                                      </p:cBhvr>
                                      <p:to>
                                        <p:strVal val="visible"/>
                                      </p:to>
                                    </p:set>
                                    <p:animEffect filter="fade" transition="in">
                                      <p:cBhvr additive="repl">
                                        <p:cTn id="114" dur="1000"/>
                                        <p:tgtEl>
                                          <p:spTgt spid="262"/>
                                        </p:tgtEl>
                                      </p:cBhvr>
                                    </p:animEffect>
                                  </p:childTnLst>
                                </p:cTn>
                              </p:par>
                              <p:par>
                                <p:cTn id="115" nodeType="withEffect" fill="hold" presetClass="entr" presetID="1">
                                  <p:stCondLst>
                                    <p:cond delay="0"/>
                                  </p:stCondLst>
                                  <p:childTnLst>
                                    <p:set>
                                      <p:cBhvr>
                                        <p:cTn id="11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7" name="" descr="">
            <a:hlinkClick r:id="rId1"/>
          </p:cNvPr>
          <p:cNvPicPr/>
          <p:nvPr/>
        </p:nvPicPr>
        <p:blipFill>
          <a:blip r:embed="rId2"/>
          <a:stretch/>
        </p:blipFill>
        <p:spPr>
          <a:xfrm>
            <a:off x="611280" y="1449360"/>
            <a:ext cx="4319640" cy="2751120"/>
          </a:xfrm>
          <a:prstGeom prst="rect">
            <a:avLst/>
          </a:prstGeom>
          <a:ln w="0">
            <a:noFill/>
          </a:ln>
        </p:spPr>
      </p:pic>
      <p:pic>
        <p:nvPicPr>
          <p:cNvPr id="298" name="" descr=""/>
          <p:cNvPicPr/>
          <p:nvPr/>
        </p:nvPicPr>
        <p:blipFill>
          <a:blip r:embed="rId3"/>
          <a:stretch/>
        </p:blipFill>
        <p:spPr>
          <a:xfrm>
            <a:off x="3941640" y="2978280"/>
            <a:ext cx="3151440" cy="2641320"/>
          </a:xfrm>
          <a:prstGeom prst="rect">
            <a:avLst/>
          </a:prstGeom>
          <a:ln w="0">
            <a:noFill/>
          </a:ln>
        </p:spPr>
      </p:pic>
      <p:sp>
        <p:nvSpPr>
          <p:cNvPr id="299" name=""/>
          <p:cNvSpPr/>
          <p:nvPr/>
        </p:nvSpPr>
        <p:spPr>
          <a:xfrm>
            <a:off x="431640" y="4508640"/>
            <a:ext cx="3330720" cy="1439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f we use this data, can we select a particular range of people to look at?</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300" name=""/>
          <p:cNvSpPr/>
          <p:nvPr/>
        </p:nvSpPr>
        <p:spPr>
          <a:xfrm>
            <a:off x="5202360" y="1628640"/>
            <a:ext cx="31510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a:t>
            </a:r>
            <a:r>
              <a:rPr b="1" lang="en-US" sz="2400" spc="-1" strike="noStrike">
                <a:solidFill>
                  <a:srgbClr val="000000"/>
                </a:solidFill>
                <a:latin typeface="Verdana"/>
              </a:rPr>
              <a:t>real</a:t>
            </a:r>
            <a:r>
              <a:rPr b="0" lang="en-US" sz="2400" spc="-1" strike="noStrike">
                <a:solidFill>
                  <a:srgbClr val="000000"/>
                </a:solidFill>
                <a:latin typeface="Verdana"/>
              </a:rPr>
              <a:t> data already exists at</a:t>
            </a:r>
            <a:br>
              <a:rPr sz="2400"/>
            </a:br>
            <a:r>
              <a:rPr b="0" lang="en-US" sz="2400" spc="-1" strike="noStrike">
                <a:solidFill>
                  <a:srgbClr val="000000"/>
                </a:solidFill>
                <a:latin typeface="Verdana"/>
              </a:rPr>
              <a:t>this website.</a:t>
            </a:r>
            <a:endParaRPr b="0" lang="en-US" sz="2400" spc="-1" strike="noStrike">
              <a:solidFill>
                <a:srgbClr val="000000"/>
              </a:solidFill>
              <a:latin typeface="Times New Roman"/>
            </a:endParaRPr>
          </a:p>
        </p:txBody>
      </p:sp>
      <p:sp>
        <p:nvSpPr>
          <p:cNvPr id="301" name=""/>
          <p:cNvSpPr/>
          <p:nvPr/>
        </p:nvSpPr>
        <p:spPr>
          <a:xfrm>
            <a:off x="2286000" y="0"/>
            <a:ext cx="2286000" cy="90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411280" y="187920"/>
            <a:ext cx="2057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303" name=""/>
          <p:cNvGrpSpPr/>
          <p:nvPr/>
        </p:nvGrpSpPr>
        <p:grpSpPr>
          <a:xfrm>
            <a:off x="3580920" y="277920"/>
            <a:ext cx="1143000" cy="838080"/>
            <a:chOff x="3580920" y="277920"/>
            <a:chExt cx="1143000" cy="838080"/>
          </a:xfrm>
        </p:grpSpPr>
        <p:sp>
          <p:nvSpPr>
            <p:cNvPr id="304" name=""/>
            <p:cNvSpPr/>
            <p:nvPr/>
          </p:nvSpPr>
          <p:spPr>
            <a:xfrm flipH="1">
              <a:off x="3580560" y="27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4170600" y="30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3613320" y="71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4123440" y="59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4536360" y="64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4488480" y="66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4385880" y="66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469040" y="35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4349160" y="38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4241520" y="42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4552560" y="39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238280" y="43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290120" y="51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369680" y="72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 name=""/>
            <p:cNvSpPr/>
            <p:nvPr/>
          </p:nvSpPr>
          <p:spPr>
            <a:xfrm flipH="1">
              <a:off x="4449600" y="83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 name=""/>
            <p:cNvSpPr/>
            <p:nvPr/>
          </p:nvSpPr>
          <p:spPr>
            <a:xfrm flipH="1">
              <a:off x="4279320" y="31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3" name=""/>
            <p:cNvSpPr/>
            <p:nvPr/>
          </p:nvSpPr>
          <p:spPr>
            <a:xfrm flipH="1">
              <a:off x="4190040" y="35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4248720" y="57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 name=""/>
            <p:cNvSpPr/>
            <p:nvPr/>
          </p:nvSpPr>
          <p:spPr>
            <a:xfrm flipH="1">
              <a:off x="4585680" y="37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4326120" y="63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327"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32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CensusAtSchool</a:t>
            </a:r>
            <a:endParaRPr b="0" lang="en-US" sz="500" spc="-1" strike="noStrike">
              <a:solidFill>
                <a:srgbClr val="000000"/>
              </a:solidFill>
              <a:latin typeface="Times New Roman"/>
            </a:endParaRPr>
          </a:p>
        </p:txBody>
      </p:sp>
      <p:sp>
        <p:nvSpPr>
          <p:cNvPr id="330" name=""/>
          <p:cNvSpPr/>
          <p:nvPr/>
        </p:nvSpPr>
        <p:spPr>
          <a:xfrm>
            <a:off x="0" y="0"/>
            <a:ext cx="2286000" cy="90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0" y="18792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332" name=""/>
          <p:cNvGrpSpPr/>
          <p:nvPr/>
        </p:nvGrpSpPr>
        <p:grpSpPr>
          <a:xfrm>
            <a:off x="1692360" y="277920"/>
            <a:ext cx="857160" cy="731880"/>
            <a:chOff x="1692360" y="277920"/>
            <a:chExt cx="857160" cy="731880"/>
          </a:xfrm>
        </p:grpSpPr>
        <p:sp>
          <p:nvSpPr>
            <p:cNvPr id="333" name=""/>
            <p:cNvSpPr/>
            <p:nvPr/>
          </p:nvSpPr>
          <p:spPr>
            <a:xfrm>
              <a:off x="1692360" y="46368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51120" y="27792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835280" y="58104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1738440" y="52560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816200" y="60480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949400" y="68760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76320" y="32868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9054200">
              <a:off x="2006640" y="51552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00320" y="65880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pic>
        <p:nvPicPr>
          <p:cNvPr id="344" name="" descr=""/>
          <p:cNvPicPr/>
          <p:nvPr/>
        </p:nvPicPr>
        <p:blipFill>
          <a:blip r:embed="rId4"/>
          <a:stretch/>
        </p:blipFill>
        <p:spPr>
          <a:xfrm>
            <a:off x="6732720" y="3608280"/>
            <a:ext cx="1888920" cy="2700360"/>
          </a:xfrm>
          <a:prstGeom prst="rect">
            <a:avLst/>
          </a:prstGeom>
          <a:ln w="0">
            <a:noFill/>
          </a:ln>
        </p:spPr>
      </p:pic>
      <p:sp>
        <p:nvSpPr>
          <p:cNvPr id="345" name=""/>
          <p:cNvSpPr/>
          <p:nvPr/>
        </p:nvSpPr>
        <p:spPr>
          <a:xfrm>
            <a:off x="6192720" y="4508640"/>
            <a:ext cx="631800" cy="450720"/>
          </a:xfrm>
          <a:prstGeom prst="rightArrow">
            <a:avLst>
              <a:gd name="adj1" fmla="val 50000"/>
              <a:gd name="adj2" fmla="val 59172"/>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6580080"/>
            <a:ext cx="9144000" cy="277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6580080"/>
            <a:ext cx="4572000" cy="277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99"/>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ntr" presetID="1">
                                  <p:stCondLst>
                                    <p:cond delay="1000"/>
                                  </p:stCondLst>
                                  <p:childTnLst>
                                    <p:set>
                                      <p:cBhvr>
                                        <p:cTn id="127" dur="1" fill="hold">
                                          <p:stCondLst>
                                            <p:cond delay="0"/>
                                          </p:stCondLst>
                                        </p:cTn>
                                        <p:tgtEl>
                                          <p:spTgt spid="344"/>
                                        </p:tgtEl>
                                        <p:attrNameLst>
                                          <p:attrName>style.visibility</p:attrName>
                                        </p:attrNameLst>
                                      </p:cBhvr>
                                      <p:to>
                                        <p:strVal val="visible"/>
                                      </p:to>
                                    </p:set>
                                  </p:childTnLst>
                                </p:cTn>
                              </p:par>
                              <p:par>
                                <p:cTn id="128" nodeType="withEffect" fill="hold" presetClass="entr" presetID="1">
                                  <p:stCondLst>
                                    <p:cond delay="1000"/>
                                  </p:stCondLst>
                                  <p:childTnLst>
                                    <p:set>
                                      <p:cBhvr>
                                        <p:cTn id="129"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546200" y="3303720"/>
            <a:ext cx="2286000" cy="102528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690560" y="3516840"/>
            <a:ext cx="19414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Discuss</a:t>
            </a:r>
            <a:endParaRPr b="0" lang="en-US" sz="3200" spc="-1" strike="noStrike">
              <a:solidFill>
                <a:srgbClr val="000000"/>
              </a:solidFill>
              <a:latin typeface="Times New Roman"/>
            </a:endParaRPr>
          </a:p>
        </p:txBody>
      </p:sp>
      <p:grpSp>
        <p:nvGrpSpPr>
          <p:cNvPr id="350" name=""/>
          <p:cNvGrpSpPr/>
          <p:nvPr/>
        </p:nvGrpSpPr>
        <p:grpSpPr>
          <a:xfrm>
            <a:off x="1150560" y="2798640"/>
            <a:ext cx="965160" cy="839880"/>
            <a:chOff x="1150560" y="2798640"/>
            <a:chExt cx="965160" cy="839880"/>
          </a:xfrm>
        </p:grpSpPr>
        <p:sp>
          <p:nvSpPr>
            <p:cNvPr id="351" name=""/>
            <p:cNvSpPr/>
            <p:nvPr/>
          </p:nvSpPr>
          <p:spPr>
            <a:xfrm flipH="1">
              <a:off x="1150200" y="2798640"/>
              <a:ext cx="965160" cy="839880"/>
            </a:xfrm>
            <a:custGeom>
              <a:avLst/>
              <a:gdLst/>
              <a:ahLst/>
              <a:rect l="l" t="t" r="r" b="b"/>
              <a:pathLst>
                <a:path w="7238" h="6030">
                  <a:moveTo>
                    <a:pt x="3619" y="0"/>
                  </a:moveTo>
                  <a:lnTo>
                    <a:pt x="3805" y="3"/>
                  </a:lnTo>
                  <a:lnTo>
                    <a:pt x="3988" y="12"/>
                  </a:lnTo>
                  <a:lnTo>
                    <a:pt x="4169" y="26"/>
                  </a:lnTo>
                  <a:lnTo>
                    <a:pt x="4347" y="46"/>
                  </a:lnTo>
                  <a:lnTo>
                    <a:pt x="4521" y="70"/>
                  </a:lnTo>
                  <a:lnTo>
                    <a:pt x="4694" y="100"/>
                  </a:lnTo>
                  <a:lnTo>
                    <a:pt x="4862" y="134"/>
                  </a:lnTo>
                  <a:lnTo>
                    <a:pt x="5025" y="174"/>
                  </a:lnTo>
                  <a:lnTo>
                    <a:pt x="5186" y="218"/>
                  </a:lnTo>
                  <a:lnTo>
                    <a:pt x="5342" y="267"/>
                  </a:lnTo>
                  <a:lnTo>
                    <a:pt x="5494" y="321"/>
                  </a:lnTo>
                  <a:lnTo>
                    <a:pt x="5640" y="378"/>
                  </a:lnTo>
                  <a:lnTo>
                    <a:pt x="5782" y="440"/>
                  </a:lnTo>
                  <a:lnTo>
                    <a:pt x="5919" y="504"/>
                  </a:lnTo>
                  <a:lnTo>
                    <a:pt x="6050" y="574"/>
                  </a:lnTo>
                  <a:lnTo>
                    <a:pt x="6176" y="647"/>
                  </a:lnTo>
                  <a:lnTo>
                    <a:pt x="6296" y="723"/>
                  </a:lnTo>
                  <a:lnTo>
                    <a:pt x="6410" y="803"/>
                  </a:lnTo>
                  <a:lnTo>
                    <a:pt x="6518" y="887"/>
                  </a:lnTo>
                  <a:lnTo>
                    <a:pt x="6619" y="974"/>
                  </a:lnTo>
                  <a:lnTo>
                    <a:pt x="6712" y="1063"/>
                  </a:lnTo>
                  <a:lnTo>
                    <a:pt x="6800" y="1155"/>
                  </a:lnTo>
                  <a:lnTo>
                    <a:pt x="6880" y="1250"/>
                  </a:lnTo>
                  <a:lnTo>
                    <a:pt x="6953" y="1347"/>
                  </a:lnTo>
                  <a:lnTo>
                    <a:pt x="7018" y="1448"/>
                  </a:lnTo>
                  <a:lnTo>
                    <a:pt x="7075" y="1550"/>
                  </a:lnTo>
                  <a:lnTo>
                    <a:pt x="7124" y="1655"/>
                  </a:lnTo>
                  <a:lnTo>
                    <a:pt x="7165" y="1761"/>
                  </a:lnTo>
                  <a:lnTo>
                    <a:pt x="7196" y="1870"/>
                  </a:lnTo>
                  <a:lnTo>
                    <a:pt x="7220" y="1980"/>
                  </a:lnTo>
                  <a:lnTo>
                    <a:pt x="7234" y="2091"/>
                  </a:lnTo>
                  <a:lnTo>
                    <a:pt x="7238" y="2204"/>
                  </a:lnTo>
                  <a:lnTo>
                    <a:pt x="7234" y="2317"/>
                  </a:lnTo>
                  <a:lnTo>
                    <a:pt x="7220" y="2429"/>
                  </a:lnTo>
                  <a:lnTo>
                    <a:pt x="7196" y="2540"/>
                  </a:lnTo>
                  <a:lnTo>
                    <a:pt x="7165" y="2649"/>
                  </a:lnTo>
                  <a:lnTo>
                    <a:pt x="7124" y="2756"/>
                  </a:lnTo>
                  <a:lnTo>
                    <a:pt x="7075" y="2861"/>
                  </a:lnTo>
                  <a:lnTo>
                    <a:pt x="7018" y="2964"/>
                  </a:lnTo>
                  <a:lnTo>
                    <a:pt x="6953" y="3065"/>
                  </a:lnTo>
                  <a:lnTo>
                    <a:pt x="6880" y="3164"/>
                  </a:lnTo>
                  <a:lnTo>
                    <a:pt x="6800" y="3260"/>
                  </a:lnTo>
                  <a:lnTo>
                    <a:pt x="6712" y="3354"/>
                  </a:lnTo>
                  <a:lnTo>
                    <a:pt x="6619" y="3444"/>
                  </a:lnTo>
                  <a:lnTo>
                    <a:pt x="6518" y="3532"/>
                  </a:lnTo>
                  <a:lnTo>
                    <a:pt x="6410" y="3617"/>
                  </a:lnTo>
                  <a:lnTo>
                    <a:pt x="6296" y="3698"/>
                  </a:lnTo>
                  <a:lnTo>
                    <a:pt x="6176" y="3776"/>
                  </a:lnTo>
                  <a:lnTo>
                    <a:pt x="6050" y="3850"/>
                  </a:lnTo>
                  <a:lnTo>
                    <a:pt x="5919" y="3920"/>
                  </a:lnTo>
                  <a:lnTo>
                    <a:pt x="5782" y="3987"/>
                  </a:lnTo>
                  <a:lnTo>
                    <a:pt x="5640" y="4049"/>
                  </a:lnTo>
                  <a:lnTo>
                    <a:pt x="5494" y="4107"/>
                  </a:lnTo>
                  <a:lnTo>
                    <a:pt x="5342" y="4161"/>
                  </a:lnTo>
                  <a:lnTo>
                    <a:pt x="5186" y="4210"/>
                  </a:lnTo>
                  <a:lnTo>
                    <a:pt x="5025" y="4255"/>
                  </a:lnTo>
                  <a:lnTo>
                    <a:pt x="4862" y="4295"/>
                  </a:lnTo>
                  <a:lnTo>
                    <a:pt x="4694" y="4329"/>
                  </a:lnTo>
                  <a:lnTo>
                    <a:pt x="4521" y="4358"/>
                  </a:lnTo>
                  <a:lnTo>
                    <a:pt x="4347" y="4382"/>
                  </a:lnTo>
                  <a:lnTo>
                    <a:pt x="4169" y="4400"/>
                  </a:lnTo>
                  <a:lnTo>
                    <a:pt x="3988" y="4413"/>
                  </a:lnTo>
                  <a:lnTo>
                    <a:pt x="3805" y="4421"/>
                  </a:lnTo>
                  <a:lnTo>
                    <a:pt x="3619" y="4422"/>
                  </a:lnTo>
                  <a:lnTo>
                    <a:pt x="1049" y="6030"/>
                  </a:lnTo>
                  <a:lnTo>
                    <a:pt x="2029" y="4178"/>
                  </a:lnTo>
                  <a:lnTo>
                    <a:pt x="1918" y="4144"/>
                  </a:lnTo>
                  <a:lnTo>
                    <a:pt x="1809" y="4108"/>
                  </a:lnTo>
                  <a:lnTo>
                    <a:pt x="1703" y="4070"/>
                  </a:lnTo>
                  <a:lnTo>
                    <a:pt x="1599" y="4031"/>
                  </a:lnTo>
                  <a:lnTo>
                    <a:pt x="1498" y="3991"/>
                  </a:lnTo>
                  <a:lnTo>
                    <a:pt x="1399" y="3950"/>
                  </a:lnTo>
                  <a:lnTo>
                    <a:pt x="1302" y="3907"/>
                  </a:lnTo>
                  <a:lnTo>
                    <a:pt x="1210" y="3863"/>
                  </a:lnTo>
                  <a:lnTo>
                    <a:pt x="1118" y="3817"/>
                  </a:lnTo>
                  <a:lnTo>
                    <a:pt x="1031" y="3769"/>
                  </a:lnTo>
                  <a:lnTo>
                    <a:pt x="946" y="3719"/>
                  </a:lnTo>
                  <a:lnTo>
                    <a:pt x="864" y="3669"/>
                  </a:lnTo>
                  <a:lnTo>
                    <a:pt x="784" y="3615"/>
                  </a:lnTo>
                  <a:lnTo>
                    <a:pt x="709" y="3561"/>
                  </a:lnTo>
                  <a:lnTo>
                    <a:pt x="637" y="3504"/>
                  </a:lnTo>
                  <a:lnTo>
                    <a:pt x="568" y="3444"/>
                  </a:lnTo>
                  <a:lnTo>
                    <a:pt x="502" y="3384"/>
                  </a:lnTo>
                  <a:lnTo>
                    <a:pt x="441" y="3321"/>
                  </a:lnTo>
                  <a:lnTo>
                    <a:pt x="383" y="3256"/>
                  </a:lnTo>
                  <a:lnTo>
                    <a:pt x="328" y="3189"/>
                  </a:lnTo>
                  <a:lnTo>
                    <a:pt x="278" y="3120"/>
                  </a:lnTo>
                  <a:lnTo>
                    <a:pt x="231" y="3049"/>
                  </a:lnTo>
                  <a:lnTo>
                    <a:pt x="189" y="2976"/>
                  </a:lnTo>
                  <a:lnTo>
                    <a:pt x="150" y="2899"/>
                  </a:lnTo>
                  <a:lnTo>
                    <a:pt x="116" y="2821"/>
                  </a:lnTo>
                  <a:lnTo>
                    <a:pt x="85" y="2741"/>
                  </a:lnTo>
                  <a:lnTo>
                    <a:pt x="60" y="2657"/>
                  </a:lnTo>
                  <a:lnTo>
                    <a:pt x="39" y="2572"/>
                  </a:lnTo>
                  <a:lnTo>
                    <a:pt x="22" y="2484"/>
                  </a:lnTo>
                  <a:lnTo>
                    <a:pt x="10" y="2393"/>
                  </a:lnTo>
                  <a:lnTo>
                    <a:pt x="4" y="2300"/>
                  </a:lnTo>
                  <a:lnTo>
                    <a:pt x="0" y="2204"/>
                  </a:lnTo>
                  <a:lnTo>
                    <a:pt x="6" y="2106"/>
                  </a:lnTo>
                  <a:lnTo>
                    <a:pt x="20" y="2008"/>
                  </a:lnTo>
                  <a:lnTo>
                    <a:pt x="42" y="1909"/>
                  </a:lnTo>
                  <a:lnTo>
                    <a:pt x="75" y="1811"/>
                  </a:lnTo>
                  <a:lnTo>
                    <a:pt x="115" y="1713"/>
                  </a:lnTo>
                  <a:lnTo>
                    <a:pt x="164" y="1615"/>
                  </a:lnTo>
                  <a:lnTo>
                    <a:pt x="221" y="1518"/>
                  </a:lnTo>
                  <a:lnTo>
                    <a:pt x="286" y="1422"/>
                  </a:lnTo>
                  <a:lnTo>
                    <a:pt x="359" y="1327"/>
                  </a:lnTo>
                  <a:lnTo>
                    <a:pt x="439" y="1233"/>
                  </a:lnTo>
                  <a:lnTo>
                    <a:pt x="526" y="1141"/>
                  </a:lnTo>
                  <a:lnTo>
                    <a:pt x="621" y="1050"/>
                  </a:lnTo>
                  <a:lnTo>
                    <a:pt x="721" y="963"/>
                  </a:lnTo>
                  <a:lnTo>
                    <a:pt x="828" y="877"/>
                  </a:lnTo>
                  <a:lnTo>
                    <a:pt x="942" y="794"/>
                  </a:lnTo>
                  <a:lnTo>
                    <a:pt x="1063" y="713"/>
                  </a:lnTo>
                  <a:lnTo>
                    <a:pt x="1188" y="636"/>
                  </a:lnTo>
                  <a:lnTo>
                    <a:pt x="1319" y="561"/>
                  </a:lnTo>
                  <a:lnTo>
                    <a:pt x="1456" y="491"/>
                  </a:lnTo>
                  <a:lnTo>
                    <a:pt x="1598" y="424"/>
                  </a:lnTo>
                  <a:lnTo>
                    <a:pt x="1746" y="361"/>
                  </a:lnTo>
                  <a:lnTo>
                    <a:pt x="1896" y="302"/>
                  </a:lnTo>
                  <a:lnTo>
                    <a:pt x="2053" y="248"/>
                  </a:lnTo>
                  <a:lnTo>
                    <a:pt x="2213" y="199"/>
                  </a:lnTo>
                  <a:lnTo>
                    <a:pt x="2378" y="155"/>
                  </a:lnTo>
                  <a:lnTo>
                    <a:pt x="2546" y="115"/>
                  </a:lnTo>
                  <a:lnTo>
                    <a:pt x="2717" y="81"/>
                  </a:lnTo>
                  <a:lnTo>
                    <a:pt x="2891" y="52"/>
                  </a:lnTo>
                  <a:lnTo>
                    <a:pt x="3070" y="30"/>
                  </a:lnTo>
                  <a:lnTo>
                    <a:pt x="3250" y="14"/>
                  </a:lnTo>
                  <a:lnTo>
                    <a:pt x="3434" y="3"/>
                  </a:lnTo>
                  <a:lnTo>
                    <a:pt x="361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86560" y="2844720"/>
              <a:ext cx="893520" cy="719640"/>
            </a:xfrm>
            <a:custGeom>
              <a:avLst/>
              <a:gdLst/>
              <a:ahLst/>
              <a:rect l="l" t="t" r="r" b="b"/>
              <a:pathLst>
                <a:path w="900" h="780">
                  <a:moveTo>
                    <a:pt x="450" y="0"/>
                  </a:moveTo>
                  <a:lnTo>
                    <a:pt x="427" y="0"/>
                  </a:lnTo>
                  <a:lnTo>
                    <a:pt x="404" y="2"/>
                  </a:lnTo>
                  <a:lnTo>
                    <a:pt x="382" y="3"/>
                  </a:lnTo>
                  <a:lnTo>
                    <a:pt x="359" y="6"/>
                  </a:lnTo>
                  <a:lnTo>
                    <a:pt x="338" y="9"/>
                  </a:lnTo>
                  <a:lnTo>
                    <a:pt x="316" y="13"/>
                  </a:lnTo>
                  <a:lnTo>
                    <a:pt x="295" y="17"/>
                  </a:lnTo>
                  <a:lnTo>
                    <a:pt x="275" y="22"/>
                  </a:lnTo>
                  <a:lnTo>
                    <a:pt x="255" y="28"/>
                  </a:lnTo>
                  <a:lnTo>
                    <a:pt x="236" y="34"/>
                  </a:lnTo>
                  <a:lnTo>
                    <a:pt x="217" y="41"/>
                  </a:lnTo>
                  <a:lnTo>
                    <a:pt x="199" y="49"/>
                  </a:lnTo>
                  <a:lnTo>
                    <a:pt x="181" y="57"/>
                  </a:lnTo>
                  <a:lnTo>
                    <a:pt x="164" y="65"/>
                  </a:lnTo>
                  <a:lnTo>
                    <a:pt x="148" y="74"/>
                  </a:lnTo>
                  <a:lnTo>
                    <a:pt x="132" y="83"/>
                  </a:lnTo>
                  <a:lnTo>
                    <a:pt x="117" y="93"/>
                  </a:lnTo>
                  <a:lnTo>
                    <a:pt x="103" y="103"/>
                  </a:lnTo>
                  <a:lnTo>
                    <a:pt x="90" y="114"/>
                  </a:lnTo>
                  <a:lnTo>
                    <a:pt x="77" y="125"/>
                  </a:lnTo>
                  <a:lnTo>
                    <a:pt x="65" y="137"/>
                  </a:lnTo>
                  <a:lnTo>
                    <a:pt x="54" y="149"/>
                  </a:lnTo>
                  <a:lnTo>
                    <a:pt x="45" y="161"/>
                  </a:lnTo>
                  <a:lnTo>
                    <a:pt x="35" y="173"/>
                  </a:lnTo>
                  <a:lnTo>
                    <a:pt x="27" y="186"/>
                  </a:lnTo>
                  <a:lnTo>
                    <a:pt x="20" y="199"/>
                  </a:lnTo>
                  <a:lnTo>
                    <a:pt x="14" y="213"/>
                  </a:lnTo>
                  <a:lnTo>
                    <a:pt x="9" y="227"/>
                  </a:lnTo>
                  <a:lnTo>
                    <a:pt x="5" y="241"/>
                  </a:lnTo>
                  <a:lnTo>
                    <a:pt x="2" y="255"/>
                  </a:lnTo>
                  <a:lnTo>
                    <a:pt x="0" y="269"/>
                  </a:lnTo>
                  <a:lnTo>
                    <a:pt x="0" y="284"/>
                  </a:lnTo>
                  <a:lnTo>
                    <a:pt x="0" y="298"/>
                  </a:lnTo>
                  <a:lnTo>
                    <a:pt x="2" y="313"/>
                  </a:lnTo>
                  <a:lnTo>
                    <a:pt x="5" y="327"/>
                  </a:lnTo>
                  <a:lnTo>
                    <a:pt x="9" y="341"/>
                  </a:lnTo>
                  <a:lnTo>
                    <a:pt x="14" y="355"/>
                  </a:lnTo>
                  <a:lnTo>
                    <a:pt x="20" y="368"/>
                  </a:lnTo>
                  <a:lnTo>
                    <a:pt x="27" y="381"/>
                  </a:lnTo>
                  <a:lnTo>
                    <a:pt x="35" y="394"/>
                  </a:lnTo>
                  <a:lnTo>
                    <a:pt x="45" y="407"/>
                  </a:lnTo>
                  <a:lnTo>
                    <a:pt x="54" y="420"/>
                  </a:lnTo>
                  <a:lnTo>
                    <a:pt x="65" y="432"/>
                  </a:lnTo>
                  <a:lnTo>
                    <a:pt x="77" y="443"/>
                  </a:lnTo>
                  <a:lnTo>
                    <a:pt x="90" y="455"/>
                  </a:lnTo>
                  <a:lnTo>
                    <a:pt x="103" y="465"/>
                  </a:lnTo>
                  <a:lnTo>
                    <a:pt x="117" y="476"/>
                  </a:lnTo>
                  <a:lnTo>
                    <a:pt x="132" y="486"/>
                  </a:lnTo>
                  <a:lnTo>
                    <a:pt x="148" y="495"/>
                  </a:lnTo>
                  <a:lnTo>
                    <a:pt x="164" y="504"/>
                  </a:lnTo>
                  <a:lnTo>
                    <a:pt x="181" y="513"/>
                  </a:lnTo>
                  <a:lnTo>
                    <a:pt x="199" y="521"/>
                  </a:lnTo>
                  <a:lnTo>
                    <a:pt x="217" y="529"/>
                  </a:lnTo>
                  <a:lnTo>
                    <a:pt x="236" y="535"/>
                  </a:lnTo>
                  <a:lnTo>
                    <a:pt x="255" y="542"/>
                  </a:lnTo>
                  <a:lnTo>
                    <a:pt x="275" y="548"/>
                  </a:lnTo>
                  <a:lnTo>
                    <a:pt x="295" y="553"/>
                  </a:lnTo>
                  <a:lnTo>
                    <a:pt x="316" y="557"/>
                  </a:lnTo>
                  <a:lnTo>
                    <a:pt x="338" y="561"/>
                  </a:lnTo>
                  <a:lnTo>
                    <a:pt x="359" y="564"/>
                  </a:lnTo>
                  <a:lnTo>
                    <a:pt x="382" y="566"/>
                  </a:lnTo>
                  <a:lnTo>
                    <a:pt x="404" y="568"/>
                  </a:lnTo>
                  <a:lnTo>
                    <a:pt x="427" y="569"/>
                  </a:lnTo>
                  <a:lnTo>
                    <a:pt x="450" y="569"/>
                  </a:lnTo>
                  <a:lnTo>
                    <a:pt x="724" y="780"/>
                  </a:lnTo>
                  <a:lnTo>
                    <a:pt x="608" y="536"/>
                  </a:lnTo>
                  <a:lnTo>
                    <a:pt x="662" y="533"/>
                  </a:lnTo>
                  <a:lnTo>
                    <a:pt x="675" y="529"/>
                  </a:lnTo>
                  <a:lnTo>
                    <a:pt x="688" y="524"/>
                  </a:lnTo>
                  <a:lnTo>
                    <a:pt x="701" y="519"/>
                  </a:lnTo>
                  <a:lnTo>
                    <a:pt x="714" y="514"/>
                  </a:lnTo>
                  <a:lnTo>
                    <a:pt x="726" y="508"/>
                  </a:lnTo>
                  <a:lnTo>
                    <a:pt x="738" y="503"/>
                  </a:lnTo>
                  <a:lnTo>
                    <a:pt x="750" y="497"/>
                  </a:lnTo>
                  <a:lnTo>
                    <a:pt x="761" y="491"/>
                  </a:lnTo>
                  <a:lnTo>
                    <a:pt x="772" y="485"/>
                  </a:lnTo>
                  <a:lnTo>
                    <a:pt x="782" y="479"/>
                  </a:lnTo>
                  <a:lnTo>
                    <a:pt x="793" y="472"/>
                  </a:lnTo>
                  <a:lnTo>
                    <a:pt x="803" y="465"/>
                  </a:lnTo>
                  <a:lnTo>
                    <a:pt x="812" y="458"/>
                  </a:lnTo>
                  <a:lnTo>
                    <a:pt x="821" y="451"/>
                  </a:lnTo>
                  <a:lnTo>
                    <a:pt x="829" y="443"/>
                  </a:lnTo>
                  <a:lnTo>
                    <a:pt x="838" y="435"/>
                  </a:lnTo>
                  <a:lnTo>
                    <a:pt x="845" y="427"/>
                  </a:lnTo>
                  <a:lnTo>
                    <a:pt x="852" y="419"/>
                  </a:lnTo>
                  <a:lnTo>
                    <a:pt x="859" y="410"/>
                  </a:lnTo>
                  <a:lnTo>
                    <a:pt x="865" y="402"/>
                  </a:lnTo>
                  <a:lnTo>
                    <a:pt x="871" y="392"/>
                  </a:lnTo>
                  <a:lnTo>
                    <a:pt x="876" y="383"/>
                  </a:lnTo>
                  <a:lnTo>
                    <a:pt x="881" y="373"/>
                  </a:lnTo>
                  <a:lnTo>
                    <a:pt x="886" y="363"/>
                  </a:lnTo>
                  <a:lnTo>
                    <a:pt x="889" y="353"/>
                  </a:lnTo>
                  <a:lnTo>
                    <a:pt x="893" y="342"/>
                  </a:lnTo>
                  <a:lnTo>
                    <a:pt x="895" y="331"/>
                  </a:lnTo>
                  <a:lnTo>
                    <a:pt x="897" y="320"/>
                  </a:lnTo>
                  <a:lnTo>
                    <a:pt x="899" y="308"/>
                  </a:lnTo>
                  <a:lnTo>
                    <a:pt x="900" y="296"/>
                  </a:lnTo>
                  <a:lnTo>
                    <a:pt x="900" y="284"/>
                  </a:lnTo>
                  <a:lnTo>
                    <a:pt x="899" y="271"/>
                  </a:lnTo>
                  <a:lnTo>
                    <a:pt x="898" y="258"/>
                  </a:lnTo>
                  <a:lnTo>
                    <a:pt x="895" y="246"/>
                  </a:lnTo>
                  <a:lnTo>
                    <a:pt x="891" y="233"/>
                  </a:lnTo>
                  <a:lnTo>
                    <a:pt x="886" y="220"/>
                  </a:lnTo>
                  <a:lnTo>
                    <a:pt x="880" y="208"/>
                  </a:lnTo>
                  <a:lnTo>
                    <a:pt x="873" y="195"/>
                  </a:lnTo>
                  <a:lnTo>
                    <a:pt x="864" y="183"/>
                  </a:lnTo>
                  <a:lnTo>
                    <a:pt x="855" y="171"/>
                  </a:lnTo>
                  <a:lnTo>
                    <a:pt x="845" y="159"/>
                  </a:lnTo>
                  <a:lnTo>
                    <a:pt x="835" y="147"/>
                  </a:lnTo>
                  <a:lnTo>
                    <a:pt x="823" y="135"/>
                  </a:lnTo>
                  <a:lnTo>
                    <a:pt x="810" y="124"/>
                  </a:lnTo>
                  <a:lnTo>
                    <a:pt x="797" y="113"/>
                  </a:lnTo>
                  <a:lnTo>
                    <a:pt x="783" y="102"/>
                  </a:lnTo>
                  <a:lnTo>
                    <a:pt x="768" y="92"/>
                  </a:lnTo>
                  <a:lnTo>
                    <a:pt x="752" y="82"/>
                  </a:lnTo>
                  <a:lnTo>
                    <a:pt x="736" y="72"/>
                  </a:lnTo>
                  <a:lnTo>
                    <a:pt x="719" y="63"/>
                  </a:lnTo>
                  <a:lnTo>
                    <a:pt x="701" y="55"/>
                  </a:lnTo>
                  <a:lnTo>
                    <a:pt x="683" y="46"/>
                  </a:lnTo>
                  <a:lnTo>
                    <a:pt x="664" y="39"/>
                  </a:lnTo>
                  <a:lnTo>
                    <a:pt x="645" y="32"/>
                  </a:lnTo>
                  <a:lnTo>
                    <a:pt x="625" y="26"/>
                  </a:lnTo>
                  <a:lnTo>
                    <a:pt x="604" y="20"/>
                  </a:lnTo>
                  <a:lnTo>
                    <a:pt x="583" y="15"/>
                  </a:lnTo>
                  <a:lnTo>
                    <a:pt x="562" y="10"/>
                  </a:lnTo>
                  <a:lnTo>
                    <a:pt x="541" y="7"/>
                  </a:lnTo>
                  <a:lnTo>
                    <a:pt x="518" y="4"/>
                  </a:lnTo>
                  <a:lnTo>
                    <a:pt x="496" y="2"/>
                  </a:lnTo>
                  <a:lnTo>
                    <a:pt x="473" y="0"/>
                  </a:lnTo>
                  <a:lnTo>
                    <a:pt x="45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349280" y="3018240"/>
              <a:ext cx="54000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3440" y="3088440"/>
              <a:ext cx="472680" cy="3600"/>
            </a:xfrm>
            <a:prstGeom prst="line">
              <a:avLst/>
            </a:prstGeom>
            <a:ln w="38160">
              <a:solidFill>
                <a:srgbClr val="00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1345320" y="3158640"/>
              <a:ext cx="5878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880920" y="2619360"/>
            <a:ext cx="3149640" cy="171288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6553080"/>
            <a:ext cx="9144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311640" y="4602240"/>
            <a:ext cx="2286000" cy="907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311640" y="4777560"/>
            <a:ext cx="216036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Verdana"/>
              </a:rPr>
              <a:t>Process</a:t>
            </a:r>
            <a:endParaRPr b="0" lang="en-US" sz="3200" spc="-1" strike="noStrike">
              <a:solidFill>
                <a:srgbClr val="000000"/>
              </a:solidFill>
              <a:latin typeface="Times New Roman"/>
            </a:endParaRPr>
          </a:p>
        </p:txBody>
      </p:sp>
      <p:grpSp>
        <p:nvGrpSpPr>
          <p:cNvPr id="360" name=""/>
          <p:cNvGrpSpPr/>
          <p:nvPr/>
        </p:nvGrpSpPr>
        <p:grpSpPr>
          <a:xfrm>
            <a:off x="3220920" y="5229360"/>
            <a:ext cx="838440" cy="838080"/>
            <a:chOff x="3220920" y="5229360"/>
            <a:chExt cx="838440" cy="838080"/>
          </a:xfrm>
        </p:grpSpPr>
        <p:sp>
          <p:nvSpPr>
            <p:cNvPr id="361" name=""/>
            <p:cNvSpPr/>
            <p:nvPr/>
          </p:nvSpPr>
          <p:spPr>
            <a:xfrm>
              <a:off x="3220920" y="5229360"/>
              <a:ext cx="838440" cy="838080"/>
            </a:xfrm>
            <a:custGeom>
              <a:avLst/>
              <a:gdLst/>
              <a:ahLst/>
              <a:rect l="l" t="t" r="r" b="b"/>
              <a:pathLst>
                <a:path w="6397" h="6907">
                  <a:moveTo>
                    <a:pt x="4125" y="19"/>
                  </a:moveTo>
                  <a:lnTo>
                    <a:pt x="4090" y="1125"/>
                  </a:lnTo>
                  <a:lnTo>
                    <a:pt x="6397" y="1940"/>
                  </a:lnTo>
                  <a:lnTo>
                    <a:pt x="4926" y="5966"/>
                  </a:lnTo>
                  <a:lnTo>
                    <a:pt x="3955" y="5594"/>
                  </a:lnTo>
                  <a:lnTo>
                    <a:pt x="4402" y="6350"/>
                  </a:lnTo>
                  <a:lnTo>
                    <a:pt x="3462" y="6907"/>
                  </a:lnTo>
                  <a:lnTo>
                    <a:pt x="2346" y="5081"/>
                  </a:lnTo>
                  <a:lnTo>
                    <a:pt x="1793" y="4874"/>
                  </a:lnTo>
                  <a:lnTo>
                    <a:pt x="1834" y="4763"/>
                  </a:lnTo>
                  <a:lnTo>
                    <a:pt x="1868" y="4668"/>
                  </a:lnTo>
                  <a:lnTo>
                    <a:pt x="1882" y="4626"/>
                  </a:lnTo>
                  <a:lnTo>
                    <a:pt x="1893" y="4588"/>
                  </a:lnTo>
                  <a:lnTo>
                    <a:pt x="1904" y="4554"/>
                  </a:lnTo>
                  <a:lnTo>
                    <a:pt x="1914" y="4521"/>
                  </a:lnTo>
                  <a:lnTo>
                    <a:pt x="1920" y="4493"/>
                  </a:lnTo>
                  <a:lnTo>
                    <a:pt x="1927" y="4467"/>
                  </a:lnTo>
                  <a:lnTo>
                    <a:pt x="1930" y="4445"/>
                  </a:lnTo>
                  <a:lnTo>
                    <a:pt x="1932" y="4424"/>
                  </a:lnTo>
                  <a:lnTo>
                    <a:pt x="1933" y="4407"/>
                  </a:lnTo>
                  <a:lnTo>
                    <a:pt x="1932" y="4391"/>
                  </a:lnTo>
                  <a:lnTo>
                    <a:pt x="1930" y="4378"/>
                  </a:lnTo>
                  <a:lnTo>
                    <a:pt x="1926" y="4366"/>
                  </a:lnTo>
                  <a:lnTo>
                    <a:pt x="1920" y="4356"/>
                  </a:lnTo>
                  <a:lnTo>
                    <a:pt x="1913" y="4348"/>
                  </a:lnTo>
                  <a:lnTo>
                    <a:pt x="1904" y="4341"/>
                  </a:lnTo>
                  <a:lnTo>
                    <a:pt x="1893" y="4336"/>
                  </a:lnTo>
                  <a:lnTo>
                    <a:pt x="1882" y="4331"/>
                  </a:lnTo>
                  <a:lnTo>
                    <a:pt x="1869" y="4328"/>
                  </a:lnTo>
                  <a:lnTo>
                    <a:pt x="1854" y="4325"/>
                  </a:lnTo>
                  <a:lnTo>
                    <a:pt x="1837" y="4324"/>
                  </a:lnTo>
                  <a:lnTo>
                    <a:pt x="1758" y="4318"/>
                  </a:lnTo>
                  <a:lnTo>
                    <a:pt x="1654" y="4311"/>
                  </a:lnTo>
                  <a:lnTo>
                    <a:pt x="1584" y="4313"/>
                  </a:lnTo>
                  <a:lnTo>
                    <a:pt x="1514" y="4311"/>
                  </a:lnTo>
                  <a:lnTo>
                    <a:pt x="1444" y="4304"/>
                  </a:lnTo>
                  <a:lnTo>
                    <a:pt x="1373" y="4294"/>
                  </a:lnTo>
                  <a:lnTo>
                    <a:pt x="1302" y="4279"/>
                  </a:lnTo>
                  <a:lnTo>
                    <a:pt x="1232" y="4260"/>
                  </a:lnTo>
                  <a:lnTo>
                    <a:pt x="1162" y="4236"/>
                  </a:lnTo>
                  <a:lnTo>
                    <a:pt x="1093" y="4211"/>
                  </a:lnTo>
                  <a:lnTo>
                    <a:pt x="1025" y="4179"/>
                  </a:lnTo>
                  <a:lnTo>
                    <a:pt x="957" y="4146"/>
                  </a:lnTo>
                  <a:lnTo>
                    <a:pt x="889" y="4108"/>
                  </a:lnTo>
                  <a:lnTo>
                    <a:pt x="824" y="4067"/>
                  </a:lnTo>
                  <a:lnTo>
                    <a:pt x="760" y="4023"/>
                  </a:lnTo>
                  <a:lnTo>
                    <a:pt x="696" y="3975"/>
                  </a:lnTo>
                  <a:lnTo>
                    <a:pt x="636" y="3925"/>
                  </a:lnTo>
                  <a:lnTo>
                    <a:pt x="577" y="3871"/>
                  </a:lnTo>
                  <a:lnTo>
                    <a:pt x="518" y="3813"/>
                  </a:lnTo>
                  <a:lnTo>
                    <a:pt x="464" y="3754"/>
                  </a:lnTo>
                  <a:lnTo>
                    <a:pt x="411" y="3692"/>
                  </a:lnTo>
                  <a:lnTo>
                    <a:pt x="360" y="3628"/>
                  </a:lnTo>
                  <a:lnTo>
                    <a:pt x="313" y="3560"/>
                  </a:lnTo>
                  <a:lnTo>
                    <a:pt x="268" y="3490"/>
                  </a:lnTo>
                  <a:lnTo>
                    <a:pt x="226" y="3418"/>
                  </a:lnTo>
                  <a:lnTo>
                    <a:pt x="187" y="3344"/>
                  </a:lnTo>
                  <a:lnTo>
                    <a:pt x="151" y="3267"/>
                  </a:lnTo>
                  <a:lnTo>
                    <a:pt x="120" y="3188"/>
                  </a:lnTo>
                  <a:lnTo>
                    <a:pt x="91" y="3107"/>
                  </a:lnTo>
                  <a:lnTo>
                    <a:pt x="66" y="3025"/>
                  </a:lnTo>
                  <a:lnTo>
                    <a:pt x="46" y="2941"/>
                  </a:lnTo>
                  <a:lnTo>
                    <a:pt x="30" y="2855"/>
                  </a:lnTo>
                  <a:lnTo>
                    <a:pt x="17" y="2769"/>
                  </a:lnTo>
                  <a:lnTo>
                    <a:pt x="9" y="2679"/>
                  </a:lnTo>
                  <a:lnTo>
                    <a:pt x="3" y="2611"/>
                  </a:lnTo>
                  <a:lnTo>
                    <a:pt x="0" y="2541"/>
                  </a:lnTo>
                  <a:lnTo>
                    <a:pt x="1" y="2471"/>
                  </a:lnTo>
                  <a:lnTo>
                    <a:pt x="5" y="2398"/>
                  </a:lnTo>
                  <a:lnTo>
                    <a:pt x="14" y="2326"/>
                  </a:lnTo>
                  <a:lnTo>
                    <a:pt x="25" y="2253"/>
                  </a:lnTo>
                  <a:lnTo>
                    <a:pt x="40" y="2180"/>
                  </a:lnTo>
                  <a:lnTo>
                    <a:pt x="60" y="2107"/>
                  </a:lnTo>
                  <a:lnTo>
                    <a:pt x="82" y="2034"/>
                  </a:lnTo>
                  <a:lnTo>
                    <a:pt x="108" y="1961"/>
                  </a:lnTo>
                  <a:lnTo>
                    <a:pt x="137" y="1889"/>
                  </a:lnTo>
                  <a:lnTo>
                    <a:pt x="171" y="1818"/>
                  </a:lnTo>
                  <a:lnTo>
                    <a:pt x="207" y="1748"/>
                  </a:lnTo>
                  <a:lnTo>
                    <a:pt x="247" y="1679"/>
                  </a:lnTo>
                  <a:lnTo>
                    <a:pt x="290" y="1611"/>
                  </a:lnTo>
                  <a:lnTo>
                    <a:pt x="338" y="1545"/>
                  </a:lnTo>
                  <a:lnTo>
                    <a:pt x="388" y="1481"/>
                  </a:lnTo>
                  <a:lnTo>
                    <a:pt x="442" y="1418"/>
                  </a:lnTo>
                  <a:lnTo>
                    <a:pt x="499" y="1359"/>
                  </a:lnTo>
                  <a:lnTo>
                    <a:pt x="559" y="1302"/>
                  </a:lnTo>
                  <a:lnTo>
                    <a:pt x="624" y="1248"/>
                  </a:lnTo>
                  <a:lnTo>
                    <a:pt x="691" y="1196"/>
                  </a:lnTo>
                  <a:lnTo>
                    <a:pt x="762" y="1149"/>
                  </a:lnTo>
                  <a:lnTo>
                    <a:pt x="835" y="1103"/>
                  </a:lnTo>
                  <a:lnTo>
                    <a:pt x="913" y="1062"/>
                  </a:lnTo>
                  <a:lnTo>
                    <a:pt x="993" y="1024"/>
                  </a:lnTo>
                  <a:lnTo>
                    <a:pt x="1077" y="992"/>
                  </a:lnTo>
                  <a:lnTo>
                    <a:pt x="1164" y="963"/>
                  </a:lnTo>
                  <a:lnTo>
                    <a:pt x="1255" y="938"/>
                  </a:lnTo>
                  <a:lnTo>
                    <a:pt x="1349" y="919"/>
                  </a:lnTo>
                  <a:lnTo>
                    <a:pt x="1446" y="904"/>
                  </a:lnTo>
                  <a:lnTo>
                    <a:pt x="1546" y="894"/>
                  </a:lnTo>
                  <a:lnTo>
                    <a:pt x="1489" y="0"/>
                  </a:lnTo>
                  <a:lnTo>
                    <a:pt x="4125" y="1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497040" y="5361840"/>
              <a:ext cx="520920" cy="559440"/>
            </a:xfrm>
            <a:custGeom>
              <a:avLst/>
              <a:gdLst/>
              <a:ahLst/>
              <a:rect l="l" t="t" r="r" b="b"/>
              <a:pathLst>
                <a:path w="3981" h="4606">
                  <a:moveTo>
                    <a:pt x="1320" y="0"/>
                  </a:moveTo>
                  <a:lnTo>
                    <a:pt x="3981" y="971"/>
                  </a:lnTo>
                  <a:lnTo>
                    <a:pt x="2661" y="4606"/>
                  </a:lnTo>
                  <a:lnTo>
                    <a:pt x="0" y="3636"/>
                  </a:lnTo>
                  <a:lnTo>
                    <a:pt x="1320"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5" name=""/>
            <p:cNvSpPr/>
            <p:nvPr/>
          </p:nvSpPr>
          <p:spPr>
            <a:xfrm>
              <a:off x="3754800" y="5692680"/>
              <a:ext cx="22680" cy="18360"/>
            </a:xfrm>
            <a:custGeom>
              <a:avLst/>
              <a:gdLst/>
              <a:ahLst/>
              <a:rect l="l" t="t" r="r" b="b"/>
              <a:pathLst>
                <a:path w="171" h="151">
                  <a:moveTo>
                    <a:pt x="3" y="45"/>
                  </a:moveTo>
                  <a:lnTo>
                    <a:pt x="6" y="39"/>
                  </a:lnTo>
                  <a:lnTo>
                    <a:pt x="9" y="32"/>
                  </a:lnTo>
                  <a:lnTo>
                    <a:pt x="15" y="27"/>
                  </a:lnTo>
                  <a:lnTo>
                    <a:pt x="19" y="21"/>
                  </a:lnTo>
                  <a:lnTo>
                    <a:pt x="26" y="16"/>
                  </a:lnTo>
                  <a:lnTo>
                    <a:pt x="31" y="12"/>
                  </a:lnTo>
                  <a:lnTo>
                    <a:pt x="39" y="9"/>
                  </a:lnTo>
                  <a:lnTo>
                    <a:pt x="45" y="5"/>
                  </a:lnTo>
                  <a:lnTo>
                    <a:pt x="53" y="3"/>
                  </a:lnTo>
                  <a:lnTo>
                    <a:pt x="60" y="1"/>
                  </a:lnTo>
                  <a:lnTo>
                    <a:pt x="69" y="0"/>
                  </a:lnTo>
                  <a:lnTo>
                    <a:pt x="76" y="0"/>
                  </a:lnTo>
                  <a:lnTo>
                    <a:pt x="85" y="0"/>
                  </a:lnTo>
                  <a:lnTo>
                    <a:pt x="93" y="2"/>
                  </a:lnTo>
                  <a:lnTo>
                    <a:pt x="102" y="3"/>
                  </a:lnTo>
                  <a:lnTo>
                    <a:pt x="111" y="6"/>
                  </a:lnTo>
                  <a:lnTo>
                    <a:pt x="119" y="10"/>
                  </a:lnTo>
                  <a:lnTo>
                    <a:pt x="127" y="14"/>
                  </a:lnTo>
                  <a:lnTo>
                    <a:pt x="134" y="18"/>
                  </a:lnTo>
                  <a:lnTo>
                    <a:pt x="141" y="24"/>
                  </a:lnTo>
                  <a:lnTo>
                    <a:pt x="146" y="29"/>
                  </a:lnTo>
                  <a:lnTo>
                    <a:pt x="153" y="34"/>
                  </a:lnTo>
                  <a:lnTo>
                    <a:pt x="157" y="41"/>
                  </a:lnTo>
                  <a:lnTo>
                    <a:pt x="161" y="47"/>
                  </a:lnTo>
                  <a:lnTo>
                    <a:pt x="165" y="55"/>
                  </a:lnTo>
                  <a:lnTo>
                    <a:pt x="168" y="61"/>
                  </a:lnTo>
                  <a:lnTo>
                    <a:pt x="170" y="69"/>
                  </a:lnTo>
                  <a:lnTo>
                    <a:pt x="171" y="77"/>
                  </a:lnTo>
                  <a:lnTo>
                    <a:pt x="171" y="84"/>
                  </a:lnTo>
                  <a:lnTo>
                    <a:pt x="171" y="92"/>
                  </a:lnTo>
                  <a:lnTo>
                    <a:pt x="170" y="98"/>
                  </a:lnTo>
                  <a:lnTo>
                    <a:pt x="168" y="106"/>
                  </a:lnTo>
                  <a:lnTo>
                    <a:pt x="165" y="112"/>
                  </a:lnTo>
                  <a:lnTo>
                    <a:pt x="161" y="119"/>
                  </a:lnTo>
                  <a:lnTo>
                    <a:pt x="156" y="125"/>
                  </a:lnTo>
                  <a:lnTo>
                    <a:pt x="152" y="130"/>
                  </a:lnTo>
                  <a:lnTo>
                    <a:pt x="145" y="135"/>
                  </a:lnTo>
                  <a:lnTo>
                    <a:pt x="140" y="139"/>
                  </a:lnTo>
                  <a:lnTo>
                    <a:pt x="132" y="143"/>
                  </a:lnTo>
                  <a:lnTo>
                    <a:pt x="126" y="146"/>
                  </a:lnTo>
                  <a:lnTo>
                    <a:pt x="118" y="149"/>
                  </a:lnTo>
                  <a:lnTo>
                    <a:pt x="111" y="150"/>
                  </a:lnTo>
                  <a:lnTo>
                    <a:pt x="102" y="151"/>
                  </a:lnTo>
                  <a:lnTo>
                    <a:pt x="95" y="151"/>
                  </a:lnTo>
                  <a:lnTo>
                    <a:pt x="86" y="151"/>
                  </a:lnTo>
                  <a:lnTo>
                    <a:pt x="77" y="150"/>
                  </a:lnTo>
                  <a:lnTo>
                    <a:pt x="69" y="148"/>
                  </a:lnTo>
                  <a:lnTo>
                    <a:pt x="60" y="146"/>
                  </a:lnTo>
                  <a:lnTo>
                    <a:pt x="51" y="142"/>
                  </a:lnTo>
                  <a:lnTo>
                    <a:pt x="44" y="138"/>
                  </a:lnTo>
                  <a:lnTo>
                    <a:pt x="36" y="134"/>
                  </a:lnTo>
                  <a:lnTo>
                    <a:pt x="30" y="128"/>
                  </a:lnTo>
                  <a:lnTo>
                    <a:pt x="23" y="123"/>
                  </a:lnTo>
                  <a:lnTo>
                    <a:pt x="18" y="116"/>
                  </a:lnTo>
                  <a:lnTo>
                    <a:pt x="14" y="110"/>
                  </a:lnTo>
                  <a:lnTo>
                    <a:pt x="9"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6"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7" name=""/>
            <p:cNvSpPr/>
            <p:nvPr/>
          </p:nvSpPr>
          <p:spPr>
            <a:xfrm>
              <a:off x="3746520" y="5651640"/>
              <a:ext cx="22680" cy="18360"/>
            </a:xfrm>
            <a:custGeom>
              <a:avLst/>
              <a:gdLst/>
              <a:ahLst/>
              <a:rect l="l" t="t" r="r" b="b"/>
              <a:pathLst>
                <a:path w="173" h="151">
                  <a:moveTo>
                    <a:pt x="3" y="45"/>
                  </a:moveTo>
                  <a:lnTo>
                    <a:pt x="7" y="39"/>
                  </a:lnTo>
                  <a:lnTo>
                    <a:pt x="11" y="32"/>
                  </a:lnTo>
                  <a:lnTo>
                    <a:pt x="15" y="26"/>
                  </a:lnTo>
                  <a:lnTo>
                    <a:pt x="21" y="21"/>
                  </a:lnTo>
                  <a:lnTo>
                    <a:pt x="26" y="16"/>
                  </a:lnTo>
                  <a:lnTo>
                    <a:pt x="33" y="12"/>
                  </a:lnTo>
                  <a:lnTo>
                    <a:pt x="39" y="8"/>
                  </a:lnTo>
                  <a:lnTo>
                    <a:pt x="45" y="5"/>
                  </a:lnTo>
                  <a:lnTo>
                    <a:pt x="53" y="2"/>
                  </a:lnTo>
                  <a:lnTo>
                    <a:pt x="62" y="1"/>
                  </a:lnTo>
                  <a:lnTo>
                    <a:pt x="69" y="0"/>
                  </a:lnTo>
                  <a:lnTo>
                    <a:pt x="78" y="0"/>
                  </a:lnTo>
                  <a:lnTo>
                    <a:pt x="85" y="0"/>
                  </a:lnTo>
                  <a:lnTo>
                    <a:pt x="94" y="1"/>
                  </a:lnTo>
                  <a:lnTo>
                    <a:pt x="103" y="3"/>
                  </a:lnTo>
                  <a:lnTo>
                    <a:pt x="111" y="5"/>
                  </a:lnTo>
                  <a:lnTo>
                    <a:pt x="120" y="10"/>
                  </a:lnTo>
                  <a:lnTo>
                    <a:pt x="127" y="13"/>
                  </a:lnTo>
                  <a:lnTo>
                    <a:pt x="135" y="18"/>
                  </a:lnTo>
                  <a:lnTo>
                    <a:pt x="141" y="23"/>
                  </a:lnTo>
                  <a:lnTo>
                    <a:pt x="148" y="28"/>
                  </a:lnTo>
                  <a:lnTo>
                    <a:pt x="153" y="35"/>
                  </a:lnTo>
                  <a:lnTo>
                    <a:pt x="157" y="41"/>
                  </a:lnTo>
                  <a:lnTo>
                    <a:pt x="162" y="48"/>
                  </a:lnTo>
                  <a:lnTo>
                    <a:pt x="165" y="54"/>
                  </a:lnTo>
                  <a:lnTo>
                    <a:pt x="168" y="62"/>
                  </a:lnTo>
                  <a:lnTo>
                    <a:pt x="170" y="69"/>
                  </a:lnTo>
                  <a:lnTo>
                    <a:pt x="171" y="76"/>
                  </a:lnTo>
                  <a:lnTo>
                    <a:pt x="173" y="83"/>
                  </a:lnTo>
                  <a:lnTo>
                    <a:pt x="171" y="91"/>
                  </a:lnTo>
                  <a:lnTo>
                    <a:pt x="170" y="98"/>
                  </a:lnTo>
                  <a:lnTo>
                    <a:pt x="168" y="106"/>
                  </a:lnTo>
                  <a:lnTo>
                    <a:pt x="165" y="112"/>
                  </a:lnTo>
                  <a:lnTo>
                    <a:pt x="162" y="119"/>
                  </a:lnTo>
                  <a:lnTo>
                    <a:pt x="157" y="124"/>
                  </a:lnTo>
                  <a:lnTo>
                    <a:pt x="152" y="130"/>
                  </a:lnTo>
                  <a:lnTo>
                    <a:pt x="147" y="135"/>
                  </a:lnTo>
                  <a:lnTo>
                    <a:pt x="140" y="139"/>
                  </a:lnTo>
                  <a:lnTo>
                    <a:pt x="134" y="143"/>
                  </a:lnTo>
                  <a:lnTo>
                    <a:pt x="126" y="146"/>
                  </a:lnTo>
                  <a:lnTo>
                    <a:pt x="119" y="148"/>
                  </a:lnTo>
                  <a:lnTo>
                    <a:pt x="111" y="150"/>
                  </a:lnTo>
                  <a:lnTo>
                    <a:pt x="103" y="151"/>
                  </a:lnTo>
                  <a:lnTo>
                    <a:pt x="95" y="151"/>
                  </a:lnTo>
                  <a:lnTo>
                    <a:pt x="86" y="151"/>
                  </a:lnTo>
                  <a:lnTo>
                    <a:pt x="78" y="150"/>
                  </a:lnTo>
                  <a:lnTo>
                    <a:pt x="69" y="148"/>
                  </a:lnTo>
                  <a:lnTo>
                    <a:pt x="61" y="145"/>
                  </a:lnTo>
                  <a:lnTo>
                    <a:pt x="53" y="141"/>
                  </a:lnTo>
                  <a:lnTo>
                    <a:pt x="44" y="137"/>
                  </a:lnTo>
                  <a:lnTo>
                    <a:pt x="38" y="133"/>
                  </a:lnTo>
                  <a:lnTo>
                    <a:pt x="30" y="127"/>
                  </a:lnTo>
                  <a:lnTo>
                    <a:pt x="25" y="122"/>
                  </a:lnTo>
                  <a:lnTo>
                    <a:pt x="20" y="117"/>
                  </a:lnTo>
                  <a:lnTo>
                    <a:pt x="14" y="110"/>
                  </a:lnTo>
                  <a:lnTo>
                    <a:pt x="10" y="104"/>
                  </a:lnTo>
                  <a:lnTo>
                    <a:pt x="7" y="96"/>
                  </a:lnTo>
                  <a:lnTo>
                    <a:pt x="3" y="90"/>
                  </a:lnTo>
                  <a:lnTo>
                    <a:pt x="1" y="82"/>
                  </a:lnTo>
                  <a:lnTo>
                    <a:pt x="0" y="75"/>
                  </a:lnTo>
                  <a:lnTo>
                    <a:pt x="0" y="67"/>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8"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9" name=""/>
            <p:cNvSpPr/>
            <p:nvPr/>
          </p:nvSpPr>
          <p:spPr>
            <a:xfrm>
              <a:off x="3766680" y="5600520"/>
              <a:ext cx="21600" cy="18360"/>
            </a:xfrm>
            <a:custGeom>
              <a:avLst/>
              <a:gdLst/>
              <a:ahLst/>
              <a:rect l="l" t="t" r="r" b="b"/>
              <a:pathLst>
                <a:path w="171" h="151">
                  <a:moveTo>
                    <a:pt x="3" y="46"/>
                  </a:moveTo>
                  <a:lnTo>
                    <a:pt x="7" y="39"/>
                  </a:lnTo>
                  <a:lnTo>
                    <a:pt x="11" y="33"/>
                  </a:lnTo>
                  <a:lnTo>
                    <a:pt x="15" y="26"/>
                  </a:lnTo>
                  <a:lnTo>
                    <a:pt x="19" y="21"/>
                  </a:lnTo>
                  <a:lnTo>
                    <a:pt x="26" y="17"/>
                  </a:lnTo>
                  <a:lnTo>
                    <a:pt x="31" y="12"/>
                  </a:lnTo>
                  <a:lnTo>
                    <a:pt x="39" y="9"/>
                  </a:lnTo>
                  <a:lnTo>
                    <a:pt x="45" y="6"/>
                  </a:lnTo>
                  <a:lnTo>
                    <a:pt x="53" y="4"/>
                  </a:lnTo>
                  <a:lnTo>
                    <a:pt x="60" y="1"/>
                  </a:lnTo>
                  <a:lnTo>
                    <a:pt x="69" y="0"/>
                  </a:lnTo>
                  <a:lnTo>
                    <a:pt x="78" y="0"/>
                  </a:lnTo>
                  <a:lnTo>
                    <a:pt x="85" y="0"/>
                  </a:lnTo>
                  <a:lnTo>
                    <a:pt x="94" y="1"/>
                  </a:lnTo>
                  <a:lnTo>
                    <a:pt x="102" y="4"/>
                  </a:lnTo>
                  <a:lnTo>
                    <a:pt x="111" y="6"/>
                  </a:lnTo>
                  <a:lnTo>
                    <a:pt x="120" y="10"/>
                  </a:lnTo>
                  <a:lnTo>
                    <a:pt x="127" y="13"/>
                  </a:lnTo>
                  <a:lnTo>
                    <a:pt x="135" y="19"/>
                  </a:lnTo>
                  <a:lnTo>
                    <a:pt x="141" y="23"/>
                  </a:lnTo>
                  <a:lnTo>
                    <a:pt x="148" y="30"/>
                  </a:lnTo>
                  <a:lnTo>
                    <a:pt x="153" y="35"/>
                  </a:lnTo>
                  <a:lnTo>
                    <a:pt x="157" y="41"/>
                  </a:lnTo>
                  <a:lnTo>
                    <a:pt x="162" y="48"/>
                  </a:lnTo>
                  <a:lnTo>
                    <a:pt x="165" y="54"/>
                  </a:lnTo>
                  <a:lnTo>
                    <a:pt x="168" y="62"/>
                  </a:lnTo>
                  <a:lnTo>
                    <a:pt x="170" y="69"/>
                  </a:lnTo>
                  <a:lnTo>
                    <a:pt x="171" y="76"/>
                  </a:lnTo>
                  <a:lnTo>
                    <a:pt x="171" y="84"/>
                  </a:lnTo>
                  <a:lnTo>
                    <a:pt x="171" y="91"/>
                  </a:lnTo>
                  <a:lnTo>
                    <a:pt x="170" y="99"/>
                  </a:lnTo>
                  <a:lnTo>
                    <a:pt x="168" y="106"/>
                  </a:lnTo>
                  <a:lnTo>
                    <a:pt x="165" y="113"/>
                  </a:lnTo>
                  <a:lnTo>
                    <a:pt x="162" y="119"/>
                  </a:lnTo>
                  <a:lnTo>
                    <a:pt x="156" y="126"/>
                  </a:lnTo>
                  <a:lnTo>
                    <a:pt x="152" y="131"/>
                  </a:lnTo>
                  <a:lnTo>
                    <a:pt x="145" y="135"/>
                  </a:lnTo>
                  <a:lnTo>
                    <a:pt x="140" y="140"/>
                  </a:lnTo>
                  <a:lnTo>
                    <a:pt x="132" y="143"/>
                  </a:lnTo>
                  <a:lnTo>
                    <a:pt x="126" y="146"/>
                  </a:lnTo>
                  <a:lnTo>
                    <a:pt x="118" y="148"/>
                  </a:lnTo>
                  <a:lnTo>
                    <a:pt x="111" y="150"/>
                  </a:lnTo>
                  <a:lnTo>
                    <a:pt x="102" y="151"/>
                  </a:lnTo>
                  <a:lnTo>
                    <a:pt x="95" y="151"/>
                  </a:lnTo>
                  <a:lnTo>
                    <a:pt x="86" y="151"/>
                  </a:lnTo>
                  <a:lnTo>
                    <a:pt x="78" y="150"/>
                  </a:lnTo>
                  <a:lnTo>
                    <a:pt x="69" y="148"/>
                  </a:lnTo>
                  <a:lnTo>
                    <a:pt x="60" y="145"/>
                  </a:lnTo>
                  <a:lnTo>
                    <a:pt x="52" y="142"/>
                  </a:lnTo>
                  <a:lnTo>
                    <a:pt x="44" y="139"/>
                  </a:lnTo>
                  <a:lnTo>
                    <a:pt x="37" y="133"/>
                  </a:lnTo>
                  <a:lnTo>
                    <a:pt x="30" y="129"/>
                  </a:lnTo>
                  <a:lnTo>
                    <a:pt x="25" y="122"/>
                  </a:lnTo>
                  <a:lnTo>
                    <a:pt x="18" y="117"/>
                  </a:lnTo>
                  <a:lnTo>
                    <a:pt x="14" y="110"/>
                  </a:lnTo>
                  <a:lnTo>
                    <a:pt x="10" y="104"/>
                  </a:lnTo>
                  <a:lnTo>
                    <a:pt x="7" y="98"/>
                  </a:lnTo>
                  <a:lnTo>
                    <a:pt x="3" y="90"/>
                  </a:lnTo>
                  <a:lnTo>
                    <a:pt x="1" y="82"/>
                  </a:lnTo>
                  <a:lnTo>
                    <a:pt x="0" y="75"/>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0"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1" name=""/>
            <p:cNvSpPr/>
            <p:nvPr/>
          </p:nvSpPr>
          <p:spPr>
            <a:xfrm>
              <a:off x="3889440" y="5537160"/>
              <a:ext cx="21960" cy="18360"/>
            </a:xfrm>
            <a:custGeom>
              <a:avLst/>
              <a:gdLst/>
              <a:ahLst/>
              <a:rect l="l" t="t" r="r" b="b"/>
              <a:pathLst>
                <a:path w="172" h="151">
                  <a:moveTo>
                    <a:pt x="4" y="45"/>
                  </a:moveTo>
                  <a:lnTo>
                    <a:pt x="7" y="39"/>
                  </a:lnTo>
                  <a:lnTo>
                    <a:pt x="10" y="32"/>
                  </a:lnTo>
                  <a:lnTo>
                    <a:pt x="15" y="26"/>
                  </a:lnTo>
                  <a:lnTo>
                    <a:pt x="20" y="20"/>
                  </a:lnTo>
                  <a:lnTo>
                    <a:pt x="25" y="16"/>
                  </a:lnTo>
                  <a:lnTo>
                    <a:pt x="32" y="12"/>
                  </a:lnTo>
                  <a:lnTo>
                    <a:pt x="38" y="8"/>
                  </a:lnTo>
                  <a:lnTo>
                    <a:pt x="46" y="5"/>
                  </a:lnTo>
                  <a:lnTo>
                    <a:pt x="53" y="3"/>
                  </a:lnTo>
                  <a:lnTo>
                    <a:pt x="61" y="1"/>
                  </a:lnTo>
                  <a:lnTo>
                    <a:pt x="69" y="0"/>
                  </a:lnTo>
                  <a:lnTo>
                    <a:pt x="77" y="0"/>
                  </a:lnTo>
                  <a:lnTo>
                    <a:pt x="86" y="0"/>
                  </a:lnTo>
                  <a:lnTo>
                    <a:pt x="94" y="1"/>
                  </a:lnTo>
                  <a:lnTo>
                    <a:pt x="103" y="3"/>
                  </a:lnTo>
                  <a:lnTo>
                    <a:pt x="112" y="5"/>
                  </a:lnTo>
                  <a:lnTo>
                    <a:pt x="119" y="10"/>
                  </a:lnTo>
                  <a:lnTo>
                    <a:pt x="128" y="13"/>
                  </a:lnTo>
                  <a:lnTo>
                    <a:pt x="134" y="18"/>
                  </a:lnTo>
                  <a:lnTo>
                    <a:pt x="141" y="22"/>
                  </a:lnTo>
                  <a:lnTo>
                    <a:pt x="147" y="28"/>
                  </a:lnTo>
                  <a:lnTo>
                    <a:pt x="153" y="34"/>
                  </a:lnTo>
                  <a:lnTo>
                    <a:pt x="158" y="41"/>
                  </a:lnTo>
                  <a:lnTo>
                    <a:pt x="162" y="47"/>
                  </a:lnTo>
                  <a:lnTo>
                    <a:pt x="165" y="54"/>
                  </a:lnTo>
                  <a:lnTo>
                    <a:pt x="169" y="61"/>
                  </a:lnTo>
                  <a:lnTo>
                    <a:pt x="170" y="69"/>
                  </a:lnTo>
                  <a:lnTo>
                    <a:pt x="172" y="75"/>
                  </a:lnTo>
                  <a:lnTo>
                    <a:pt x="172" y="83"/>
                  </a:lnTo>
                  <a:lnTo>
                    <a:pt x="172" y="90"/>
                  </a:lnTo>
                  <a:lnTo>
                    <a:pt x="170" y="98"/>
                  </a:lnTo>
                  <a:lnTo>
                    <a:pt x="168" y="106"/>
                  </a:lnTo>
                  <a:lnTo>
                    <a:pt x="165" y="112"/>
                  </a:lnTo>
                  <a:lnTo>
                    <a:pt x="161" y="119"/>
                  </a:lnTo>
                  <a:lnTo>
                    <a:pt x="157" y="125"/>
                  </a:lnTo>
                  <a:lnTo>
                    <a:pt x="151" y="130"/>
                  </a:lnTo>
                  <a:lnTo>
                    <a:pt x="146" y="135"/>
                  </a:lnTo>
                  <a:lnTo>
                    <a:pt x="140" y="139"/>
                  </a:lnTo>
                  <a:lnTo>
                    <a:pt x="133" y="142"/>
                  </a:lnTo>
                  <a:lnTo>
                    <a:pt x="127" y="145"/>
                  </a:lnTo>
                  <a:lnTo>
                    <a:pt x="119" y="148"/>
                  </a:lnTo>
                  <a:lnTo>
                    <a:pt x="111" y="150"/>
                  </a:lnTo>
                  <a:lnTo>
                    <a:pt x="103" y="151"/>
                  </a:lnTo>
                  <a:lnTo>
                    <a:pt x="94" y="151"/>
                  </a:lnTo>
                  <a:lnTo>
                    <a:pt x="86" y="151"/>
                  </a:lnTo>
                  <a:lnTo>
                    <a:pt x="78" y="150"/>
                  </a:lnTo>
                  <a:lnTo>
                    <a:pt x="70" y="148"/>
                  </a:lnTo>
                  <a:lnTo>
                    <a:pt x="61" y="144"/>
                  </a:lnTo>
                  <a:lnTo>
                    <a:pt x="52" y="141"/>
                  </a:lnTo>
                  <a:lnTo>
                    <a:pt x="45" y="137"/>
                  </a:lnTo>
                  <a:lnTo>
                    <a:pt x="37" y="133"/>
                  </a:lnTo>
                  <a:lnTo>
                    <a:pt x="31" y="127"/>
                  </a:lnTo>
                  <a:lnTo>
                    <a:pt x="24" y="122"/>
                  </a:lnTo>
                  <a:lnTo>
                    <a:pt x="19" y="116"/>
                  </a:lnTo>
                  <a:lnTo>
                    <a:pt x="15" y="110"/>
                  </a:lnTo>
                  <a:lnTo>
                    <a:pt x="10" y="103"/>
                  </a:lnTo>
                  <a:lnTo>
                    <a:pt x="6" y="96"/>
                  </a:lnTo>
                  <a:lnTo>
                    <a:pt x="4" y="89"/>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2"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 name=""/>
            <p:cNvSpPr/>
            <p:nvPr/>
          </p:nvSpPr>
          <p:spPr>
            <a:xfrm>
              <a:off x="3700440" y="5645880"/>
              <a:ext cx="21960" cy="17640"/>
            </a:xfrm>
            <a:custGeom>
              <a:avLst/>
              <a:gdLst/>
              <a:ahLst/>
              <a:rect l="l" t="t" r="r" b="b"/>
              <a:pathLst>
                <a:path w="172" h="151">
                  <a:moveTo>
                    <a:pt x="4" y="46"/>
                  </a:moveTo>
                  <a:lnTo>
                    <a:pt x="8" y="39"/>
                  </a:lnTo>
                  <a:lnTo>
                    <a:pt x="11" y="33"/>
                  </a:lnTo>
                  <a:lnTo>
                    <a:pt x="15" y="27"/>
                  </a:lnTo>
                  <a:lnTo>
                    <a:pt x="20" y="22"/>
                  </a:lnTo>
                  <a:lnTo>
                    <a:pt x="26" y="17"/>
                  </a:lnTo>
                  <a:lnTo>
                    <a:pt x="32" y="12"/>
                  </a:lnTo>
                  <a:lnTo>
                    <a:pt x="39" y="9"/>
                  </a:lnTo>
                  <a:lnTo>
                    <a:pt x="46" y="6"/>
                  </a:lnTo>
                  <a:lnTo>
                    <a:pt x="54" y="4"/>
                  </a:lnTo>
                  <a:lnTo>
                    <a:pt x="61" y="1"/>
                  </a:lnTo>
                  <a:lnTo>
                    <a:pt x="69" y="0"/>
                  </a:lnTo>
                  <a:lnTo>
                    <a:pt x="78" y="0"/>
                  </a:lnTo>
                  <a:lnTo>
                    <a:pt x="86" y="0"/>
                  </a:lnTo>
                  <a:lnTo>
                    <a:pt x="95" y="1"/>
                  </a:lnTo>
                  <a:lnTo>
                    <a:pt x="103" y="4"/>
                  </a:lnTo>
                  <a:lnTo>
                    <a:pt x="112" y="7"/>
                  </a:lnTo>
                  <a:lnTo>
                    <a:pt x="120" y="10"/>
                  </a:lnTo>
                  <a:lnTo>
                    <a:pt x="127" y="14"/>
                  </a:lnTo>
                  <a:lnTo>
                    <a:pt x="135" y="19"/>
                  </a:lnTo>
                  <a:lnTo>
                    <a:pt x="141" y="24"/>
                  </a:lnTo>
                  <a:lnTo>
                    <a:pt x="148" y="29"/>
                  </a:lnTo>
                  <a:lnTo>
                    <a:pt x="153" y="35"/>
                  </a:lnTo>
                  <a:lnTo>
                    <a:pt x="158" y="41"/>
                  </a:lnTo>
                  <a:lnTo>
                    <a:pt x="163" y="48"/>
                  </a:lnTo>
                  <a:lnTo>
                    <a:pt x="166" y="55"/>
                  </a:lnTo>
                  <a:lnTo>
                    <a:pt x="168" y="62"/>
                  </a:lnTo>
                  <a:lnTo>
                    <a:pt x="170" y="69"/>
                  </a:lnTo>
                  <a:lnTo>
                    <a:pt x="171" y="77"/>
                  </a:lnTo>
                  <a:lnTo>
                    <a:pt x="172" y="85"/>
                  </a:lnTo>
                  <a:lnTo>
                    <a:pt x="172" y="91"/>
                  </a:lnTo>
                  <a:lnTo>
                    <a:pt x="170" y="99"/>
                  </a:lnTo>
                  <a:lnTo>
                    <a:pt x="168" y="106"/>
                  </a:lnTo>
                  <a:lnTo>
                    <a:pt x="166" y="113"/>
                  </a:lnTo>
                  <a:lnTo>
                    <a:pt x="162" y="119"/>
                  </a:lnTo>
                  <a:lnTo>
                    <a:pt x="157" y="126"/>
                  </a:lnTo>
                  <a:lnTo>
                    <a:pt x="152" y="131"/>
                  </a:lnTo>
                  <a:lnTo>
                    <a:pt x="146" y="135"/>
                  </a:lnTo>
                  <a:lnTo>
                    <a:pt x="140" y="140"/>
                  </a:lnTo>
                  <a:lnTo>
                    <a:pt x="134" y="144"/>
                  </a:lnTo>
                  <a:lnTo>
                    <a:pt x="126" y="146"/>
                  </a:lnTo>
                  <a:lnTo>
                    <a:pt x="118" y="149"/>
                  </a:lnTo>
                  <a:lnTo>
                    <a:pt x="111" y="150"/>
                  </a:lnTo>
                  <a:lnTo>
                    <a:pt x="103" y="151"/>
                  </a:lnTo>
                  <a:lnTo>
                    <a:pt x="95" y="151"/>
                  </a:lnTo>
                  <a:lnTo>
                    <a:pt x="86" y="151"/>
                  </a:lnTo>
                  <a:lnTo>
                    <a:pt x="78" y="150"/>
                  </a:lnTo>
                  <a:lnTo>
                    <a:pt x="69" y="148"/>
                  </a:lnTo>
                  <a:lnTo>
                    <a:pt x="61" y="146"/>
                  </a:lnTo>
                  <a:lnTo>
                    <a:pt x="53" y="143"/>
                  </a:lnTo>
                  <a:lnTo>
                    <a:pt x="45" y="139"/>
                  </a:lnTo>
                  <a:lnTo>
                    <a:pt x="38" y="134"/>
                  </a:lnTo>
                  <a:lnTo>
                    <a:pt x="31" y="129"/>
                  </a:lnTo>
                  <a:lnTo>
                    <a:pt x="25" y="123"/>
                  </a:lnTo>
                  <a:lnTo>
                    <a:pt x="19" y="117"/>
                  </a:lnTo>
                  <a:lnTo>
                    <a:pt x="14" y="110"/>
                  </a:lnTo>
                  <a:lnTo>
                    <a:pt x="11" y="104"/>
                  </a:lnTo>
                  <a:lnTo>
                    <a:pt x="6" y="97"/>
                  </a:lnTo>
                  <a:lnTo>
                    <a:pt x="4" y="90"/>
                  </a:lnTo>
                  <a:lnTo>
                    <a:pt x="2" y="83"/>
                  </a:lnTo>
                  <a:lnTo>
                    <a:pt x="1" y="76"/>
                  </a:lnTo>
                  <a:lnTo>
                    <a:pt x="0" y="68"/>
                  </a:lnTo>
                  <a:lnTo>
                    <a:pt x="1" y="61"/>
                  </a:lnTo>
                  <a:lnTo>
                    <a:pt x="2" y="53"/>
                  </a:lnTo>
                  <a:lnTo>
                    <a:pt x="4"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4"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5" name=""/>
            <p:cNvSpPr/>
            <p:nvPr/>
          </p:nvSpPr>
          <p:spPr>
            <a:xfrm>
              <a:off x="3697920" y="5683320"/>
              <a:ext cx="22680" cy="18360"/>
            </a:xfrm>
            <a:custGeom>
              <a:avLst/>
              <a:gdLst/>
              <a:ahLst/>
              <a:rect l="l" t="t" r="r" b="b"/>
              <a:pathLst>
                <a:path w="171" h="151">
                  <a:moveTo>
                    <a:pt x="3" y="45"/>
                  </a:moveTo>
                  <a:lnTo>
                    <a:pt x="6" y="39"/>
                  </a:lnTo>
                  <a:lnTo>
                    <a:pt x="9" y="32"/>
                  </a:lnTo>
                  <a:lnTo>
                    <a:pt x="15" y="26"/>
                  </a:lnTo>
                  <a:lnTo>
                    <a:pt x="19" y="21"/>
                  </a:lnTo>
                  <a:lnTo>
                    <a:pt x="26" y="16"/>
                  </a:lnTo>
                  <a:lnTo>
                    <a:pt x="31" y="12"/>
                  </a:lnTo>
                  <a:lnTo>
                    <a:pt x="38" y="9"/>
                  </a:lnTo>
                  <a:lnTo>
                    <a:pt x="45" y="5"/>
                  </a:lnTo>
                  <a:lnTo>
                    <a:pt x="52" y="3"/>
                  </a:lnTo>
                  <a:lnTo>
                    <a:pt x="60" y="1"/>
                  </a:lnTo>
                  <a:lnTo>
                    <a:pt x="69" y="0"/>
                  </a:lnTo>
                  <a:lnTo>
                    <a:pt x="76" y="0"/>
                  </a:lnTo>
                  <a:lnTo>
                    <a:pt x="85" y="0"/>
                  </a:lnTo>
                  <a:lnTo>
                    <a:pt x="93" y="1"/>
                  </a:lnTo>
                  <a:lnTo>
                    <a:pt x="102" y="3"/>
                  </a:lnTo>
                  <a:lnTo>
                    <a:pt x="111" y="5"/>
                  </a:lnTo>
                  <a:lnTo>
                    <a:pt x="119" y="10"/>
                  </a:lnTo>
                  <a:lnTo>
                    <a:pt x="127" y="13"/>
                  </a:lnTo>
                  <a:lnTo>
                    <a:pt x="134" y="18"/>
                  </a:lnTo>
                  <a:lnTo>
                    <a:pt x="141" y="23"/>
                  </a:lnTo>
                  <a:lnTo>
                    <a:pt x="146" y="28"/>
                  </a:lnTo>
                  <a:lnTo>
                    <a:pt x="153" y="35"/>
                  </a:lnTo>
                  <a:lnTo>
                    <a:pt x="157" y="41"/>
                  </a:lnTo>
                  <a:lnTo>
                    <a:pt x="161" y="48"/>
                  </a:lnTo>
                  <a:lnTo>
                    <a:pt x="164" y="54"/>
                  </a:lnTo>
                  <a:lnTo>
                    <a:pt x="168" y="62"/>
                  </a:lnTo>
                  <a:lnTo>
                    <a:pt x="170" y="69"/>
                  </a:lnTo>
                  <a:lnTo>
                    <a:pt x="171" y="76"/>
                  </a:lnTo>
                  <a:lnTo>
                    <a:pt x="171" y="83"/>
                  </a:lnTo>
                  <a:lnTo>
                    <a:pt x="171" y="91"/>
                  </a:lnTo>
                  <a:lnTo>
                    <a:pt x="170" y="98"/>
                  </a:lnTo>
                  <a:lnTo>
                    <a:pt x="168" y="106"/>
                  </a:lnTo>
                  <a:lnTo>
                    <a:pt x="164" y="112"/>
                  </a:lnTo>
                  <a:lnTo>
                    <a:pt x="161" y="119"/>
                  </a:lnTo>
                  <a:lnTo>
                    <a:pt x="156" y="125"/>
                  </a:lnTo>
                  <a:lnTo>
                    <a:pt x="152" y="131"/>
                  </a:lnTo>
                  <a:lnTo>
                    <a:pt x="145" y="135"/>
                  </a:lnTo>
                  <a:lnTo>
                    <a:pt x="140" y="139"/>
                  </a:lnTo>
                  <a:lnTo>
                    <a:pt x="132" y="142"/>
                  </a:lnTo>
                  <a:lnTo>
                    <a:pt x="126" y="146"/>
                  </a:lnTo>
                  <a:lnTo>
                    <a:pt x="118" y="148"/>
                  </a:lnTo>
                  <a:lnTo>
                    <a:pt x="111" y="150"/>
                  </a:lnTo>
                  <a:lnTo>
                    <a:pt x="102" y="151"/>
                  </a:lnTo>
                  <a:lnTo>
                    <a:pt x="93" y="151"/>
                  </a:lnTo>
                  <a:lnTo>
                    <a:pt x="86" y="151"/>
                  </a:lnTo>
                  <a:lnTo>
                    <a:pt x="77" y="150"/>
                  </a:lnTo>
                  <a:lnTo>
                    <a:pt x="69" y="148"/>
                  </a:lnTo>
                  <a:lnTo>
                    <a:pt x="60" y="145"/>
                  </a:lnTo>
                  <a:lnTo>
                    <a:pt x="51" y="141"/>
                  </a:lnTo>
                  <a:lnTo>
                    <a:pt x="44" y="137"/>
                  </a:lnTo>
                  <a:lnTo>
                    <a:pt x="36" y="133"/>
                  </a:lnTo>
                  <a:lnTo>
                    <a:pt x="30" y="128"/>
                  </a:lnTo>
                  <a:lnTo>
                    <a:pt x="23" y="122"/>
                  </a:lnTo>
                  <a:lnTo>
                    <a:pt x="18" y="117"/>
                  </a:lnTo>
                  <a:lnTo>
                    <a:pt x="14" y="110"/>
                  </a:lnTo>
                  <a:lnTo>
                    <a:pt x="9" y="104"/>
                  </a:lnTo>
                  <a:lnTo>
                    <a:pt x="6" y="96"/>
                  </a:lnTo>
                  <a:lnTo>
                    <a:pt x="3" y="90"/>
                  </a:lnTo>
                  <a:lnTo>
                    <a:pt x="1" y="82"/>
                  </a:lnTo>
                  <a:lnTo>
                    <a:pt x="0" y="74"/>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6"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7" name=""/>
            <p:cNvSpPr/>
            <p:nvPr/>
          </p:nvSpPr>
          <p:spPr>
            <a:xfrm>
              <a:off x="3837240" y="5577120"/>
              <a:ext cx="21960" cy="18360"/>
            </a:xfrm>
            <a:custGeom>
              <a:avLst/>
              <a:gdLst/>
              <a:ahLst/>
              <a:rect l="l" t="t" r="r" b="b"/>
              <a:pathLst>
                <a:path w="172" h="152">
                  <a:moveTo>
                    <a:pt x="4" y="46"/>
                  </a:moveTo>
                  <a:lnTo>
                    <a:pt x="7" y="39"/>
                  </a:lnTo>
                  <a:lnTo>
                    <a:pt x="10" y="32"/>
                  </a:lnTo>
                  <a:lnTo>
                    <a:pt x="15" y="27"/>
                  </a:lnTo>
                  <a:lnTo>
                    <a:pt x="20" y="21"/>
                  </a:lnTo>
                  <a:lnTo>
                    <a:pt x="25" y="16"/>
                  </a:lnTo>
                  <a:lnTo>
                    <a:pt x="32" y="12"/>
                  </a:lnTo>
                  <a:lnTo>
                    <a:pt x="38" y="8"/>
                  </a:lnTo>
                  <a:lnTo>
                    <a:pt x="46" y="5"/>
                  </a:lnTo>
                  <a:lnTo>
                    <a:pt x="53" y="3"/>
                  </a:lnTo>
                  <a:lnTo>
                    <a:pt x="61" y="1"/>
                  </a:lnTo>
                  <a:lnTo>
                    <a:pt x="69" y="1"/>
                  </a:lnTo>
                  <a:lnTo>
                    <a:pt x="77" y="0"/>
                  </a:lnTo>
                  <a:lnTo>
                    <a:pt x="85" y="1"/>
                  </a:lnTo>
                  <a:lnTo>
                    <a:pt x="94" y="2"/>
                  </a:lnTo>
                  <a:lnTo>
                    <a:pt x="103" y="3"/>
                  </a:lnTo>
                  <a:lnTo>
                    <a:pt x="111" y="6"/>
                  </a:lnTo>
                  <a:lnTo>
                    <a:pt x="120" y="10"/>
                  </a:lnTo>
                  <a:lnTo>
                    <a:pt x="127" y="14"/>
                  </a:lnTo>
                  <a:lnTo>
                    <a:pt x="134" y="18"/>
                  </a:lnTo>
                  <a:lnTo>
                    <a:pt x="141" y="24"/>
                  </a:lnTo>
                  <a:lnTo>
                    <a:pt x="147" y="29"/>
                  </a:lnTo>
                  <a:lnTo>
                    <a:pt x="152" y="35"/>
                  </a:lnTo>
                  <a:lnTo>
                    <a:pt x="158" y="41"/>
                  </a:lnTo>
                  <a:lnTo>
                    <a:pt x="162" y="47"/>
                  </a:lnTo>
                  <a:lnTo>
                    <a:pt x="165" y="55"/>
                  </a:lnTo>
                  <a:lnTo>
                    <a:pt x="168" y="61"/>
                  </a:lnTo>
                  <a:lnTo>
                    <a:pt x="170" y="69"/>
                  </a:lnTo>
                  <a:lnTo>
                    <a:pt x="172" y="76"/>
                  </a:lnTo>
                  <a:lnTo>
                    <a:pt x="172" y="84"/>
                  </a:lnTo>
                  <a:lnTo>
                    <a:pt x="172" y="92"/>
                  </a:lnTo>
                  <a:lnTo>
                    <a:pt x="170" y="98"/>
                  </a:lnTo>
                  <a:lnTo>
                    <a:pt x="168" y="106"/>
                  </a:lnTo>
                  <a:lnTo>
                    <a:pt x="165" y="113"/>
                  </a:lnTo>
                  <a:lnTo>
                    <a:pt x="161" y="120"/>
                  </a:lnTo>
                  <a:lnTo>
                    <a:pt x="156" y="125"/>
                  </a:lnTo>
                  <a:lnTo>
                    <a:pt x="152" y="130"/>
                  </a:lnTo>
                  <a:lnTo>
                    <a:pt x="146" y="136"/>
                  </a:lnTo>
                  <a:lnTo>
                    <a:pt x="140" y="139"/>
                  </a:lnTo>
                  <a:lnTo>
                    <a:pt x="133" y="143"/>
                  </a:lnTo>
                  <a:lnTo>
                    <a:pt x="126" y="147"/>
                  </a:lnTo>
                  <a:lnTo>
                    <a:pt x="119" y="149"/>
                  </a:lnTo>
                  <a:lnTo>
                    <a:pt x="111" y="150"/>
                  </a:lnTo>
                  <a:lnTo>
                    <a:pt x="103" y="151"/>
                  </a:lnTo>
                  <a:lnTo>
                    <a:pt x="94" y="152"/>
                  </a:lnTo>
                  <a:lnTo>
                    <a:pt x="86" y="151"/>
                  </a:lnTo>
                  <a:lnTo>
                    <a:pt x="78" y="150"/>
                  </a:lnTo>
                  <a:lnTo>
                    <a:pt x="69" y="148"/>
                  </a:lnTo>
                  <a:lnTo>
                    <a:pt x="61" y="146"/>
                  </a:lnTo>
                  <a:lnTo>
                    <a:pt x="52" y="142"/>
                  </a:lnTo>
                  <a:lnTo>
                    <a:pt x="44" y="138"/>
                  </a:lnTo>
                  <a:lnTo>
                    <a:pt x="37" y="134"/>
                  </a:lnTo>
                  <a:lnTo>
                    <a:pt x="30" y="128"/>
                  </a:lnTo>
                  <a:lnTo>
                    <a:pt x="24" y="123"/>
                  </a:lnTo>
                  <a:lnTo>
                    <a:pt x="19" y="116"/>
                  </a:lnTo>
                  <a:lnTo>
                    <a:pt x="14" y="111"/>
                  </a:lnTo>
                  <a:lnTo>
                    <a:pt x="10" y="103"/>
                  </a:lnTo>
                  <a:lnTo>
                    <a:pt x="7" y="97"/>
                  </a:lnTo>
                  <a:lnTo>
                    <a:pt x="4" y="89"/>
                  </a:lnTo>
                  <a:lnTo>
                    <a:pt x="1" y="83"/>
                  </a:lnTo>
                  <a:lnTo>
                    <a:pt x="0" y="75"/>
                  </a:lnTo>
                  <a:lnTo>
                    <a:pt x="0" y="68"/>
                  </a:lnTo>
                  <a:lnTo>
                    <a:pt x="0" y="60"/>
                  </a:lnTo>
                  <a:lnTo>
                    <a:pt x="1"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8"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9" name=""/>
            <p:cNvSpPr/>
            <p:nvPr/>
          </p:nvSpPr>
          <p:spPr>
            <a:xfrm>
              <a:off x="3649320" y="5714640"/>
              <a:ext cx="21960" cy="17640"/>
            </a:xfrm>
            <a:custGeom>
              <a:avLst/>
              <a:gdLst/>
              <a:ahLst/>
              <a:rect l="l" t="t" r="r" b="b"/>
              <a:pathLst>
                <a:path w="172" h="151">
                  <a:moveTo>
                    <a:pt x="4" y="45"/>
                  </a:moveTo>
                  <a:lnTo>
                    <a:pt x="8" y="39"/>
                  </a:lnTo>
                  <a:lnTo>
                    <a:pt x="11" y="32"/>
                  </a:lnTo>
                  <a:lnTo>
                    <a:pt x="15" y="26"/>
                  </a:lnTo>
                  <a:lnTo>
                    <a:pt x="21" y="20"/>
                  </a:lnTo>
                  <a:lnTo>
                    <a:pt x="26" y="16"/>
                  </a:lnTo>
                  <a:lnTo>
                    <a:pt x="32" y="12"/>
                  </a:lnTo>
                  <a:lnTo>
                    <a:pt x="39" y="9"/>
                  </a:lnTo>
                  <a:lnTo>
                    <a:pt x="46" y="5"/>
                  </a:lnTo>
                  <a:lnTo>
                    <a:pt x="54" y="3"/>
                  </a:lnTo>
                  <a:lnTo>
                    <a:pt x="61" y="1"/>
                  </a:lnTo>
                  <a:lnTo>
                    <a:pt x="69" y="0"/>
                  </a:lnTo>
                  <a:lnTo>
                    <a:pt x="78" y="0"/>
                  </a:lnTo>
                  <a:lnTo>
                    <a:pt x="86" y="0"/>
                  </a:lnTo>
                  <a:lnTo>
                    <a:pt x="95" y="1"/>
                  </a:lnTo>
                  <a:lnTo>
                    <a:pt x="103" y="3"/>
                  </a:lnTo>
                  <a:lnTo>
                    <a:pt x="112" y="5"/>
                  </a:lnTo>
                  <a:lnTo>
                    <a:pt x="120" y="10"/>
                  </a:lnTo>
                  <a:lnTo>
                    <a:pt x="128" y="13"/>
                  </a:lnTo>
                  <a:lnTo>
                    <a:pt x="135" y="18"/>
                  </a:lnTo>
                  <a:lnTo>
                    <a:pt x="141" y="23"/>
                  </a:lnTo>
                  <a:lnTo>
                    <a:pt x="148" y="29"/>
                  </a:lnTo>
                  <a:lnTo>
                    <a:pt x="153" y="35"/>
                  </a:lnTo>
                  <a:lnTo>
                    <a:pt x="158" y="41"/>
                  </a:lnTo>
                  <a:lnTo>
                    <a:pt x="163" y="47"/>
                  </a:lnTo>
                  <a:lnTo>
                    <a:pt x="166" y="54"/>
                  </a:lnTo>
                  <a:lnTo>
                    <a:pt x="169" y="61"/>
                  </a:lnTo>
                  <a:lnTo>
                    <a:pt x="170" y="69"/>
                  </a:lnTo>
                  <a:lnTo>
                    <a:pt x="172" y="76"/>
                  </a:lnTo>
                  <a:lnTo>
                    <a:pt x="172" y="83"/>
                  </a:lnTo>
                  <a:lnTo>
                    <a:pt x="172" y="91"/>
                  </a:lnTo>
                  <a:lnTo>
                    <a:pt x="171" y="98"/>
                  </a:lnTo>
                  <a:lnTo>
                    <a:pt x="169" y="106"/>
                  </a:lnTo>
                  <a:lnTo>
                    <a:pt x="166" y="112"/>
                  </a:lnTo>
                  <a:lnTo>
                    <a:pt x="162" y="119"/>
                  </a:lnTo>
                  <a:lnTo>
                    <a:pt x="157" y="125"/>
                  </a:lnTo>
                  <a:lnTo>
                    <a:pt x="152" y="131"/>
                  </a:lnTo>
                  <a:lnTo>
                    <a:pt x="147" y="135"/>
                  </a:lnTo>
                  <a:lnTo>
                    <a:pt x="140" y="139"/>
                  </a:lnTo>
                  <a:lnTo>
                    <a:pt x="134" y="142"/>
                  </a:lnTo>
                  <a:lnTo>
                    <a:pt x="127" y="146"/>
                  </a:lnTo>
                  <a:lnTo>
                    <a:pt x="120" y="148"/>
                  </a:lnTo>
                  <a:lnTo>
                    <a:pt x="111" y="150"/>
                  </a:lnTo>
                  <a:lnTo>
                    <a:pt x="103" y="151"/>
                  </a:lnTo>
                  <a:lnTo>
                    <a:pt x="95" y="151"/>
                  </a:lnTo>
                  <a:lnTo>
                    <a:pt x="86" y="151"/>
                  </a:lnTo>
                  <a:lnTo>
                    <a:pt x="79" y="150"/>
                  </a:lnTo>
                  <a:lnTo>
                    <a:pt x="70" y="148"/>
                  </a:lnTo>
                  <a:lnTo>
                    <a:pt x="61" y="145"/>
                  </a:lnTo>
                  <a:lnTo>
                    <a:pt x="53" y="141"/>
                  </a:lnTo>
                  <a:lnTo>
                    <a:pt x="45" y="138"/>
                  </a:lnTo>
                  <a:lnTo>
                    <a:pt x="38" y="133"/>
                  </a:lnTo>
                  <a:lnTo>
                    <a:pt x="31" y="128"/>
                  </a:lnTo>
                  <a:lnTo>
                    <a:pt x="25" y="122"/>
                  </a:lnTo>
                  <a:lnTo>
                    <a:pt x="19" y="117"/>
                  </a:lnTo>
                  <a:lnTo>
                    <a:pt x="15" y="110"/>
                  </a:lnTo>
                  <a:lnTo>
                    <a:pt x="11" y="104"/>
                  </a:lnTo>
                  <a:lnTo>
                    <a:pt x="7" y="97"/>
                  </a:lnTo>
                  <a:lnTo>
                    <a:pt x="4" y="90"/>
                  </a:lnTo>
                  <a:lnTo>
                    <a:pt x="2" y="82"/>
                  </a:lnTo>
                  <a:lnTo>
                    <a:pt x="1" y="74"/>
                  </a:lnTo>
                  <a:lnTo>
                    <a:pt x="0" y="68"/>
                  </a:lnTo>
                  <a:lnTo>
                    <a:pt x="1" y="60"/>
                  </a:lnTo>
                  <a:lnTo>
                    <a:pt x="2" y="53"/>
                  </a:lnTo>
                  <a:lnTo>
                    <a:pt x="4"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0" name=""/>
            <p:cNvSpPr/>
            <p:nvPr/>
          </p:nvSpPr>
          <p:spPr>
            <a:xfrm>
              <a:off x="3562920" y="5770800"/>
              <a:ext cx="258480" cy="101160"/>
            </a:xfrm>
            <a:custGeom>
              <a:avLst/>
              <a:gdLst/>
              <a:ahLst/>
              <a:rect l="l" t="t" r="r" b="b"/>
              <a:pathLst>
                <a:path w="1972" h="831">
                  <a:moveTo>
                    <a:pt x="1852" y="727"/>
                  </a:moveTo>
                  <a:lnTo>
                    <a:pt x="1933" y="690"/>
                  </a:lnTo>
                  <a:lnTo>
                    <a:pt x="43" y="0"/>
                  </a:lnTo>
                  <a:lnTo>
                    <a:pt x="0" y="120"/>
                  </a:lnTo>
                  <a:lnTo>
                    <a:pt x="1890" y="809"/>
                  </a:lnTo>
                  <a:lnTo>
                    <a:pt x="1972" y="771"/>
                  </a:lnTo>
                  <a:lnTo>
                    <a:pt x="1890" y="809"/>
                  </a:lnTo>
                  <a:lnTo>
                    <a:pt x="1950" y="831"/>
                  </a:lnTo>
                  <a:lnTo>
                    <a:pt x="1972" y="771"/>
                  </a:lnTo>
                  <a:lnTo>
                    <a:pt x="1852"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805920" y="5486760"/>
              <a:ext cx="160560" cy="377280"/>
            </a:xfrm>
            <a:custGeom>
              <a:avLst/>
              <a:gdLst/>
              <a:ahLst/>
              <a:rect l="l" t="t" r="r" b="b"/>
              <a:pathLst>
                <a:path w="1231" h="3106">
                  <a:moveTo>
                    <a:pt x="1172" y="22"/>
                  </a:moveTo>
                  <a:lnTo>
                    <a:pt x="1111" y="0"/>
                  </a:lnTo>
                  <a:lnTo>
                    <a:pt x="0" y="3062"/>
                  </a:lnTo>
                  <a:lnTo>
                    <a:pt x="120" y="3106"/>
                  </a:lnTo>
                  <a:lnTo>
                    <a:pt x="1231" y="44"/>
                  </a:lnTo>
                  <a:lnTo>
                    <a:pt x="117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3" name=""/>
            <p:cNvSpPr/>
            <p:nvPr/>
          </p:nvSpPr>
          <p:spPr>
            <a:xfrm>
              <a:off x="3702600" y="5702760"/>
              <a:ext cx="21960" cy="18360"/>
            </a:xfrm>
            <a:custGeom>
              <a:avLst/>
              <a:gdLst/>
              <a:ahLst/>
              <a:rect l="l" t="t" r="r" b="b"/>
              <a:pathLst>
                <a:path w="171" h="152">
                  <a:moveTo>
                    <a:pt x="3" y="46"/>
                  </a:moveTo>
                  <a:lnTo>
                    <a:pt x="7" y="39"/>
                  </a:lnTo>
                  <a:lnTo>
                    <a:pt x="11" y="32"/>
                  </a:lnTo>
                  <a:lnTo>
                    <a:pt x="15" y="27"/>
                  </a:lnTo>
                  <a:lnTo>
                    <a:pt x="19" y="22"/>
                  </a:lnTo>
                  <a:lnTo>
                    <a:pt x="26" y="17"/>
                  </a:lnTo>
                  <a:lnTo>
                    <a:pt x="32" y="13"/>
                  </a:lnTo>
                  <a:lnTo>
                    <a:pt x="39" y="9"/>
                  </a:lnTo>
                  <a:lnTo>
                    <a:pt x="45" y="5"/>
                  </a:lnTo>
                  <a:lnTo>
                    <a:pt x="53" y="3"/>
                  </a:lnTo>
                  <a:lnTo>
                    <a:pt x="60" y="2"/>
                  </a:lnTo>
                  <a:lnTo>
                    <a:pt x="69" y="1"/>
                  </a:lnTo>
                  <a:lnTo>
                    <a:pt x="78" y="0"/>
                  </a:lnTo>
                  <a:lnTo>
                    <a:pt x="85" y="1"/>
                  </a:lnTo>
                  <a:lnTo>
                    <a:pt x="94" y="2"/>
                  </a:lnTo>
                  <a:lnTo>
                    <a:pt x="102" y="4"/>
                  </a:lnTo>
                  <a:lnTo>
                    <a:pt x="111" y="6"/>
                  </a:lnTo>
                  <a:lnTo>
                    <a:pt x="120" y="10"/>
                  </a:lnTo>
                  <a:lnTo>
                    <a:pt x="127" y="14"/>
                  </a:lnTo>
                  <a:lnTo>
                    <a:pt x="135" y="18"/>
                  </a:lnTo>
                  <a:lnTo>
                    <a:pt x="141" y="24"/>
                  </a:lnTo>
                  <a:lnTo>
                    <a:pt x="148" y="29"/>
                  </a:lnTo>
                  <a:lnTo>
                    <a:pt x="153" y="36"/>
                  </a:lnTo>
                  <a:lnTo>
                    <a:pt x="157" y="42"/>
                  </a:lnTo>
                  <a:lnTo>
                    <a:pt x="162" y="49"/>
                  </a:lnTo>
                  <a:lnTo>
                    <a:pt x="165" y="55"/>
                  </a:lnTo>
                  <a:lnTo>
                    <a:pt x="168" y="63"/>
                  </a:lnTo>
                  <a:lnTo>
                    <a:pt x="170" y="69"/>
                  </a:lnTo>
                  <a:lnTo>
                    <a:pt x="171" y="77"/>
                  </a:lnTo>
                  <a:lnTo>
                    <a:pt x="171" y="84"/>
                  </a:lnTo>
                  <a:lnTo>
                    <a:pt x="171" y="92"/>
                  </a:lnTo>
                  <a:lnTo>
                    <a:pt x="170" y="99"/>
                  </a:lnTo>
                  <a:lnTo>
                    <a:pt x="168" y="106"/>
                  </a:lnTo>
                  <a:lnTo>
                    <a:pt x="165" y="113"/>
                  </a:lnTo>
                  <a:lnTo>
                    <a:pt x="162" y="120"/>
                  </a:lnTo>
                  <a:lnTo>
                    <a:pt x="157" y="125"/>
                  </a:lnTo>
                  <a:lnTo>
                    <a:pt x="152" y="131"/>
                  </a:lnTo>
                  <a:lnTo>
                    <a:pt x="147" y="136"/>
                  </a:lnTo>
                  <a:lnTo>
                    <a:pt x="140" y="140"/>
                  </a:lnTo>
                  <a:lnTo>
                    <a:pt x="134" y="144"/>
                  </a:lnTo>
                  <a:lnTo>
                    <a:pt x="126" y="147"/>
                  </a:lnTo>
                  <a:lnTo>
                    <a:pt x="119" y="149"/>
                  </a:lnTo>
                  <a:lnTo>
                    <a:pt x="111" y="151"/>
                  </a:lnTo>
                  <a:lnTo>
                    <a:pt x="102" y="152"/>
                  </a:lnTo>
                  <a:lnTo>
                    <a:pt x="95" y="152"/>
                  </a:lnTo>
                  <a:lnTo>
                    <a:pt x="86" y="151"/>
                  </a:lnTo>
                  <a:lnTo>
                    <a:pt x="78" y="150"/>
                  </a:lnTo>
                  <a:lnTo>
                    <a:pt x="69" y="149"/>
                  </a:lnTo>
                  <a:lnTo>
                    <a:pt x="60" y="146"/>
                  </a:lnTo>
                  <a:lnTo>
                    <a:pt x="53" y="142"/>
                  </a:lnTo>
                  <a:lnTo>
                    <a:pt x="44" y="138"/>
                  </a:lnTo>
                  <a:lnTo>
                    <a:pt x="38" y="134"/>
                  </a:lnTo>
                  <a:lnTo>
                    <a:pt x="30" y="128"/>
                  </a:lnTo>
                  <a:lnTo>
                    <a:pt x="25" y="123"/>
                  </a:lnTo>
                  <a:lnTo>
                    <a:pt x="19" y="118"/>
                  </a:lnTo>
                  <a:lnTo>
                    <a:pt x="14" y="111"/>
                  </a:lnTo>
                  <a:lnTo>
                    <a:pt x="10" y="105"/>
                  </a:lnTo>
                  <a:lnTo>
                    <a:pt x="7" y="97"/>
                  </a:lnTo>
                  <a:lnTo>
                    <a:pt x="3" y="91"/>
                  </a:lnTo>
                  <a:lnTo>
                    <a:pt x="1" y="83"/>
                  </a:lnTo>
                  <a:lnTo>
                    <a:pt x="0" y="76"/>
                  </a:lnTo>
                  <a:lnTo>
                    <a:pt x="0" y="68"/>
                  </a:lnTo>
                  <a:lnTo>
                    <a:pt x="0" y="60"/>
                  </a:lnTo>
                  <a:lnTo>
                    <a:pt x="1" y="54"/>
                  </a:lnTo>
                  <a:lnTo>
                    <a:pt x="3"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4"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5" name=""/>
            <p:cNvSpPr/>
            <p:nvPr/>
          </p:nvSpPr>
          <p:spPr>
            <a:xfrm>
              <a:off x="3693960" y="5662080"/>
              <a:ext cx="21960" cy="18360"/>
            </a:xfrm>
            <a:custGeom>
              <a:avLst/>
              <a:gdLst/>
              <a:ahLst/>
              <a:rect l="l" t="t" r="r" b="b"/>
              <a:pathLst>
                <a:path w="172" h="151">
                  <a:moveTo>
                    <a:pt x="4" y="46"/>
                  </a:moveTo>
                  <a:lnTo>
                    <a:pt x="6" y="39"/>
                  </a:lnTo>
                  <a:lnTo>
                    <a:pt x="10" y="33"/>
                  </a:lnTo>
                  <a:lnTo>
                    <a:pt x="15" y="27"/>
                  </a:lnTo>
                  <a:lnTo>
                    <a:pt x="20" y="22"/>
                  </a:lnTo>
                  <a:lnTo>
                    <a:pt x="25" y="16"/>
                  </a:lnTo>
                  <a:lnTo>
                    <a:pt x="32" y="12"/>
                  </a:lnTo>
                  <a:lnTo>
                    <a:pt x="38" y="9"/>
                  </a:lnTo>
                  <a:lnTo>
                    <a:pt x="46" y="6"/>
                  </a:lnTo>
                  <a:lnTo>
                    <a:pt x="53" y="3"/>
                  </a:lnTo>
                  <a:lnTo>
                    <a:pt x="61" y="1"/>
                  </a:lnTo>
                  <a:lnTo>
                    <a:pt x="68" y="0"/>
                  </a:lnTo>
                  <a:lnTo>
                    <a:pt x="77" y="0"/>
                  </a:lnTo>
                  <a:lnTo>
                    <a:pt x="86" y="0"/>
                  </a:lnTo>
                  <a:lnTo>
                    <a:pt x="94" y="1"/>
                  </a:lnTo>
                  <a:lnTo>
                    <a:pt x="102" y="3"/>
                  </a:lnTo>
                  <a:lnTo>
                    <a:pt x="110" y="7"/>
                  </a:lnTo>
                  <a:lnTo>
                    <a:pt x="119" y="10"/>
                  </a:lnTo>
                  <a:lnTo>
                    <a:pt x="127" y="14"/>
                  </a:lnTo>
                  <a:lnTo>
                    <a:pt x="134" y="19"/>
                  </a:lnTo>
                  <a:lnTo>
                    <a:pt x="141" y="24"/>
                  </a:lnTo>
                  <a:lnTo>
                    <a:pt x="147" y="29"/>
                  </a:lnTo>
                  <a:lnTo>
                    <a:pt x="152" y="35"/>
                  </a:lnTo>
                  <a:lnTo>
                    <a:pt x="157" y="41"/>
                  </a:lnTo>
                  <a:lnTo>
                    <a:pt x="161" y="48"/>
                  </a:lnTo>
                  <a:lnTo>
                    <a:pt x="165" y="55"/>
                  </a:lnTo>
                  <a:lnTo>
                    <a:pt x="168" y="62"/>
                  </a:lnTo>
                  <a:lnTo>
                    <a:pt x="170" y="69"/>
                  </a:lnTo>
                  <a:lnTo>
                    <a:pt x="171" y="77"/>
                  </a:lnTo>
                  <a:lnTo>
                    <a:pt x="172" y="84"/>
                  </a:lnTo>
                  <a:lnTo>
                    <a:pt x="171" y="91"/>
                  </a:lnTo>
                  <a:lnTo>
                    <a:pt x="170" y="98"/>
                  </a:lnTo>
                  <a:lnTo>
                    <a:pt x="168" y="106"/>
                  </a:lnTo>
                  <a:lnTo>
                    <a:pt x="164" y="112"/>
                  </a:lnTo>
                  <a:lnTo>
                    <a:pt x="161" y="119"/>
                  </a:lnTo>
                  <a:lnTo>
                    <a:pt x="157" y="125"/>
                  </a:lnTo>
                  <a:lnTo>
                    <a:pt x="151" y="131"/>
                  </a:lnTo>
                  <a:lnTo>
                    <a:pt x="146" y="135"/>
                  </a:lnTo>
                  <a:lnTo>
                    <a:pt x="140" y="139"/>
                  </a:lnTo>
                  <a:lnTo>
                    <a:pt x="133" y="144"/>
                  </a:lnTo>
                  <a:lnTo>
                    <a:pt x="126" y="146"/>
                  </a:lnTo>
                  <a:lnTo>
                    <a:pt x="118" y="149"/>
                  </a:lnTo>
                  <a:lnTo>
                    <a:pt x="110" y="150"/>
                  </a:lnTo>
                  <a:lnTo>
                    <a:pt x="103" y="151"/>
                  </a:lnTo>
                  <a:lnTo>
                    <a:pt x="94" y="151"/>
                  </a:lnTo>
                  <a:lnTo>
                    <a:pt x="86" y="151"/>
                  </a:lnTo>
                  <a:lnTo>
                    <a:pt x="77" y="150"/>
                  </a:lnTo>
                  <a:lnTo>
                    <a:pt x="68" y="148"/>
                  </a:lnTo>
                  <a:lnTo>
                    <a:pt x="60" y="146"/>
                  </a:lnTo>
                  <a:lnTo>
                    <a:pt x="52" y="142"/>
                  </a:lnTo>
                  <a:lnTo>
                    <a:pt x="45" y="138"/>
                  </a:lnTo>
                  <a:lnTo>
                    <a:pt x="37" y="134"/>
                  </a:lnTo>
                  <a:lnTo>
                    <a:pt x="31" y="129"/>
                  </a:lnTo>
                  <a:lnTo>
                    <a:pt x="24" y="123"/>
                  </a:lnTo>
                  <a:lnTo>
                    <a:pt x="19" y="117"/>
                  </a:lnTo>
                  <a:lnTo>
                    <a:pt x="14" y="110"/>
                  </a:lnTo>
                  <a:lnTo>
                    <a:pt x="9" y="104"/>
                  </a:lnTo>
                  <a:lnTo>
                    <a:pt x="6" y="97"/>
                  </a:lnTo>
                  <a:lnTo>
                    <a:pt x="4" y="90"/>
                  </a:lnTo>
                  <a:lnTo>
                    <a:pt x="2" y="82"/>
                  </a:lnTo>
                  <a:lnTo>
                    <a:pt x="1" y="76"/>
                  </a:lnTo>
                  <a:lnTo>
                    <a:pt x="0" y="68"/>
                  </a:lnTo>
                  <a:lnTo>
                    <a:pt x="0" y="61"/>
                  </a:lnTo>
                  <a:lnTo>
                    <a:pt x="2" y="53"/>
                  </a:lnTo>
                  <a:lnTo>
                    <a:pt x="4" y="46"/>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6"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7" name=""/>
            <p:cNvSpPr/>
            <p:nvPr/>
          </p:nvSpPr>
          <p:spPr>
            <a:xfrm>
              <a:off x="3713400" y="5610960"/>
              <a:ext cx="22680" cy="18360"/>
            </a:xfrm>
            <a:custGeom>
              <a:avLst/>
              <a:gdLst/>
              <a:ahLst/>
              <a:rect l="l" t="t" r="r" b="b"/>
              <a:pathLst>
                <a:path w="173" h="151">
                  <a:moveTo>
                    <a:pt x="4" y="45"/>
                  </a:moveTo>
                  <a:lnTo>
                    <a:pt x="7" y="38"/>
                  </a:lnTo>
                  <a:lnTo>
                    <a:pt x="11" y="32"/>
                  </a:lnTo>
                  <a:lnTo>
                    <a:pt x="15" y="26"/>
                  </a:lnTo>
                  <a:lnTo>
                    <a:pt x="21" y="21"/>
                  </a:lnTo>
                  <a:lnTo>
                    <a:pt x="26" y="16"/>
                  </a:lnTo>
                  <a:lnTo>
                    <a:pt x="33" y="11"/>
                  </a:lnTo>
                  <a:lnTo>
                    <a:pt x="39" y="8"/>
                  </a:lnTo>
                  <a:lnTo>
                    <a:pt x="46" y="5"/>
                  </a:lnTo>
                  <a:lnTo>
                    <a:pt x="53" y="3"/>
                  </a:lnTo>
                  <a:lnTo>
                    <a:pt x="62" y="1"/>
                  </a:lnTo>
                  <a:lnTo>
                    <a:pt x="69" y="0"/>
                  </a:lnTo>
                  <a:lnTo>
                    <a:pt x="78" y="0"/>
                  </a:lnTo>
                  <a:lnTo>
                    <a:pt x="85" y="0"/>
                  </a:lnTo>
                  <a:lnTo>
                    <a:pt x="94" y="2"/>
                  </a:lnTo>
                  <a:lnTo>
                    <a:pt x="103" y="3"/>
                  </a:lnTo>
                  <a:lnTo>
                    <a:pt x="111" y="6"/>
                  </a:lnTo>
                  <a:lnTo>
                    <a:pt x="120" y="9"/>
                  </a:lnTo>
                  <a:lnTo>
                    <a:pt x="127" y="14"/>
                  </a:lnTo>
                  <a:lnTo>
                    <a:pt x="135" y="18"/>
                  </a:lnTo>
                  <a:lnTo>
                    <a:pt x="141" y="23"/>
                  </a:lnTo>
                  <a:lnTo>
                    <a:pt x="148" y="29"/>
                  </a:lnTo>
                  <a:lnTo>
                    <a:pt x="153" y="34"/>
                  </a:lnTo>
                  <a:lnTo>
                    <a:pt x="158" y="41"/>
                  </a:lnTo>
                  <a:lnTo>
                    <a:pt x="162" y="47"/>
                  </a:lnTo>
                  <a:lnTo>
                    <a:pt x="165" y="55"/>
                  </a:lnTo>
                  <a:lnTo>
                    <a:pt x="168" y="61"/>
                  </a:lnTo>
                  <a:lnTo>
                    <a:pt x="170" y="69"/>
                  </a:lnTo>
                  <a:lnTo>
                    <a:pt x="172" y="76"/>
                  </a:lnTo>
                  <a:lnTo>
                    <a:pt x="173" y="84"/>
                  </a:lnTo>
                  <a:lnTo>
                    <a:pt x="172" y="91"/>
                  </a:lnTo>
                  <a:lnTo>
                    <a:pt x="170" y="98"/>
                  </a:lnTo>
                  <a:lnTo>
                    <a:pt x="168" y="105"/>
                  </a:lnTo>
                  <a:lnTo>
                    <a:pt x="165" y="112"/>
                  </a:lnTo>
                  <a:lnTo>
                    <a:pt x="162" y="118"/>
                  </a:lnTo>
                  <a:lnTo>
                    <a:pt x="158" y="125"/>
                  </a:lnTo>
                  <a:lnTo>
                    <a:pt x="152" y="130"/>
                  </a:lnTo>
                  <a:lnTo>
                    <a:pt x="147" y="134"/>
                  </a:lnTo>
                  <a:lnTo>
                    <a:pt x="140" y="139"/>
                  </a:lnTo>
                  <a:lnTo>
                    <a:pt x="134" y="143"/>
                  </a:lnTo>
                  <a:lnTo>
                    <a:pt x="126" y="145"/>
                  </a:lnTo>
                  <a:lnTo>
                    <a:pt x="119" y="148"/>
                  </a:lnTo>
                  <a:lnTo>
                    <a:pt x="111" y="150"/>
                  </a:lnTo>
                  <a:lnTo>
                    <a:pt x="103" y="151"/>
                  </a:lnTo>
                  <a:lnTo>
                    <a:pt x="95" y="151"/>
                  </a:lnTo>
                  <a:lnTo>
                    <a:pt x="87" y="151"/>
                  </a:lnTo>
                  <a:lnTo>
                    <a:pt x="78" y="150"/>
                  </a:lnTo>
                  <a:lnTo>
                    <a:pt x="69" y="147"/>
                  </a:lnTo>
                  <a:lnTo>
                    <a:pt x="61" y="145"/>
                  </a:lnTo>
                  <a:lnTo>
                    <a:pt x="53" y="142"/>
                  </a:lnTo>
                  <a:lnTo>
                    <a:pt x="45" y="138"/>
                  </a:lnTo>
                  <a:lnTo>
                    <a:pt x="38" y="133"/>
                  </a:lnTo>
                  <a:lnTo>
                    <a:pt x="31" y="128"/>
                  </a:lnTo>
                  <a:lnTo>
                    <a:pt x="25" y="123"/>
                  </a:lnTo>
                  <a:lnTo>
                    <a:pt x="20" y="116"/>
                  </a:lnTo>
                  <a:lnTo>
                    <a:pt x="14" y="110"/>
                  </a:lnTo>
                  <a:lnTo>
                    <a:pt x="10" y="103"/>
                  </a:lnTo>
                  <a:lnTo>
                    <a:pt x="7" y="97"/>
                  </a:lnTo>
                  <a:lnTo>
                    <a:pt x="4" y="89"/>
                  </a:lnTo>
                  <a:lnTo>
                    <a:pt x="1" y="83"/>
                  </a:lnTo>
                  <a:lnTo>
                    <a:pt x="0" y="75"/>
                  </a:lnTo>
                  <a:lnTo>
                    <a:pt x="0" y="67"/>
                  </a:lnTo>
                  <a:lnTo>
                    <a:pt x="0" y="60"/>
                  </a:lnTo>
                  <a:lnTo>
                    <a:pt x="1" y="52"/>
                  </a:lnTo>
                  <a:lnTo>
                    <a:pt x="4"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8"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9" name=""/>
            <p:cNvSpPr/>
            <p:nvPr/>
          </p:nvSpPr>
          <p:spPr>
            <a:xfrm>
              <a:off x="3836520" y="5547240"/>
              <a:ext cx="22680" cy="18360"/>
            </a:xfrm>
            <a:custGeom>
              <a:avLst/>
              <a:gdLst/>
              <a:ahLst/>
              <a:rect l="l" t="t" r="r" b="b"/>
              <a:pathLst>
                <a:path w="171" h="151">
                  <a:moveTo>
                    <a:pt x="3" y="45"/>
                  </a:moveTo>
                  <a:lnTo>
                    <a:pt x="6" y="39"/>
                  </a:lnTo>
                  <a:lnTo>
                    <a:pt x="10" y="32"/>
                  </a:lnTo>
                  <a:lnTo>
                    <a:pt x="14" y="27"/>
                  </a:lnTo>
                  <a:lnTo>
                    <a:pt x="19" y="21"/>
                  </a:lnTo>
                  <a:lnTo>
                    <a:pt x="25" y="16"/>
                  </a:lnTo>
                  <a:lnTo>
                    <a:pt x="31" y="12"/>
                  </a:lnTo>
                  <a:lnTo>
                    <a:pt x="38" y="9"/>
                  </a:lnTo>
                  <a:lnTo>
                    <a:pt x="45" y="5"/>
                  </a:lnTo>
                  <a:lnTo>
                    <a:pt x="53" y="3"/>
                  </a:lnTo>
                  <a:lnTo>
                    <a:pt x="60" y="1"/>
                  </a:lnTo>
                  <a:lnTo>
                    <a:pt x="69" y="0"/>
                  </a:lnTo>
                  <a:lnTo>
                    <a:pt x="76" y="0"/>
                  </a:lnTo>
                  <a:lnTo>
                    <a:pt x="85" y="0"/>
                  </a:lnTo>
                  <a:lnTo>
                    <a:pt x="94" y="1"/>
                  </a:lnTo>
                  <a:lnTo>
                    <a:pt x="102" y="3"/>
                  </a:lnTo>
                  <a:lnTo>
                    <a:pt x="111" y="6"/>
                  </a:lnTo>
                  <a:lnTo>
                    <a:pt x="118" y="10"/>
                  </a:lnTo>
                  <a:lnTo>
                    <a:pt x="127" y="14"/>
                  </a:lnTo>
                  <a:lnTo>
                    <a:pt x="134" y="18"/>
                  </a:lnTo>
                  <a:lnTo>
                    <a:pt x="141" y="24"/>
                  </a:lnTo>
                  <a:lnTo>
                    <a:pt x="146" y="29"/>
                  </a:lnTo>
                  <a:lnTo>
                    <a:pt x="152" y="34"/>
                  </a:lnTo>
                  <a:lnTo>
                    <a:pt x="157" y="41"/>
                  </a:lnTo>
                  <a:lnTo>
                    <a:pt x="162" y="47"/>
                  </a:lnTo>
                  <a:lnTo>
                    <a:pt x="165" y="55"/>
                  </a:lnTo>
                  <a:lnTo>
                    <a:pt x="168" y="61"/>
                  </a:lnTo>
                  <a:lnTo>
                    <a:pt x="170" y="69"/>
                  </a:lnTo>
                  <a:lnTo>
                    <a:pt x="171" y="77"/>
                  </a:lnTo>
                  <a:lnTo>
                    <a:pt x="171" y="84"/>
                  </a:lnTo>
                  <a:lnTo>
                    <a:pt x="171" y="91"/>
                  </a:lnTo>
                  <a:lnTo>
                    <a:pt x="170" y="98"/>
                  </a:lnTo>
                  <a:lnTo>
                    <a:pt x="168" y="106"/>
                  </a:lnTo>
                  <a:lnTo>
                    <a:pt x="165" y="112"/>
                  </a:lnTo>
                  <a:lnTo>
                    <a:pt x="160" y="119"/>
                  </a:lnTo>
                  <a:lnTo>
                    <a:pt x="156" y="125"/>
                  </a:lnTo>
                  <a:lnTo>
                    <a:pt x="152" y="130"/>
                  </a:lnTo>
                  <a:lnTo>
                    <a:pt x="145" y="135"/>
                  </a:lnTo>
                  <a:lnTo>
                    <a:pt x="139" y="139"/>
                  </a:lnTo>
                  <a:lnTo>
                    <a:pt x="132" y="143"/>
                  </a:lnTo>
                  <a:lnTo>
                    <a:pt x="126" y="146"/>
                  </a:lnTo>
                  <a:lnTo>
                    <a:pt x="118" y="149"/>
                  </a:lnTo>
                  <a:lnTo>
                    <a:pt x="110" y="150"/>
                  </a:lnTo>
                  <a:lnTo>
                    <a:pt x="102" y="151"/>
                  </a:lnTo>
                  <a:lnTo>
                    <a:pt x="94" y="151"/>
                  </a:lnTo>
                  <a:lnTo>
                    <a:pt x="86" y="151"/>
                  </a:lnTo>
                  <a:lnTo>
                    <a:pt x="78" y="150"/>
                  </a:lnTo>
                  <a:lnTo>
                    <a:pt x="69" y="148"/>
                  </a:lnTo>
                  <a:lnTo>
                    <a:pt x="60" y="146"/>
                  </a:lnTo>
                  <a:lnTo>
                    <a:pt x="52" y="142"/>
                  </a:lnTo>
                  <a:lnTo>
                    <a:pt x="44" y="138"/>
                  </a:lnTo>
                  <a:lnTo>
                    <a:pt x="37" y="134"/>
                  </a:lnTo>
                  <a:lnTo>
                    <a:pt x="30" y="128"/>
                  </a:lnTo>
                  <a:lnTo>
                    <a:pt x="24" y="123"/>
                  </a:lnTo>
                  <a:lnTo>
                    <a:pt x="18" y="116"/>
                  </a:lnTo>
                  <a:lnTo>
                    <a:pt x="14" y="110"/>
                  </a:lnTo>
                  <a:lnTo>
                    <a:pt x="10" y="104"/>
                  </a:lnTo>
                  <a:lnTo>
                    <a:pt x="6" y="97"/>
                  </a:lnTo>
                  <a:lnTo>
                    <a:pt x="3" y="89"/>
                  </a:lnTo>
                  <a:lnTo>
                    <a:pt x="1" y="83"/>
                  </a:lnTo>
                  <a:lnTo>
                    <a:pt x="0" y="75"/>
                  </a:lnTo>
                  <a:lnTo>
                    <a:pt x="0" y="68"/>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0"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1" name=""/>
            <p:cNvSpPr/>
            <p:nvPr/>
          </p:nvSpPr>
          <p:spPr>
            <a:xfrm>
              <a:off x="3647160" y="5655960"/>
              <a:ext cx="23040" cy="18360"/>
            </a:xfrm>
            <a:custGeom>
              <a:avLst/>
              <a:gdLst/>
              <a:ahLst/>
              <a:rect l="l" t="t" r="r" b="b"/>
              <a:pathLst>
                <a:path w="173" h="153">
                  <a:moveTo>
                    <a:pt x="5" y="47"/>
                  </a:moveTo>
                  <a:lnTo>
                    <a:pt x="8" y="39"/>
                  </a:lnTo>
                  <a:lnTo>
                    <a:pt x="11" y="33"/>
                  </a:lnTo>
                  <a:lnTo>
                    <a:pt x="15" y="27"/>
                  </a:lnTo>
                  <a:lnTo>
                    <a:pt x="21" y="22"/>
                  </a:lnTo>
                  <a:lnTo>
                    <a:pt x="26" y="17"/>
                  </a:lnTo>
                  <a:lnTo>
                    <a:pt x="33" y="13"/>
                  </a:lnTo>
                  <a:lnTo>
                    <a:pt x="39" y="9"/>
                  </a:lnTo>
                  <a:lnTo>
                    <a:pt x="47" y="6"/>
                  </a:lnTo>
                  <a:lnTo>
                    <a:pt x="54" y="4"/>
                  </a:lnTo>
                  <a:lnTo>
                    <a:pt x="62" y="3"/>
                  </a:lnTo>
                  <a:lnTo>
                    <a:pt x="70" y="2"/>
                  </a:lnTo>
                  <a:lnTo>
                    <a:pt x="78" y="0"/>
                  </a:lnTo>
                  <a:lnTo>
                    <a:pt x="86" y="2"/>
                  </a:lnTo>
                  <a:lnTo>
                    <a:pt x="95" y="3"/>
                  </a:lnTo>
                  <a:lnTo>
                    <a:pt x="104" y="5"/>
                  </a:lnTo>
                  <a:lnTo>
                    <a:pt x="112" y="7"/>
                  </a:lnTo>
                  <a:lnTo>
                    <a:pt x="120" y="10"/>
                  </a:lnTo>
                  <a:lnTo>
                    <a:pt x="128" y="14"/>
                  </a:lnTo>
                  <a:lnTo>
                    <a:pt x="135" y="19"/>
                  </a:lnTo>
                  <a:lnTo>
                    <a:pt x="142" y="24"/>
                  </a:lnTo>
                  <a:lnTo>
                    <a:pt x="148" y="30"/>
                  </a:lnTo>
                  <a:lnTo>
                    <a:pt x="153" y="36"/>
                  </a:lnTo>
                  <a:lnTo>
                    <a:pt x="159" y="41"/>
                  </a:lnTo>
                  <a:lnTo>
                    <a:pt x="163" y="49"/>
                  </a:lnTo>
                  <a:lnTo>
                    <a:pt x="166" y="56"/>
                  </a:lnTo>
                  <a:lnTo>
                    <a:pt x="169" y="63"/>
                  </a:lnTo>
                  <a:lnTo>
                    <a:pt x="170" y="70"/>
                  </a:lnTo>
                  <a:lnTo>
                    <a:pt x="173" y="77"/>
                  </a:lnTo>
                  <a:lnTo>
                    <a:pt x="173" y="85"/>
                  </a:lnTo>
                  <a:lnTo>
                    <a:pt x="173" y="92"/>
                  </a:lnTo>
                  <a:lnTo>
                    <a:pt x="172" y="100"/>
                  </a:lnTo>
                  <a:lnTo>
                    <a:pt x="169" y="106"/>
                  </a:lnTo>
                  <a:lnTo>
                    <a:pt x="166" y="114"/>
                  </a:lnTo>
                  <a:lnTo>
                    <a:pt x="162" y="120"/>
                  </a:lnTo>
                  <a:lnTo>
                    <a:pt x="158" y="126"/>
                  </a:lnTo>
                  <a:lnTo>
                    <a:pt x="152" y="131"/>
                  </a:lnTo>
                  <a:lnTo>
                    <a:pt x="147" y="136"/>
                  </a:lnTo>
                  <a:lnTo>
                    <a:pt x="140" y="141"/>
                  </a:lnTo>
                  <a:lnTo>
                    <a:pt x="134" y="144"/>
                  </a:lnTo>
                  <a:lnTo>
                    <a:pt x="127" y="147"/>
                  </a:lnTo>
                  <a:lnTo>
                    <a:pt x="120" y="149"/>
                  </a:lnTo>
                  <a:lnTo>
                    <a:pt x="111" y="152"/>
                  </a:lnTo>
                  <a:lnTo>
                    <a:pt x="104" y="152"/>
                  </a:lnTo>
                  <a:lnTo>
                    <a:pt x="95" y="153"/>
                  </a:lnTo>
                  <a:lnTo>
                    <a:pt x="86" y="152"/>
                  </a:lnTo>
                  <a:lnTo>
                    <a:pt x="79" y="150"/>
                  </a:lnTo>
                  <a:lnTo>
                    <a:pt x="70" y="149"/>
                  </a:lnTo>
                  <a:lnTo>
                    <a:pt x="62" y="146"/>
                  </a:lnTo>
                  <a:lnTo>
                    <a:pt x="53" y="143"/>
                  </a:lnTo>
                  <a:lnTo>
                    <a:pt x="46" y="139"/>
                  </a:lnTo>
                  <a:lnTo>
                    <a:pt x="38" y="134"/>
                  </a:lnTo>
                  <a:lnTo>
                    <a:pt x="32" y="129"/>
                  </a:lnTo>
                  <a:lnTo>
                    <a:pt x="25" y="123"/>
                  </a:lnTo>
                  <a:lnTo>
                    <a:pt x="20" y="118"/>
                  </a:lnTo>
                  <a:lnTo>
                    <a:pt x="15" y="112"/>
                  </a:lnTo>
                  <a:lnTo>
                    <a:pt x="11" y="104"/>
                  </a:lnTo>
                  <a:lnTo>
                    <a:pt x="7" y="98"/>
                  </a:lnTo>
                  <a:lnTo>
                    <a:pt x="5" y="91"/>
                  </a:lnTo>
                  <a:lnTo>
                    <a:pt x="2" y="84"/>
                  </a:lnTo>
                  <a:lnTo>
                    <a:pt x="1" y="76"/>
                  </a:lnTo>
                  <a:lnTo>
                    <a:pt x="0" y="68"/>
                  </a:lnTo>
                  <a:lnTo>
                    <a:pt x="1" y="61"/>
                  </a:lnTo>
                  <a:lnTo>
                    <a:pt x="2" y="53"/>
                  </a:lnTo>
                  <a:lnTo>
                    <a:pt x="5" y="47"/>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2"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3" name=""/>
            <p:cNvSpPr/>
            <p:nvPr/>
          </p:nvSpPr>
          <p:spPr>
            <a:xfrm>
              <a:off x="3645360" y="5693400"/>
              <a:ext cx="21960" cy="17640"/>
            </a:xfrm>
            <a:custGeom>
              <a:avLst/>
              <a:gdLst/>
              <a:ahLst/>
              <a:rect l="l" t="t" r="r" b="b"/>
              <a:pathLst>
                <a:path w="171" h="151">
                  <a:moveTo>
                    <a:pt x="3" y="45"/>
                  </a:moveTo>
                  <a:lnTo>
                    <a:pt x="6" y="39"/>
                  </a:lnTo>
                  <a:lnTo>
                    <a:pt x="11" y="33"/>
                  </a:lnTo>
                  <a:lnTo>
                    <a:pt x="15" y="27"/>
                  </a:lnTo>
                  <a:lnTo>
                    <a:pt x="19" y="22"/>
                  </a:lnTo>
                  <a:lnTo>
                    <a:pt x="26" y="16"/>
                  </a:lnTo>
                  <a:lnTo>
                    <a:pt x="32" y="12"/>
                  </a:lnTo>
                  <a:lnTo>
                    <a:pt x="39" y="9"/>
                  </a:lnTo>
                  <a:lnTo>
                    <a:pt x="45" y="6"/>
                  </a:lnTo>
                  <a:lnTo>
                    <a:pt x="53" y="3"/>
                  </a:lnTo>
                  <a:lnTo>
                    <a:pt x="60" y="1"/>
                  </a:lnTo>
                  <a:lnTo>
                    <a:pt x="69" y="0"/>
                  </a:lnTo>
                  <a:lnTo>
                    <a:pt x="78" y="0"/>
                  </a:lnTo>
                  <a:lnTo>
                    <a:pt x="85" y="0"/>
                  </a:lnTo>
                  <a:lnTo>
                    <a:pt x="94" y="1"/>
                  </a:lnTo>
                  <a:lnTo>
                    <a:pt x="102" y="3"/>
                  </a:lnTo>
                  <a:lnTo>
                    <a:pt x="111" y="7"/>
                  </a:lnTo>
                  <a:lnTo>
                    <a:pt x="120" y="10"/>
                  </a:lnTo>
                  <a:lnTo>
                    <a:pt x="127" y="14"/>
                  </a:lnTo>
                  <a:lnTo>
                    <a:pt x="135" y="18"/>
                  </a:lnTo>
                  <a:lnTo>
                    <a:pt x="141" y="24"/>
                  </a:lnTo>
                  <a:lnTo>
                    <a:pt x="148" y="29"/>
                  </a:lnTo>
                  <a:lnTo>
                    <a:pt x="153" y="35"/>
                  </a:lnTo>
                  <a:lnTo>
                    <a:pt x="157" y="41"/>
                  </a:lnTo>
                  <a:lnTo>
                    <a:pt x="162" y="48"/>
                  </a:lnTo>
                  <a:lnTo>
                    <a:pt x="165" y="55"/>
                  </a:lnTo>
                  <a:lnTo>
                    <a:pt x="168" y="62"/>
                  </a:lnTo>
                  <a:lnTo>
                    <a:pt x="170" y="69"/>
                  </a:lnTo>
                  <a:lnTo>
                    <a:pt x="171" y="77"/>
                  </a:lnTo>
                  <a:lnTo>
                    <a:pt x="171" y="84"/>
                  </a:lnTo>
                  <a:lnTo>
                    <a:pt x="171" y="91"/>
                  </a:lnTo>
                  <a:lnTo>
                    <a:pt x="170" y="98"/>
                  </a:lnTo>
                  <a:lnTo>
                    <a:pt x="168" y="106"/>
                  </a:lnTo>
                  <a:lnTo>
                    <a:pt x="165" y="112"/>
                  </a:lnTo>
                  <a:lnTo>
                    <a:pt x="162" y="119"/>
                  </a:lnTo>
                  <a:lnTo>
                    <a:pt x="157" y="125"/>
                  </a:lnTo>
                  <a:lnTo>
                    <a:pt x="152" y="131"/>
                  </a:lnTo>
                  <a:lnTo>
                    <a:pt x="146" y="135"/>
                  </a:lnTo>
                  <a:lnTo>
                    <a:pt x="140" y="139"/>
                  </a:lnTo>
                  <a:lnTo>
                    <a:pt x="134" y="144"/>
                  </a:lnTo>
                  <a:lnTo>
                    <a:pt x="126" y="146"/>
                  </a:lnTo>
                  <a:lnTo>
                    <a:pt x="118" y="149"/>
                  </a:lnTo>
                  <a:lnTo>
                    <a:pt x="111" y="150"/>
                  </a:lnTo>
                  <a:lnTo>
                    <a:pt x="102" y="151"/>
                  </a:lnTo>
                  <a:lnTo>
                    <a:pt x="95" y="151"/>
                  </a:lnTo>
                  <a:lnTo>
                    <a:pt x="86" y="151"/>
                  </a:lnTo>
                  <a:lnTo>
                    <a:pt x="78" y="150"/>
                  </a:lnTo>
                  <a:lnTo>
                    <a:pt x="69" y="148"/>
                  </a:lnTo>
                  <a:lnTo>
                    <a:pt x="60" y="146"/>
                  </a:lnTo>
                  <a:lnTo>
                    <a:pt x="53" y="143"/>
                  </a:lnTo>
                  <a:lnTo>
                    <a:pt x="44" y="138"/>
                  </a:lnTo>
                  <a:lnTo>
                    <a:pt x="38" y="134"/>
                  </a:lnTo>
                  <a:lnTo>
                    <a:pt x="30" y="129"/>
                  </a:lnTo>
                  <a:lnTo>
                    <a:pt x="25" y="123"/>
                  </a:lnTo>
                  <a:lnTo>
                    <a:pt x="19" y="117"/>
                  </a:lnTo>
                  <a:lnTo>
                    <a:pt x="14" y="110"/>
                  </a:lnTo>
                  <a:lnTo>
                    <a:pt x="10" y="104"/>
                  </a:lnTo>
                  <a:lnTo>
                    <a:pt x="6" y="97"/>
                  </a:lnTo>
                  <a:lnTo>
                    <a:pt x="3" y="90"/>
                  </a:lnTo>
                  <a:lnTo>
                    <a:pt x="1" y="83"/>
                  </a:lnTo>
                  <a:lnTo>
                    <a:pt x="0" y="76"/>
                  </a:lnTo>
                  <a:lnTo>
                    <a:pt x="0" y="68"/>
                  </a:lnTo>
                  <a:lnTo>
                    <a:pt x="0" y="61"/>
                  </a:lnTo>
                  <a:lnTo>
                    <a:pt x="1" y="53"/>
                  </a:lnTo>
                  <a:lnTo>
                    <a:pt x="3" y="45"/>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close/>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5" name=""/>
            <p:cNvSpPr/>
            <p:nvPr/>
          </p:nvSpPr>
          <p:spPr>
            <a:xfrm>
              <a:off x="3783960" y="5587200"/>
              <a:ext cx="23040" cy="18360"/>
            </a:xfrm>
            <a:custGeom>
              <a:avLst/>
              <a:gdLst/>
              <a:ahLst/>
              <a:rect l="l" t="t" r="r" b="b"/>
              <a:pathLst>
                <a:path w="171" h="151">
                  <a:moveTo>
                    <a:pt x="3" y="45"/>
                  </a:moveTo>
                  <a:lnTo>
                    <a:pt x="6" y="39"/>
                  </a:lnTo>
                  <a:lnTo>
                    <a:pt x="10" y="32"/>
                  </a:lnTo>
                  <a:lnTo>
                    <a:pt x="15" y="26"/>
                  </a:lnTo>
                  <a:lnTo>
                    <a:pt x="19" y="21"/>
                  </a:lnTo>
                  <a:lnTo>
                    <a:pt x="25" y="16"/>
                  </a:lnTo>
                  <a:lnTo>
                    <a:pt x="31" y="12"/>
                  </a:lnTo>
                  <a:lnTo>
                    <a:pt x="38" y="8"/>
                  </a:lnTo>
                  <a:lnTo>
                    <a:pt x="45" y="5"/>
                  </a:lnTo>
                  <a:lnTo>
                    <a:pt x="52" y="2"/>
                  </a:lnTo>
                  <a:lnTo>
                    <a:pt x="60" y="1"/>
                  </a:lnTo>
                  <a:lnTo>
                    <a:pt x="69" y="0"/>
                  </a:lnTo>
                  <a:lnTo>
                    <a:pt x="77" y="0"/>
                  </a:lnTo>
                  <a:lnTo>
                    <a:pt x="85" y="0"/>
                  </a:lnTo>
                  <a:lnTo>
                    <a:pt x="93" y="1"/>
                  </a:lnTo>
                  <a:lnTo>
                    <a:pt x="102" y="3"/>
                  </a:lnTo>
                  <a:lnTo>
                    <a:pt x="111" y="5"/>
                  </a:lnTo>
                  <a:lnTo>
                    <a:pt x="119" y="9"/>
                  </a:lnTo>
                  <a:lnTo>
                    <a:pt x="127" y="13"/>
                  </a:lnTo>
                  <a:lnTo>
                    <a:pt x="134" y="17"/>
                  </a:lnTo>
                  <a:lnTo>
                    <a:pt x="141" y="23"/>
                  </a:lnTo>
                  <a:lnTo>
                    <a:pt x="147" y="28"/>
                  </a:lnTo>
                  <a:lnTo>
                    <a:pt x="153" y="35"/>
                  </a:lnTo>
                  <a:lnTo>
                    <a:pt x="157" y="41"/>
                  </a:lnTo>
                  <a:lnTo>
                    <a:pt x="161" y="47"/>
                  </a:lnTo>
                  <a:lnTo>
                    <a:pt x="164" y="54"/>
                  </a:lnTo>
                  <a:lnTo>
                    <a:pt x="168" y="62"/>
                  </a:lnTo>
                  <a:lnTo>
                    <a:pt x="170" y="69"/>
                  </a:lnTo>
                  <a:lnTo>
                    <a:pt x="171" y="76"/>
                  </a:lnTo>
                  <a:lnTo>
                    <a:pt x="171" y="83"/>
                  </a:lnTo>
                  <a:lnTo>
                    <a:pt x="171" y="91"/>
                  </a:lnTo>
                  <a:lnTo>
                    <a:pt x="170" y="98"/>
                  </a:lnTo>
                  <a:lnTo>
                    <a:pt x="168" y="105"/>
                  </a:lnTo>
                  <a:lnTo>
                    <a:pt x="164" y="112"/>
                  </a:lnTo>
                  <a:lnTo>
                    <a:pt x="161" y="119"/>
                  </a:lnTo>
                  <a:lnTo>
                    <a:pt x="156" y="124"/>
                  </a:lnTo>
                  <a:lnTo>
                    <a:pt x="151" y="130"/>
                  </a:lnTo>
                  <a:lnTo>
                    <a:pt x="146" y="135"/>
                  </a:lnTo>
                  <a:lnTo>
                    <a:pt x="140" y="139"/>
                  </a:lnTo>
                  <a:lnTo>
                    <a:pt x="133" y="142"/>
                  </a:lnTo>
                  <a:lnTo>
                    <a:pt x="126" y="146"/>
                  </a:lnTo>
                  <a:lnTo>
                    <a:pt x="118" y="148"/>
                  </a:lnTo>
                  <a:lnTo>
                    <a:pt x="111" y="150"/>
                  </a:lnTo>
                  <a:lnTo>
                    <a:pt x="102" y="151"/>
                  </a:lnTo>
                  <a:lnTo>
                    <a:pt x="94" y="151"/>
                  </a:lnTo>
                  <a:lnTo>
                    <a:pt x="86" y="151"/>
                  </a:lnTo>
                  <a:lnTo>
                    <a:pt x="77" y="150"/>
                  </a:lnTo>
                  <a:lnTo>
                    <a:pt x="69" y="148"/>
                  </a:lnTo>
                  <a:lnTo>
                    <a:pt x="60" y="145"/>
                  </a:lnTo>
                  <a:lnTo>
                    <a:pt x="51" y="141"/>
                  </a:lnTo>
                  <a:lnTo>
                    <a:pt x="44" y="137"/>
                  </a:lnTo>
                  <a:lnTo>
                    <a:pt x="37" y="133"/>
                  </a:lnTo>
                  <a:lnTo>
                    <a:pt x="30" y="127"/>
                  </a:lnTo>
                  <a:lnTo>
                    <a:pt x="24" y="122"/>
                  </a:lnTo>
                  <a:lnTo>
                    <a:pt x="19" y="117"/>
                  </a:lnTo>
                  <a:lnTo>
                    <a:pt x="14" y="110"/>
                  </a:lnTo>
                  <a:lnTo>
                    <a:pt x="9" y="104"/>
                  </a:lnTo>
                  <a:lnTo>
                    <a:pt x="6" y="96"/>
                  </a:lnTo>
                  <a:lnTo>
                    <a:pt x="3" y="90"/>
                  </a:lnTo>
                  <a:lnTo>
                    <a:pt x="1" y="82"/>
                  </a:lnTo>
                  <a:lnTo>
                    <a:pt x="0" y="74"/>
                  </a:lnTo>
                  <a:lnTo>
                    <a:pt x="0" y="67"/>
                  </a:lnTo>
                  <a:lnTo>
                    <a:pt x="0" y="60"/>
                  </a:lnTo>
                  <a:lnTo>
                    <a:pt x="1" y="53"/>
                  </a:lnTo>
                  <a:lnTo>
                    <a:pt x="3" y="45"/>
                  </a:lnTo>
                </a:path>
              </a:pathLst>
            </a:custGeom>
            <a:no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close/>
                </a:path>
              </a:pathLst>
            </a:custGeom>
            <a:solidFill>
              <a:srgbClr val="b2b2b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 name=""/>
            <p:cNvSpPr/>
            <p:nvPr/>
          </p:nvSpPr>
          <p:spPr>
            <a:xfrm>
              <a:off x="3596040" y="5724720"/>
              <a:ext cx="23040" cy="17640"/>
            </a:xfrm>
            <a:custGeom>
              <a:avLst/>
              <a:gdLst/>
              <a:ahLst/>
              <a:rect l="l" t="t" r="r" b="b"/>
              <a:pathLst>
                <a:path w="171" h="151">
                  <a:moveTo>
                    <a:pt x="3" y="46"/>
                  </a:moveTo>
                  <a:lnTo>
                    <a:pt x="6" y="39"/>
                  </a:lnTo>
                  <a:lnTo>
                    <a:pt x="9" y="32"/>
                  </a:lnTo>
                  <a:lnTo>
                    <a:pt x="13" y="27"/>
                  </a:lnTo>
                  <a:lnTo>
                    <a:pt x="19" y="22"/>
                  </a:lnTo>
                  <a:lnTo>
                    <a:pt x="24" y="16"/>
                  </a:lnTo>
                  <a:lnTo>
                    <a:pt x="31" y="12"/>
                  </a:lnTo>
                  <a:lnTo>
                    <a:pt x="37" y="9"/>
                  </a:lnTo>
                  <a:lnTo>
                    <a:pt x="45" y="5"/>
                  </a:lnTo>
                  <a:lnTo>
                    <a:pt x="52" y="3"/>
                  </a:lnTo>
                  <a:lnTo>
                    <a:pt x="60" y="1"/>
                  </a:lnTo>
                  <a:lnTo>
                    <a:pt x="68" y="0"/>
                  </a:lnTo>
                  <a:lnTo>
                    <a:pt x="76" y="0"/>
                  </a:lnTo>
                  <a:lnTo>
                    <a:pt x="85" y="1"/>
                  </a:lnTo>
                  <a:lnTo>
                    <a:pt x="93" y="2"/>
                  </a:lnTo>
                  <a:lnTo>
                    <a:pt x="102" y="3"/>
                  </a:lnTo>
                  <a:lnTo>
                    <a:pt x="110" y="7"/>
                  </a:lnTo>
                  <a:lnTo>
                    <a:pt x="119" y="10"/>
                  </a:lnTo>
                  <a:lnTo>
                    <a:pt x="127" y="14"/>
                  </a:lnTo>
                  <a:lnTo>
                    <a:pt x="133" y="18"/>
                  </a:lnTo>
                  <a:lnTo>
                    <a:pt x="141" y="24"/>
                  </a:lnTo>
                  <a:lnTo>
                    <a:pt x="146" y="29"/>
                  </a:lnTo>
                  <a:lnTo>
                    <a:pt x="151" y="35"/>
                  </a:lnTo>
                  <a:lnTo>
                    <a:pt x="157" y="41"/>
                  </a:lnTo>
                  <a:lnTo>
                    <a:pt x="161" y="48"/>
                  </a:lnTo>
                  <a:lnTo>
                    <a:pt x="164" y="55"/>
                  </a:lnTo>
                  <a:lnTo>
                    <a:pt x="167" y="62"/>
                  </a:lnTo>
                  <a:lnTo>
                    <a:pt x="170" y="69"/>
                  </a:lnTo>
                  <a:lnTo>
                    <a:pt x="171" y="77"/>
                  </a:lnTo>
                  <a:lnTo>
                    <a:pt x="171" y="84"/>
                  </a:lnTo>
                  <a:lnTo>
                    <a:pt x="171" y="92"/>
                  </a:lnTo>
                  <a:lnTo>
                    <a:pt x="170" y="98"/>
                  </a:lnTo>
                  <a:lnTo>
                    <a:pt x="167" y="106"/>
                  </a:lnTo>
                  <a:lnTo>
                    <a:pt x="164" y="113"/>
                  </a:lnTo>
                  <a:lnTo>
                    <a:pt x="160" y="119"/>
                  </a:lnTo>
                  <a:lnTo>
                    <a:pt x="156" y="125"/>
                  </a:lnTo>
                  <a:lnTo>
                    <a:pt x="151" y="131"/>
                  </a:lnTo>
                  <a:lnTo>
                    <a:pt x="145" y="135"/>
                  </a:lnTo>
                  <a:lnTo>
                    <a:pt x="139" y="139"/>
                  </a:lnTo>
                  <a:lnTo>
                    <a:pt x="132" y="144"/>
                  </a:lnTo>
                  <a:lnTo>
                    <a:pt x="125" y="146"/>
                  </a:lnTo>
                  <a:lnTo>
                    <a:pt x="118" y="149"/>
                  </a:lnTo>
                  <a:lnTo>
                    <a:pt x="110" y="150"/>
                  </a:lnTo>
                  <a:lnTo>
                    <a:pt x="102" y="151"/>
                  </a:lnTo>
                  <a:lnTo>
                    <a:pt x="93" y="151"/>
                  </a:lnTo>
                  <a:lnTo>
                    <a:pt x="86" y="151"/>
                  </a:lnTo>
                  <a:lnTo>
                    <a:pt x="77" y="150"/>
                  </a:lnTo>
                  <a:lnTo>
                    <a:pt x="68" y="148"/>
                  </a:lnTo>
                  <a:lnTo>
                    <a:pt x="60" y="146"/>
                  </a:lnTo>
                  <a:lnTo>
                    <a:pt x="51" y="143"/>
                  </a:lnTo>
                  <a:lnTo>
                    <a:pt x="44" y="138"/>
                  </a:lnTo>
                  <a:lnTo>
                    <a:pt x="36" y="134"/>
                  </a:lnTo>
                  <a:lnTo>
                    <a:pt x="30" y="129"/>
                  </a:lnTo>
                  <a:lnTo>
                    <a:pt x="23" y="123"/>
                  </a:lnTo>
                  <a:lnTo>
                    <a:pt x="18" y="117"/>
                  </a:lnTo>
                  <a:lnTo>
                    <a:pt x="13" y="110"/>
                  </a:lnTo>
                  <a:lnTo>
                    <a:pt x="9" y="104"/>
                  </a:lnTo>
                  <a:lnTo>
                    <a:pt x="6" y="97"/>
                  </a:lnTo>
                  <a:lnTo>
                    <a:pt x="3" y="90"/>
                  </a:lnTo>
                  <a:lnTo>
                    <a:pt x="1" y="83"/>
                  </a:lnTo>
                  <a:lnTo>
                    <a:pt x="0" y="76"/>
                  </a:lnTo>
                  <a:lnTo>
                    <a:pt x="0" y="68"/>
                  </a:lnTo>
                  <a:lnTo>
                    <a:pt x="0" y="61"/>
                  </a:lnTo>
                  <a:lnTo>
                    <a:pt x="1" y="53"/>
                  </a:lnTo>
                  <a:lnTo>
                    <a:pt x="3" y="46"/>
                  </a:lnTo>
                </a:path>
              </a:pathLst>
            </a:custGeom>
            <a:noFill/>
            <a:ln w="18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 name=""/>
            <p:cNvSpPr/>
            <p:nvPr/>
          </p:nvSpPr>
          <p:spPr>
            <a:xfrm>
              <a:off x="3450960" y="5253840"/>
              <a:ext cx="27216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50960" y="5253840"/>
              <a:ext cx="272160" cy="3459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51792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51792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552120" y="5316840"/>
              <a:ext cx="33840" cy="251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552120" y="5316840"/>
              <a:ext cx="33840" cy="251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85960" y="5442480"/>
              <a:ext cx="33840" cy="1256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585960" y="5442480"/>
              <a:ext cx="33840" cy="12564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619800" y="5474160"/>
              <a:ext cx="33840" cy="943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619800" y="5474160"/>
              <a:ext cx="33840" cy="9432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653640" y="5521680"/>
              <a:ext cx="3384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09" name=""/>
            <p:cNvSpPr/>
            <p:nvPr/>
          </p:nvSpPr>
          <p:spPr>
            <a:xfrm>
              <a:off x="3653640" y="5521680"/>
              <a:ext cx="3384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0" name=""/>
            <p:cNvSpPr/>
            <p:nvPr/>
          </p:nvSpPr>
          <p:spPr>
            <a:xfrm>
              <a:off x="3485160" y="5521680"/>
              <a:ext cx="32760" cy="46800"/>
            </a:xfrm>
            <a:prstGeom prst="rect">
              <a:avLst/>
            </a:prstGeom>
            <a:solidFill>
              <a:srgbClr val="9999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1" name=""/>
            <p:cNvSpPr/>
            <p:nvPr/>
          </p:nvSpPr>
          <p:spPr>
            <a:xfrm>
              <a:off x="3485160" y="5521680"/>
              <a:ext cx="32760" cy="46800"/>
            </a:xfrm>
            <a:prstGeom prst="rect">
              <a:avLst/>
            </a:prstGeom>
            <a:noFill/>
            <a:ln w="18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2" name=""/>
            <p:cNvSpPr/>
            <p:nvPr/>
          </p:nvSpPr>
          <p:spPr>
            <a:xfrm>
              <a:off x="3475800" y="5285160"/>
              <a:ext cx="16920" cy="290520"/>
            </a:xfrm>
            <a:custGeom>
              <a:avLst/>
              <a:gdLst/>
              <a:ahLst/>
              <a:rect l="l" t="t" r="r" b="b"/>
              <a:pathLst>
                <a:path w="128" h="2392">
                  <a:moveTo>
                    <a:pt x="65" y="2265"/>
                  </a:moveTo>
                  <a:lnTo>
                    <a:pt x="128" y="2329"/>
                  </a:lnTo>
                  <a:lnTo>
                    <a:pt x="128" y="0"/>
                  </a:lnTo>
                  <a:lnTo>
                    <a:pt x="0" y="0"/>
                  </a:lnTo>
                  <a:lnTo>
                    <a:pt x="0" y="2329"/>
                  </a:lnTo>
                  <a:lnTo>
                    <a:pt x="65" y="2392"/>
                  </a:lnTo>
                  <a:lnTo>
                    <a:pt x="0" y="2329"/>
                  </a:lnTo>
                  <a:lnTo>
                    <a:pt x="0" y="2392"/>
                  </a:lnTo>
                  <a:lnTo>
                    <a:pt x="65" y="2392"/>
                  </a:lnTo>
                  <a:lnTo>
                    <a:pt x="65" y="2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485160" y="5560920"/>
              <a:ext cx="202320" cy="15120"/>
            </a:xfrm>
            <a:custGeom>
              <a:avLst/>
              <a:gdLst/>
              <a:ahLst/>
              <a:rect l="l" t="t" r="r" b="b"/>
              <a:pathLst>
                <a:path w="1548" h="127">
                  <a:moveTo>
                    <a:pt x="1548" y="64"/>
                  </a:moveTo>
                  <a:lnTo>
                    <a:pt x="1548" y="0"/>
                  </a:lnTo>
                  <a:lnTo>
                    <a:pt x="0" y="0"/>
                  </a:lnTo>
                  <a:lnTo>
                    <a:pt x="0" y="127"/>
                  </a:lnTo>
                  <a:lnTo>
                    <a:pt x="1548" y="127"/>
                  </a:lnTo>
                  <a:lnTo>
                    <a:pt x="1548"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4" name=""/>
            <p:cNvSpPr/>
            <p:nvPr/>
          </p:nvSpPr>
          <p:spPr>
            <a:xfrm>
              <a:off x="3261240" y="5363640"/>
              <a:ext cx="382320" cy="354960"/>
            </a:xfrm>
            <a:custGeom>
              <a:avLst/>
              <a:gdLst/>
              <a:ahLst/>
              <a:rect l="l" t="t" r="r" b="b"/>
              <a:pathLst>
                <a:path w="2919" h="2926">
                  <a:moveTo>
                    <a:pt x="730" y="194"/>
                  </a:moveTo>
                  <a:lnTo>
                    <a:pt x="796" y="158"/>
                  </a:lnTo>
                  <a:lnTo>
                    <a:pt x="863" y="126"/>
                  </a:lnTo>
                  <a:lnTo>
                    <a:pt x="931" y="98"/>
                  </a:lnTo>
                  <a:lnTo>
                    <a:pt x="999" y="73"/>
                  </a:lnTo>
                  <a:lnTo>
                    <a:pt x="1068" y="52"/>
                  </a:lnTo>
                  <a:lnTo>
                    <a:pt x="1138" y="34"/>
                  </a:lnTo>
                  <a:lnTo>
                    <a:pt x="1208" y="20"/>
                  </a:lnTo>
                  <a:lnTo>
                    <a:pt x="1279" y="10"/>
                  </a:lnTo>
                  <a:lnTo>
                    <a:pt x="1349" y="3"/>
                  </a:lnTo>
                  <a:lnTo>
                    <a:pt x="1420" y="0"/>
                  </a:lnTo>
                  <a:lnTo>
                    <a:pt x="1490" y="0"/>
                  </a:lnTo>
                  <a:lnTo>
                    <a:pt x="1561" y="3"/>
                  </a:lnTo>
                  <a:lnTo>
                    <a:pt x="1631" y="10"/>
                  </a:lnTo>
                  <a:lnTo>
                    <a:pt x="1700" y="19"/>
                  </a:lnTo>
                  <a:lnTo>
                    <a:pt x="1769" y="33"/>
                  </a:lnTo>
                  <a:lnTo>
                    <a:pt x="1838" y="49"/>
                  </a:lnTo>
                  <a:lnTo>
                    <a:pt x="1905" y="69"/>
                  </a:lnTo>
                  <a:lnTo>
                    <a:pt x="1972" y="93"/>
                  </a:lnTo>
                  <a:lnTo>
                    <a:pt x="2036" y="119"/>
                  </a:lnTo>
                  <a:lnTo>
                    <a:pt x="2101" y="148"/>
                  </a:lnTo>
                  <a:lnTo>
                    <a:pt x="2163" y="180"/>
                  </a:lnTo>
                  <a:lnTo>
                    <a:pt x="2225" y="216"/>
                  </a:lnTo>
                  <a:lnTo>
                    <a:pt x="2284" y="255"/>
                  </a:lnTo>
                  <a:lnTo>
                    <a:pt x="2342" y="296"/>
                  </a:lnTo>
                  <a:lnTo>
                    <a:pt x="2397" y="340"/>
                  </a:lnTo>
                  <a:lnTo>
                    <a:pt x="2451" y="387"/>
                  </a:lnTo>
                  <a:lnTo>
                    <a:pt x="2503" y="437"/>
                  </a:lnTo>
                  <a:lnTo>
                    <a:pt x="2552" y="491"/>
                  </a:lnTo>
                  <a:lnTo>
                    <a:pt x="2599" y="546"/>
                  </a:lnTo>
                  <a:lnTo>
                    <a:pt x="2644" y="605"/>
                  </a:lnTo>
                  <a:lnTo>
                    <a:pt x="2686" y="667"/>
                  </a:lnTo>
                  <a:lnTo>
                    <a:pt x="2725" y="731"/>
                  </a:lnTo>
                  <a:lnTo>
                    <a:pt x="2761" y="796"/>
                  </a:lnTo>
                  <a:lnTo>
                    <a:pt x="2793" y="863"/>
                  </a:lnTo>
                  <a:lnTo>
                    <a:pt x="2821" y="931"/>
                  </a:lnTo>
                  <a:lnTo>
                    <a:pt x="2846" y="1000"/>
                  </a:lnTo>
                  <a:lnTo>
                    <a:pt x="2868" y="1070"/>
                  </a:lnTo>
                  <a:lnTo>
                    <a:pt x="2885" y="1140"/>
                  </a:lnTo>
                  <a:lnTo>
                    <a:pt x="2899" y="1211"/>
                  </a:lnTo>
                  <a:lnTo>
                    <a:pt x="2910" y="1281"/>
                  </a:lnTo>
                  <a:lnTo>
                    <a:pt x="2916" y="1352"/>
                  </a:lnTo>
                  <a:lnTo>
                    <a:pt x="2919" y="1422"/>
                  </a:lnTo>
                  <a:lnTo>
                    <a:pt x="2919" y="1494"/>
                  </a:lnTo>
                  <a:lnTo>
                    <a:pt x="2916" y="1564"/>
                  </a:lnTo>
                  <a:lnTo>
                    <a:pt x="2910" y="1634"/>
                  </a:lnTo>
                  <a:lnTo>
                    <a:pt x="2900" y="1704"/>
                  </a:lnTo>
                  <a:lnTo>
                    <a:pt x="2887" y="1773"/>
                  </a:lnTo>
                  <a:lnTo>
                    <a:pt x="2870" y="1841"/>
                  </a:lnTo>
                  <a:lnTo>
                    <a:pt x="2850" y="1909"/>
                  </a:lnTo>
                  <a:lnTo>
                    <a:pt x="2828" y="1975"/>
                  </a:lnTo>
                  <a:lnTo>
                    <a:pt x="2801" y="2041"/>
                  </a:lnTo>
                  <a:lnTo>
                    <a:pt x="2772" y="2104"/>
                  </a:lnTo>
                  <a:lnTo>
                    <a:pt x="2739" y="2167"/>
                  </a:lnTo>
                  <a:lnTo>
                    <a:pt x="2704" y="2229"/>
                  </a:lnTo>
                  <a:lnTo>
                    <a:pt x="2666" y="2288"/>
                  </a:lnTo>
                  <a:lnTo>
                    <a:pt x="2624" y="2346"/>
                  </a:lnTo>
                  <a:lnTo>
                    <a:pt x="2580" y="2402"/>
                  </a:lnTo>
                  <a:lnTo>
                    <a:pt x="2533" y="2456"/>
                  </a:lnTo>
                  <a:lnTo>
                    <a:pt x="2483" y="2508"/>
                  </a:lnTo>
                  <a:lnTo>
                    <a:pt x="2430" y="2558"/>
                  </a:lnTo>
                  <a:lnTo>
                    <a:pt x="2374" y="2605"/>
                  </a:lnTo>
                  <a:lnTo>
                    <a:pt x="2316" y="2649"/>
                  </a:lnTo>
                  <a:lnTo>
                    <a:pt x="2255" y="2692"/>
                  </a:lnTo>
                  <a:lnTo>
                    <a:pt x="2190" y="2730"/>
                  </a:lnTo>
                  <a:lnTo>
                    <a:pt x="2125" y="2766"/>
                  </a:lnTo>
                  <a:lnTo>
                    <a:pt x="2058" y="2798"/>
                  </a:lnTo>
                  <a:lnTo>
                    <a:pt x="1990" y="2828"/>
                  </a:lnTo>
                  <a:lnTo>
                    <a:pt x="1921" y="2852"/>
                  </a:lnTo>
                  <a:lnTo>
                    <a:pt x="1852" y="2873"/>
                  </a:lnTo>
                  <a:lnTo>
                    <a:pt x="1782" y="2891"/>
                  </a:lnTo>
                  <a:lnTo>
                    <a:pt x="1712" y="2905"/>
                  </a:lnTo>
                  <a:lnTo>
                    <a:pt x="1641" y="2915"/>
                  </a:lnTo>
                  <a:lnTo>
                    <a:pt x="1571" y="2923"/>
                  </a:lnTo>
                  <a:lnTo>
                    <a:pt x="1500" y="2926"/>
                  </a:lnTo>
                  <a:lnTo>
                    <a:pt x="1429" y="2926"/>
                  </a:lnTo>
                  <a:lnTo>
                    <a:pt x="1359" y="2923"/>
                  </a:lnTo>
                  <a:lnTo>
                    <a:pt x="1289" y="2916"/>
                  </a:lnTo>
                  <a:lnTo>
                    <a:pt x="1219" y="2905"/>
                  </a:lnTo>
                  <a:lnTo>
                    <a:pt x="1150" y="2892"/>
                  </a:lnTo>
                  <a:lnTo>
                    <a:pt x="1082" y="2876"/>
                  </a:lnTo>
                  <a:lnTo>
                    <a:pt x="1016" y="2856"/>
                  </a:lnTo>
                  <a:lnTo>
                    <a:pt x="949" y="2833"/>
                  </a:lnTo>
                  <a:lnTo>
                    <a:pt x="883" y="2807"/>
                  </a:lnTo>
                  <a:lnTo>
                    <a:pt x="820" y="2778"/>
                  </a:lnTo>
                  <a:lnTo>
                    <a:pt x="757" y="2746"/>
                  </a:lnTo>
                  <a:lnTo>
                    <a:pt x="696" y="2710"/>
                  </a:lnTo>
                  <a:lnTo>
                    <a:pt x="637" y="2671"/>
                  </a:lnTo>
                  <a:lnTo>
                    <a:pt x="578" y="2630"/>
                  </a:lnTo>
                  <a:lnTo>
                    <a:pt x="522" y="2586"/>
                  </a:lnTo>
                  <a:lnTo>
                    <a:pt x="469" y="2538"/>
                  </a:lnTo>
                  <a:lnTo>
                    <a:pt x="417" y="2488"/>
                  </a:lnTo>
                  <a:lnTo>
                    <a:pt x="367" y="2435"/>
                  </a:lnTo>
                  <a:lnTo>
                    <a:pt x="321" y="2379"/>
                  </a:lnTo>
                  <a:lnTo>
                    <a:pt x="276" y="2320"/>
                  </a:lnTo>
                  <a:lnTo>
                    <a:pt x="234" y="2259"/>
                  </a:lnTo>
                  <a:lnTo>
                    <a:pt x="195" y="2195"/>
                  </a:lnTo>
                  <a:lnTo>
                    <a:pt x="160" y="2128"/>
                  </a:lnTo>
                  <a:lnTo>
                    <a:pt x="127" y="2061"/>
                  </a:lnTo>
                  <a:lnTo>
                    <a:pt x="99" y="1993"/>
                  </a:lnTo>
                  <a:lnTo>
                    <a:pt x="75" y="1925"/>
                  </a:lnTo>
                  <a:lnTo>
                    <a:pt x="53" y="1855"/>
                  </a:lnTo>
                  <a:lnTo>
                    <a:pt x="36" y="1785"/>
                  </a:lnTo>
                  <a:lnTo>
                    <a:pt x="22" y="1715"/>
                  </a:lnTo>
                  <a:lnTo>
                    <a:pt x="11" y="1645"/>
                  </a:lnTo>
                  <a:lnTo>
                    <a:pt x="5" y="1573"/>
                  </a:lnTo>
                  <a:lnTo>
                    <a:pt x="0" y="1502"/>
                  </a:lnTo>
                  <a:lnTo>
                    <a:pt x="0" y="1432"/>
                  </a:lnTo>
                  <a:lnTo>
                    <a:pt x="4" y="1361"/>
                  </a:lnTo>
                  <a:lnTo>
                    <a:pt x="11" y="1291"/>
                  </a:lnTo>
                  <a:lnTo>
                    <a:pt x="21" y="1222"/>
                  </a:lnTo>
                  <a:lnTo>
                    <a:pt x="34" y="1153"/>
                  </a:lnTo>
                  <a:lnTo>
                    <a:pt x="51" y="1083"/>
                  </a:lnTo>
                  <a:lnTo>
                    <a:pt x="70" y="1017"/>
                  </a:lnTo>
                  <a:lnTo>
                    <a:pt x="93" y="950"/>
                  </a:lnTo>
                  <a:lnTo>
                    <a:pt x="119" y="885"/>
                  </a:lnTo>
                  <a:lnTo>
                    <a:pt x="149" y="820"/>
                  </a:lnTo>
                  <a:lnTo>
                    <a:pt x="181" y="757"/>
                  </a:lnTo>
                  <a:lnTo>
                    <a:pt x="216" y="697"/>
                  </a:lnTo>
                  <a:lnTo>
                    <a:pt x="254" y="637"/>
                  </a:lnTo>
                  <a:lnTo>
                    <a:pt x="296" y="579"/>
                  </a:lnTo>
                  <a:lnTo>
                    <a:pt x="341" y="523"/>
                  </a:lnTo>
                  <a:lnTo>
                    <a:pt x="387" y="469"/>
                  </a:lnTo>
                  <a:lnTo>
                    <a:pt x="437" y="418"/>
                  </a:lnTo>
                  <a:lnTo>
                    <a:pt x="490" y="368"/>
                  </a:lnTo>
                  <a:lnTo>
                    <a:pt x="546" y="320"/>
                  </a:lnTo>
                  <a:lnTo>
                    <a:pt x="604" y="276"/>
                  </a:lnTo>
                  <a:lnTo>
                    <a:pt x="666" y="234"/>
                  </a:lnTo>
                  <a:lnTo>
                    <a:pt x="73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438360" y="5445000"/>
              <a:ext cx="5580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438360" y="5445000"/>
              <a:ext cx="5580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494160" y="5356800"/>
              <a:ext cx="54720" cy="293760"/>
            </a:xfrm>
            <a:custGeom>
              <a:avLst/>
              <a:gdLst/>
              <a:ahLst/>
              <a:rect l="l" t="t" r="r" b="b"/>
              <a:pathLst>
                <a:path w="422" h="2427">
                  <a:moveTo>
                    <a:pt x="0" y="2427"/>
                  </a:moveTo>
                  <a:lnTo>
                    <a:pt x="422" y="2427"/>
                  </a:lnTo>
                  <a:lnTo>
                    <a:pt x="422" y="266"/>
                  </a:lnTo>
                  <a:lnTo>
                    <a:pt x="0" y="0"/>
                  </a:lnTo>
                  <a:lnTo>
                    <a:pt x="0" y="242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549240" y="5445000"/>
              <a:ext cx="55080" cy="205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549240" y="5445000"/>
              <a:ext cx="55080" cy="205560"/>
            </a:xfrm>
            <a:prstGeom prst="rect">
              <a:avLst/>
            </a:pr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382920" y="5574600"/>
              <a:ext cx="55080" cy="7632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2" name=""/>
            <p:cNvSpPr/>
            <p:nvPr/>
          </p:nvSpPr>
          <p:spPr>
            <a:xfrm>
              <a:off x="3382920" y="5574600"/>
              <a:ext cx="55080" cy="76320"/>
            </a:xfrm>
            <a:prstGeom prst="rect">
              <a:avLst/>
            </a:prstGeom>
            <a:noFill/>
            <a:ln w="18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3" name=""/>
            <p:cNvSpPr/>
            <p:nvPr/>
          </p:nvSpPr>
          <p:spPr>
            <a:xfrm>
              <a:off x="3375000" y="5394960"/>
              <a:ext cx="16200" cy="263520"/>
            </a:xfrm>
            <a:custGeom>
              <a:avLst/>
              <a:gdLst/>
              <a:ahLst/>
              <a:rect l="l" t="t" r="r" b="b"/>
              <a:pathLst>
                <a:path w="128" h="2171">
                  <a:moveTo>
                    <a:pt x="64" y="2044"/>
                  </a:moveTo>
                  <a:lnTo>
                    <a:pt x="128" y="2108"/>
                  </a:lnTo>
                  <a:lnTo>
                    <a:pt x="128" y="0"/>
                  </a:lnTo>
                  <a:lnTo>
                    <a:pt x="0" y="0"/>
                  </a:lnTo>
                  <a:lnTo>
                    <a:pt x="0" y="2108"/>
                  </a:lnTo>
                  <a:lnTo>
                    <a:pt x="64" y="2171"/>
                  </a:lnTo>
                  <a:lnTo>
                    <a:pt x="0" y="2108"/>
                  </a:lnTo>
                  <a:lnTo>
                    <a:pt x="0" y="2171"/>
                  </a:lnTo>
                  <a:lnTo>
                    <a:pt x="64" y="2171"/>
                  </a:lnTo>
                  <a:lnTo>
                    <a:pt x="64" y="2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382920" y="5643360"/>
              <a:ext cx="224640" cy="15120"/>
            </a:xfrm>
            <a:custGeom>
              <a:avLst/>
              <a:gdLst/>
              <a:ahLst/>
              <a:rect l="l" t="t" r="r" b="b"/>
              <a:pathLst>
                <a:path w="1716" h="127">
                  <a:moveTo>
                    <a:pt x="1716" y="64"/>
                  </a:moveTo>
                  <a:lnTo>
                    <a:pt x="1716" y="0"/>
                  </a:lnTo>
                  <a:lnTo>
                    <a:pt x="0" y="0"/>
                  </a:lnTo>
                  <a:lnTo>
                    <a:pt x="0" y="127"/>
                  </a:lnTo>
                  <a:lnTo>
                    <a:pt x="1716" y="127"/>
                  </a:lnTo>
                  <a:lnTo>
                    <a:pt x="1716" y="6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5" name=""/>
            <p:cNvSpPr/>
            <p:nvPr/>
          </p:nvSpPr>
          <p:spPr>
            <a:xfrm>
              <a:off x="3479400" y="5672160"/>
              <a:ext cx="120240" cy="97560"/>
            </a:xfrm>
            <a:custGeom>
              <a:avLst/>
              <a:gdLst/>
              <a:ahLst/>
              <a:rect l="l" t="t" r="r" b="b"/>
              <a:pathLst>
                <a:path w="915" h="809">
                  <a:moveTo>
                    <a:pt x="0" y="390"/>
                  </a:moveTo>
                  <a:lnTo>
                    <a:pt x="674" y="0"/>
                  </a:lnTo>
                  <a:lnTo>
                    <a:pt x="915" y="419"/>
                  </a:lnTo>
                  <a:lnTo>
                    <a:pt x="242" y="809"/>
                  </a:lnTo>
                  <a:lnTo>
                    <a:pt x="0" y="39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511800" y="5722200"/>
              <a:ext cx="255600" cy="316800"/>
            </a:xfrm>
            <a:custGeom>
              <a:avLst/>
              <a:gdLst/>
              <a:ahLst/>
              <a:rect l="l" t="t" r="r" b="b"/>
              <a:pathLst>
                <a:path w="1950" h="2606">
                  <a:moveTo>
                    <a:pt x="0" y="390"/>
                  </a:moveTo>
                  <a:lnTo>
                    <a:pt x="673" y="0"/>
                  </a:lnTo>
                  <a:lnTo>
                    <a:pt x="1950" y="2217"/>
                  </a:lnTo>
                  <a:lnTo>
                    <a:pt x="1276" y="2606"/>
                  </a:lnTo>
                  <a:lnTo>
                    <a:pt x="0"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547440" y="5732640"/>
              <a:ext cx="204480" cy="290520"/>
            </a:xfrm>
            <a:custGeom>
              <a:avLst/>
              <a:gdLst/>
              <a:ahLst/>
              <a:rect l="l" t="t" r="r" b="b"/>
              <a:pathLst>
                <a:path w="1562" h="2400">
                  <a:moveTo>
                    <a:pt x="0" y="156"/>
                  </a:moveTo>
                  <a:lnTo>
                    <a:pt x="269" y="0"/>
                  </a:lnTo>
                  <a:lnTo>
                    <a:pt x="1562" y="2244"/>
                  </a:lnTo>
                  <a:lnTo>
                    <a:pt x="1293" y="2400"/>
                  </a:lnTo>
                  <a:lnTo>
                    <a:pt x="0" y="156"/>
                  </a:lnTo>
                </a:path>
              </a:pathLst>
            </a:custGeom>
            <a:noFill/>
            <a:ln w="82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515040" y="5681520"/>
              <a:ext cx="66960" cy="69480"/>
            </a:xfrm>
            <a:custGeom>
              <a:avLst/>
              <a:gdLst/>
              <a:ahLst/>
              <a:rect l="l" t="t" r="r" b="b"/>
              <a:pathLst>
                <a:path w="511" h="575">
                  <a:moveTo>
                    <a:pt x="0" y="155"/>
                  </a:moveTo>
                  <a:lnTo>
                    <a:pt x="270" y="0"/>
                  </a:lnTo>
                  <a:lnTo>
                    <a:pt x="511" y="419"/>
                  </a:lnTo>
                  <a:lnTo>
                    <a:pt x="242" y="575"/>
                  </a:lnTo>
                  <a:lnTo>
                    <a:pt x="0" y="155"/>
                  </a:lnTo>
                  <a:close/>
                </a:path>
              </a:pathLst>
            </a:custGeom>
            <a:solidFill>
              <a:srgbClr val="b2b2b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9" name=""/>
            <p:cNvSpPr/>
            <p:nvPr/>
          </p:nvSpPr>
          <p:spPr>
            <a:xfrm>
              <a:off x="3350880" y="5352480"/>
              <a:ext cx="276840" cy="105120"/>
            </a:xfrm>
            <a:custGeom>
              <a:avLst/>
              <a:gdLst/>
              <a:ahLst/>
              <a:rect l="l" t="t" r="r" b="b"/>
              <a:pathLst>
                <a:path w="2118" h="867">
                  <a:moveTo>
                    <a:pt x="2118" y="776"/>
                  </a:moveTo>
                  <a:lnTo>
                    <a:pt x="2097" y="743"/>
                  </a:lnTo>
                  <a:lnTo>
                    <a:pt x="2076" y="708"/>
                  </a:lnTo>
                  <a:lnTo>
                    <a:pt x="2054" y="676"/>
                  </a:lnTo>
                  <a:lnTo>
                    <a:pt x="2032" y="643"/>
                  </a:lnTo>
                  <a:lnTo>
                    <a:pt x="2008" y="612"/>
                  </a:lnTo>
                  <a:lnTo>
                    <a:pt x="1984" y="581"/>
                  </a:lnTo>
                  <a:lnTo>
                    <a:pt x="1960" y="551"/>
                  </a:lnTo>
                  <a:lnTo>
                    <a:pt x="1935" y="523"/>
                  </a:lnTo>
                  <a:lnTo>
                    <a:pt x="1909" y="493"/>
                  </a:lnTo>
                  <a:lnTo>
                    <a:pt x="1882" y="465"/>
                  </a:lnTo>
                  <a:lnTo>
                    <a:pt x="1855" y="438"/>
                  </a:lnTo>
                  <a:lnTo>
                    <a:pt x="1827" y="412"/>
                  </a:lnTo>
                  <a:lnTo>
                    <a:pt x="1798" y="387"/>
                  </a:lnTo>
                  <a:lnTo>
                    <a:pt x="1770" y="362"/>
                  </a:lnTo>
                  <a:lnTo>
                    <a:pt x="1740" y="338"/>
                  </a:lnTo>
                  <a:lnTo>
                    <a:pt x="1711" y="315"/>
                  </a:lnTo>
                  <a:lnTo>
                    <a:pt x="1680" y="293"/>
                  </a:lnTo>
                  <a:lnTo>
                    <a:pt x="1650" y="271"/>
                  </a:lnTo>
                  <a:lnTo>
                    <a:pt x="1617" y="249"/>
                  </a:lnTo>
                  <a:lnTo>
                    <a:pt x="1586" y="230"/>
                  </a:lnTo>
                  <a:lnTo>
                    <a:pt x="1554" y="211"/>
                  </a:lnTo>
                  <a:lnTo>
                    <a:pt x="1521" y="192"/>
                  </a:lnTo>
                  <a:lnTo>
                    <a:pt x="1488" y="175"/>
                  </a:lnTo>
                  <a:lnTo>
                    <a:pt x="1455" y="158"/>
                  </a:lnTo>
                  <a:lnTo>
                    <a:pt x="1421" y="143"/>
                  </a:lnTo>
                  <a:lnTo>
                    <a:pt x="1387" y="126"/>
                  </a:lnTo>
                  <a:lnTo>
                    <a:pt x="1352" y="112"/>
                  </a:lnTo>
                  <a:lnTo>
                    <a:pt x="1318" y="99"/>
                  </a:lnTo>
                  <a:lnTo>
                    <a:pt x="1282" y="87"/>
                  </a:lnTo>
                  <a:lnTo>
                    <a:pt x="1248" y="75"/>
                  </a:lnTo>
                  <a:lnTo>
                    <a:pt x="1212" y="64"/>
                  </a:lnTo>
                  <a:lnTo>
                    <a:pt x="1176" y="54"/>
                  </a:lnTo>
                  <a:lnTo>
                    <a:pt x="1140" y="44"/>
                  </a:lnTo>
                  <a:lnTo>
                    <a:pt x="1104" y="36"/>
                  </a:lnTo>
                  <a:lnTo>
                    <a:pt x="1067" y="28"/>
                  </a:lnTo>
                  <a:lnTo>
                    <a:pt x="1030" y="22"/>
                  </a:lnTo>
                  <a:lnTo>
                    <a:pt x="994" y="16"/>
                  </a:lnTo>
                  <a:lnTo>
                    <a:pt x="957" y="11"/>
                  </a:lnTo>
                  <a:lnTo>
                    <a:pt x="920" y="8"/>
                  </a:lnTo>
                  <a:lnTo>
                    <a:pt x="883" y="4"/>
                  </a:lnTo>
                  <a:lnTo>
                    <a:pt x="845" y="2"/>
                  </a:lnTo>
                  <a:lnTo>
                    <a:pt x="808" y="0"/>
                  </a:lnTo>
                  <a:lnTo>
                    <a:pt x="771" y="0"/>
                  </a:lnTo>
                  <a:lnTo>
                    <a:pt x="733" y="0"/>
                  </a:lnTo>
                  <a:lnTo>
                    <a:pt x="696" y="2"/>
                  </a:lnTo>
                  <a:lnTo>
                    <a:pt x="658" y="4"/>
                  </a:lnTo>
                  <a:lnTo>
                    <a:pt x="621" y="8"/>
                  </a:lnTo>
                  <a:lnTo>
                    <a:pt x="584" y="12"/>
                  </a:lnTo>
                  <a:lnTo>
                    <a:pt x="546" y="17"/>
                  </a:lnTo>
                  <a:lnTo>
                    <a:pt x="508" y="23"/>
                  </a:lnTo>
                  <a:lnTo>
                    <a:pt x="472" y="30"/>
                  </a:lnTo>
                  <a:lnTo>
                    <a:pt x="434" y="38"/>
                  </a:lnTo>
                  <a:lnTo>
                    <a:pt x="396" y="47"/>
                  </a:lnTo>
                  <a:lnTo>
                    <a:pt x="360" y="56"/>
                  </a:lnTo>
                  <a:lnTo>
                    <a:pt x="323" y="67"/>
                  </a:lnTo>
                  <a:lnTo>
                    <a:pt x="286" y="79"/>
                  </a:lnTo>
                  <a:lnTo>
                    <a:pt x="250" y="92"/>
                  </a:lnTo>
                  <a:lnTo>
                    <a:pt x="213" y="106"/>
                  </a:lnTo>
                  <a:lnTo>
                    <a:pt x="177" y="120"/>
                  </a:lnTo>
                  <a:lnTo>
                    <a:pt x="141" y="136"/>
                  </a:lnTo>
                  <a:lnTo>
                    <a:pt x="106" y="152"/>
                  </a:lnTo>
                  <a:lnTo>
                    <a:pt x="70" y="170"/>
                  </a:lnTo>
                  <a:lnTo>
                    <a:pt x="35" y="189"/>
                  </a:lnTo>
                  <a:lnTo>
                    <a:pt x="0" y="208"/>
                  </a:lnTo>
                  <a:lnTo>
                    <a:pt x="89" y="363"/>
                  </a:lnTo>
                  <a:lnTo>
                    <a:pt x="121" y="346"/>
                  </a:lnTo>
                  <a:lnTo>
                    <a:pt x="152" y="329"/>
                  </a:lnTo>
                  <a:lnTo>
                    <a:pt x="183" y="314"/>
                  </a:lnTo>
                  <a:lnTo>
                    <a:pt x="214" y="299"/>
                  </a:lnTo>
                  <a:lnTo>
                    <a:pt x="246" y="286"/>
                  </a:lnTo>
                  <a:lnTo>
                    <a:pt x="278" y="273"/>
                  </a:lnTo>
                  <a:lnTo>
                    <a:pt x="310" y="260"/>
                  </a:lnTo>
                  <a:lnTo>
                    <a:pt x="342" y="249"/>
                  </a:lnTo>
                  <a:lnTo>
                    <a:pt x="375" y="239"/>
                  </a:lnTo>
                  <a:lnTo>
                    <a:pt x="407" y="230"/>
                  </a:lnTo>
                  <a:lnTo>
                    <a:pt x="440" y="221"/>
                  </a:lnTo>
                  <a:lnTo>
                    <a:pt x="473" y="213"/>
                  </a:lnTo>
                  <a:lnTo>
                    <a:pt x="505" y="206"/>
                  </a:lnTo>
                  <a:lnTo>
                    <a:pt x="538" y="200"/>
                  </a:lnTo>
                  <a:lnTo>
                    <a:pt x="572" y="194"/>
                  </a:lnTo>
                  <a:lnTo>
                    <a:pt x="605" y="190"/>
                  </a:lnTo>
                  <a:lnTo>
                    <a:pt x="637" y="187"/>
                  </a:lnTo>
                  <a:lnTo>
                    <a:pt x="671" y="184"/>
                  </a:lnTo>
                  <a:lnTo>
                    <a:pt x="704" y="181"/>
                  </a:lnTo>
                  <a:lnTo>
                    <a:pt x="738" y="180"/>
                  </a:lnTo>
                  <a:lnTo>
                    <a:pt x="771" y="180"/>
                  </a:lnTo>
                  <a:lnTo>
                    <a:pt x="804" y="180"/>
                  </a:lnTo>
                  <a:lnTo>
                    <a:pt x="838" y="181"/>
                  </a:lnTo>
                  <a:lnTo>
                    <a:pt x="870" y="184"/>
                  </a:lnTo>
                  <a:lnTo>
                    <a:pt x="902" y="186"/>
                  </a:lnTo>
                  <a:lnTo>
                    <a:pt x="936" y="190"/>
                  </a:lnTo>
                  <a:lnTo>
                    <a:pt x="968" y="194"/>
                  </a:lnTo>
                  <a:lnTo>
                    <a:pt x="1001" y="199"/>
                  </a:lnTo>
                  <a:lnTo>
                    <a:pt x="1034" y="205"/>
                  </a:lnTo>
                  <a:lnTo>
                    <a:pt x="1066" y="212"/>
                  </a:lnTo>
                  <a:lnTo>
                    <a:pt x="1098" y="219"/>
                  </a:lnTo>
                  <a:lnTo>
                    <a:pt x="1130" y="227"/>
                  </a:lnTo>
                  <a:lnTo>
                    <a:pt x="1162" y="237"/>
                  </a:lnTo>
                  <a:lnTo>
                    <a:pt x="1193" y="245"/>
                  </a:lnTo>
                  <a:lnTo>
                    <a:pt x="1224" y="256"/>
                  </a:lnTo>
                  <a:lnTo>
                    <a:pt x="1255" y="267"/>
                  </a:lnTo>
                  <a:lnTo>
                    <a:pt x="1286" y="280"/>
                  </a:lnTo>
                  <a:lnTo>
                    <a:pt x="1317" y="292"/>
                  </a:lnTo>
                  <a:lnTo>
                    <a:pt x="1347" y="306"/>
                  </a:lnTo>
                  <a:lnTo>
                    <a:pt x="1377" y="320"/>
                  </a:lnTo>
                  <a:lnTo>
                    <a:pt x="1406" y="335"/>
                  </a:lnTo>
                  <a:lnTo>
                    <a:pt x="1435" y="350"/>
                  </a:lnTo>
                  <a:lnTo>
                    <a:pt x="1464" y="366"/>
                  </a:lnTo>
                  <a:lnTo>
                    <a:pt x="1492" y="383"/>
                  </a:lnTo>
                  <a:lnTo>
                    <a:pt x="1521" y="401"/>
                  </a:lnTo>
                  <a:lnTo>
                    <a:pt x="1548" y="419"/>
                  </a:lnTo>
                  <a:lnTo>
                    <a:pt x="1576" y="438"/>
                  </a:lnTo>
                  <a:lnTo>
                    <a:pt x="1602" y="458"/>
                  </a:lnTo>
                  <a:lnTo>
                    <a:pt x="1629" y="478"/>
                  </a:lnTo>
                  <a:lnTo>
                    <a:pt x="1655" y="500"/>
                  </a:lnTo>
                  <a:lnTo>
                    <a:pt x="1681" y="521"/>
                  </a:lnTo>
                  <a:lnTo>
                    <a:pt x="1706" y="544"/>
                  </a:lnTo>
                  <a:lnTo>
                    <a:pt x="1730" y="567"/>
                  </a:lnTo>
                  <a:lnTo>
                    <a:pt x="1754" y="592"/>
                  </a:lnTo>
                  <a:lnTo>
                    <a:pt x="1778" y="615"/>
                  </a:lnTo>
                  <a:lnTo>
                    <a:pt x="1800" y="641"/>
                  </a:lnTo>
                  <a:lnTo>
                    <a:pt x="1823" y="667"/>
                  </a:lnTo>
                  <a:lnTo>
                    <a:pt x="1844" y="693"/>
                  </a:lnTo>
                  <a:lnTo>
                    <a:pt x="1866" y="721"/>
                  </a:lnTo>
                  <a:lnTo>
                    <a:pt x="1886" y="748"/>
                  </a:lnTo>
                  <a:lnTo>
                    <a:pt x="1907" y="777"/>
                  </a:lnTo>
                  <a:lnTo>
                    <a:pt x="1926" y="806"/>
                  </a:lnTo>
                  <a:lnTo>
                    <a:pt x="1945" y="836"/>
                  </a:lnTo>
                  <a:lnTo>
                    <a:pt x="1963" y="867"/>
                  </a:lnTo>
                  <a:lnTo>
                    <a:pt x="2118" y="7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541680" y="5446800"/>
              <a:ext cx="113760" cy="257400"/>
            </a:xfrm>
            <a:custGeom>
              <a:avLst/>
              <a:gdLst/>
              <a:ahLst/>
              <a:rect l="l" t="t" r="r" b="b"/>
              <a:pathLst>
                <a:path w="864" h="2123">
                  <a:moveTo>
                    <a:pt x="89" y="2123"/>
                  </a:moveTo>
                  <a:lnTo>
                    <a:pt x="124" y="2103"/>
                  </a:lnTo>
                  <a:lnTo>
                    <a:pt x="157" y="2081"/>
                  </a:lnTo>
                  <a:lnTo>
                    <a:pt x="190" y="2059"/>
                  </a:lnTo>
                  <a:lnTo>
                    <a:pt x="222" y="2037"/>
                  </a:lnTo>
                  <a:lnTo>
                    <a:pt x="253" y="2014"/>
                  </a:lnTo>
                  <a:lnTo>
                    <a:pt x="284" y="1989"/>
                  </a:lnTo>
                  <a:lnTo>
                    <a:pt x="315" y="1964"/>
                  </a:lnTo>
                  <a:lnTo>
                    <a:pt x="344" y="1940"/>
                  </a:lnTo>
                  <a:lnTo>
                    <a:pt x="372" y="1914"/>
                  </a:lnTo>
                  <a:lnTo>
                    <a:pt x="400" y="1887"/>
                  </a:lnTo>
                  <a:lnTo>
                    <a:pt x="426" y="1860"/>
                  </a:lnTo>
                  <a:lnTo>
                    <a:pt x="453" y="1832"/>
                  </a:lnTo>
                  <a:lnTo>
                    <a:pt x="478" y="1804"/>
                  </a:lnTo>
                  <a:lnTo>
                    <a:pt x="503" y="1775"/>
                  </a:lnTo>
                  <a:lnTo>
                    <a:pt x="527" y="1745"/>
                  </a:lnTo>
                  <a:lnTo>
                    <a:pt x="550" y="1715"/>
                  </a:lnTo>
                  <a:lnTo>
                    <a:pt x="573" y="1685"/>
                  </a:lnTo>
                  <a:lnTo>
                    <a:pt x="593" y="1654"/>
                  </a:lnTo>
                  <a:lnTo>
                    <a:pt x="615" y="1622"/>
                  </a:lnTo>
                  <a:lnTo>
                    <a:pt x="634" y="1590"/>
                  </a:lnTo>
                  <a:lnTo>
                    <a:pt x="654" y="1559"/>
                  </a:lnTo>
                  <a:lnTo>
                    <a:pt x="672" y="1525"/>
                  </a:lnTo>
                  <a:lnTo>
                    <a:pt x="689" y="1493"/>
                  </a:lnTo>
                  <a:lnTo>
                    <a:pt x="706" y="1458"/>
                  </a:lnTo>
                  <a:lnTo>
                    <a:pt x="723" y="1425"/>
                  </a:lnTo>
                  <a:lnTo>
                    <a:pt x="738" y="1390"/>
                  </a:lnTo>
                  <a:lnTo>
                    <a:pt x="752" y="1357"/>
                  </a:lnTo>
                  <a:lnTo>
                    <a:pt x="765" y="1321"/>
                  </a:lnTo>
                  <a:lnTo>
                    <a:pt x="777" y="1287"/>
                  </a:lnTo>
                  <a:lnTo>
                    <a:pt x="789" y="1251"/>
                  </a:lnTo>
                  <a:lnTo>
                    <a:pt x="800" y="1215"/>
                  </a:lnTo>
                  <a:lnTo>
                    <a:pt x="811" y="1180"/>
                  </a:lnTo>
                  <a:lnTo>
                    <a:pt x="819" y="1143"/>
                  </a:lnTo>
                  <a:lnTo>
                    <a:pt x="828" y="1106"/>
                  </a:lnTo>
                  <a:lnTo>
                    <a:pt x="836" y="1071"/>
                  </a:lnTo>
                  <a:lnTo>
                    <a:pt x="842" y="1034"/>
                  </a:lnTo>
                  <a:lnTo>
                    <a:pt x="847" y="996"/>
                  </a:lnTo>
                  <a:lnTo>
                    <a:pt x="853" y="960"/>
                  </a:lnTo>
                  <a:lnTo>
                    <a:pt x="856" y="923"/>
                  </a:lnTo>
                  <a:lnTo>
                    <a:pt x="859" y="885"/>
                  </a:lnTo>
                  <a:lnTo>
                    <a:pt x="861" y="847"/>
                  </a:lnTo>
                  <a:lnTo>
                    <a:pt x="864" y="811"/>
                  </a:lnTo>
                  <a:lnTo>
                    <a:pt x="864" y="773"/>
                  </a:lnTo>
                  <a:lnTo>
                    <a:pt x="864" y="735"/>
                  </a:lnTo>
                  <a:lnTo>
                    <a:pt x="861" y="698"/>
                  </a:lnTo>
                  <a:lnTo>
                    <a:pt x="859" y="661"/>
                  </a:lnTo>
                  <a:lnTo>
                    <a:pt x="856" y="623"/>
                  </a:lnTo>
                  <a:lnTo>
                    <a:pt x="852" y="585"/>
                  </a:lnTo>
                  <a:lnTo>
                    <a:pt x="847" y="547"/>
                  </a:lnTo>
                  <a:lnTo>
                    <a:pt x="841" y="511"/>
                  </a:lnTo>
                  <a:lnTo>
                    <a:pt x="835" y="473"/>
                  </a:lnTo>
                  <a:lnTo>
                    <a:pt x="826" y="435"/>
                  </a:lnTo>
                  <a:lnTo>
                    <a:pt x="817" y="398"/>
                  </a:lnTo>
                  <a:lnTo>
                    <a:pt x="808" y="361"/>
                  </a:lnTo>
                  <a:lnTo>
                    <a:pt x="797" y="324"/>
                  </a:lnTo>
                  <a:lnTo>
                    <a:pt x="785" y="287"/>
                  </a:lnTo>
                  <a:lnTo>
                    <a:pt x="772" y="251"/>
                  </a:lnTo>
                  <a:lnTo>
                    <a:pt x="759" y="214"/>
                  </a:lnTo>
                  <a:lnTo>
                    <a:pt x="744" y="178"/>
                  </a:lnTo>
                  <a:lnTo>
                    <a:pt x="729" y="143"/>
                  </a:lnTo>
                  <a:lnTo>
                    <a:pt x="712" y="106"/>
                  </a:lnTo>
                  <a:lnTo>
                    <a:pt x="695" y="70"/>
                  </a:lnTo>
                  <a:lnTo>
                    <a:pt x="676" y="36"/>
                  </a:lnTo>
                  <a:lnTo>
                    <a:pt x="657" y="0"/>
                  </a:lnTo>
                  <a:lnTo>
                    <a:pt x="502" y="91"/>
                  </a:lnTo>
                  <a:lnTo>
                    <a:pt x="519" y="121"/>
                  </a:lnTo>
                  <a:lnTo>
                    <a:pt x="535" y="152"/>
                  </a:lnTo>
                  <a:lnTo>
                    <a:pt x="550" y="184"/>
                  </a:lnTo>
                  <a:lnTo>
                    <a:pt x="565" y="215"/>
                  </a:lnTo>
                  <a:lnTo>
                    <a:pt x="579" y="247"/>
                  </a:lnTo>
                  <a:lnTo>
                    <a:pt x="592" y="279"/>
                  </a:lnTo>
                  <a:lnTo>
                    <a:pt x="604" y="311"/>
                  </a:lnTo>
                  <a:lnTo>
                    <a:pt x="615" y="343"/>
                  </a:lnTo>
                  <a:lnTo>
                    <a:pt x="626" y="376"/>
                  </a:lnTo>
                  <a:lnTo>
                    <a:pt x="635" y="409"/>
                  </a:lnTo>
                  <a:lnTo>
                    <a:pt x="644" y="442"/>
                  </a:lnTo>
                  <a:lnTo>
                    <a:pt x="652" y="475"/>
                  </a:lnTo>
                  <a:lnTo>
                    <a:pt x="658" y="507"/>
                  </a:lnTo>
                  <a:lnTo>
                    <a:pt x="664" y="541"/>
                  </a:lnTo>
                  <a:lnTo>
                    <a:pt x="670" y="573"/>
                  </a:lnTo>
                  <a:lnTo>
                    <a:pt x="674" y="607"/>
                  </a:lnTo>
                  <a:lnTo>
                    <a:pt x="678" y="640"/>
                  </a:lnTo>
                  <a:lnTo>
                    <a:pt x="681" y="674"/>
                  </a:lnTo>
                  <a:lnTo>
                    <a:pt x="683" y="706"/>
                  </a:lnTo>
                  <a:lnTo>
                    <a:pt x="684" y="739"/>
                  </a:lnTo>
                  <a:lnTo>
                    <a:pt x="684" y="773"/>
                  </a:lnTo>
                  <a:lnTo>
                    <a:pt x="684" y="806"/>
                  </a:lnTo>
                  <a:lnTo>
                    <a:pt x="683" y="840"/>
                  </a:lnTo>
                  <a:lnTo>
                    <a:pt x="681" y="872"/>
                  </a:lnTo>
                  <a:lnTo>
                    <a:pt x="678" y="906"/>
                  </a:lnTo>
                  <a:lnTo>
                    <a:pt x="675" y="939"/>
                  </a:lnTo>
                  <a:lnTo>
                    <a:pt x="671" y="972"/>
                  </a:lnTo>
                  <a:lnTo>
                    <a:pt x="666" y="1004"/>
                  </a:lnTo>
                  <a:lnTo>
                    <a:pt x="659" y="1036"/>
                  </a:lnTo>
                  <a:lnTo>
                    <a:pt x="653" y="1069"/>
                  </a:lnTo>
                  <a:lnTo>
                    <a:pt x="646" y="1101"/>
                  </a:lnTo>
                  <a:lnTo>
                    <a:pt x="638" y="1133"/>
                  </a:lnTo>
                  <a:lnTo>
                    <a:pt x="629" y="1165"/>
                  </a:lnTo>
                  <a:lnTo>
                    <a:pt x="619" y="1196"/>
                  </a:lnTo>
                  <a:lnTo>
                    <a:pt x="608" y="1228"/>
                  </a:lnTo>
                  <a:lnTo>
                    <a:pt x="598" y="1259"/>
                  </a:lnTo>
                  <a:lnTo>
                    <a:pt x="586" y="1290"/>
                  </a:lnTo>
                  <a:lnTo>
                    <a:pt x="573" y="1320"/>
                  </a:lnTo>
                  <a:lnTo>
                    <a:pt x="560" y="1350"/>
                  </a:lnTo>
                  <a:lnTo>
                    <a:pt x="545" y="1381"/>
                  </a:lnTo>
                  <a:lnTo>
                    <a:pt x="531" y="1410"/>
                  </a:lnTo>
                  <a:lnTo>
                    <a:pt x="515" y="1440"/>
                  </a:lnTo>
                  <a:lnTo>
                    <a:pt x="499" y="1468"/>
                  </a:lnTo>
                  <a:lnTo>
                    <a:pt x="481" y="1497"/>
                  </a:lnTo>
                  <a:lnTo>
                    <a:pt x="464" y="1525"/>
                  </a:lnTo>
                  <a:lnTo>
                    <a:pt x="446" y="1553"/>
                  </a:lnTo>
                  <a:lnTo>
                    <a:pt x="426" y="1580"/>
                  </a:lnTo>
                  <a:lnTo>
                    <a:pt x="407" y="1607"/>
                  </a:lnTo>
                  <a:lnTo>
                    <a:pt x="387" y="1633"/>
                  </a:lnTo>
                  <a:lnTo>
                    <a:pt x="365" y="1659"/>
                  </a:lnTo>
                  <a:lnTo>
                    <a:pt x="344" y="1685"/>
                  </a:lnTo>
                  <a:lnTo>
                    <a:pt x="321" y="1711"/>
                  </a:lnTo>
                  <a:lnTo>
                    <a:pt x="298" y="1735"/>
                  </a:lnTo>
                  <a:lnTo>
                    <a:pt x="275" y="1759"/>
                  </a:lnTo>
                  <a:lnTo>
                    <a:pt x="250" y="1782"/>
                  </a:lnTo>
                  <a:lnTo>
                    <a:pt x="224" y="1806"/>
                  </a:lnTo>
                  <a:lnTo>
                    <a:pt x="198" y="1828"/>
                  </a:lnTo>
                  <a:lnTo>
                    <a:pt x="172" y="1850"/>
                  </a:lnTo>
                  <a:lnTo>
                    <a:pt x="145" y="1871"/>
                  </a:lnTo>
                  <a:lnTo>
                    <a:pt x="117" y="1892"/>
                  </a:lnTo>
                  <a:lnTo>
                    <a:pt x="89" y="1912"/>
                  </a:lnTo>
                  <a:lnTo>
                    <a:pt x="59" y="1931"/>
                  </a:lnTo>
                  <a:lnTo>
                    <a:pt x="30" y="1949"/>
                  </a:lnTo>
                  <a:lnTo>
                    <a:pt x="0" y="1968"/>
                  </a:lnTo>
                  <a:lnTo>
                    <a:pt x="8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276720" y="5624640"/>
              <a:ext cx="276840" cy="105120"/>
            </a:xfrm>
            <a:custGeom>
              <a:avLst/>
              <a:gdLst/>
              <a:ahLst/>
              <a:rect l="l" t="t" r="r" b="b"/>
              <a:pathLst>
                <a:path w="2117" h="866">
                  <a:moveTo>
                    <a:pt x="0" y="89"/>
                  </a:moveTo>
                  <a:lnTo>
                    <a:pt x="20" y="124"/>
                  </a:lnTo>
                  <a:lnTo>
                    <a:pt x="42" y="157"/>
                  </a:lnTo>
                  <a:lnTo>
                    <a:pt x="63" y="191"/>
                  </a:lnTo>
                  <a:lnTo>
                    <a:pt x="86" y="222"/>
                  </a:lnTo>
                  <a:lnTo>
                    <a:pt x="109" y="254"/>
                  </a:lnTo>
                  <a:lnTo>
                    <a:pt x="133" y="285"/>
                  </a:lnTo>
                  <a:lnTo>
                    <a:pt x="158" y="315"/>
                  </a:lnTo>
                  <a:lnTo>
                    <a:pt x="183" y="344"/>
                  </a:lnTo>
                  <a:lnTo>
                    <a:pt x="209" y="373"/>
                  </a:lnTo>
                  <a:lnTo>
                    <a:pt x="235" y="401"/>
                  </a:lnTo>
                  <a:lnTo>
                    <a:pt x="262" y="427"/>
                  </a:lnTo>
                  <a:lnTo>
                    <a:pt x="290" y="454"/>
                  </a:lnTo>
                  <a:lnTo>
                    <a:pt x="318" y="480"/>
                  </a:lnTo>
                  <a:lnTo>
                    <a:pt x="347" y="504"/>
                  </a:lnTo>
                  <a:lnTo>
                    <a:pt x="376" y="529"/>
                  </a:lnTo>
                  <a:lnTo>
                    <a:pt x="407" y="551"/>
                  </a:lnTo>
                  <a:lnTo>
                    <a:pt x="437" y="574"/>
                  </a:lnTo>
                  <a:lnTo>
                    <a:pt x="468" y="596"/>
                  </a:lnTo>
                  <a:lnTo>
                    <a:pt x="499" y="616"/>
                  </a:lnTo>
                  <a:lnTo>
                    <a:pt x="532" y="637"/>
                  </a:lnTo>
                  <a:lnTo>
                    <a:pt x="564" y="656"/>
                  </a:lnTo>
                  <a:lnTo>
                    <a:pt x="596" y="674"/>
                  </a:lnTo>
                  <a:lnTo>
                    <a:pt x="630" y="692"/>
                  </a:lnTo>
                  <a:lnTo>
                    <a:pt x="663" y="708"/>
                  </a:lnTo>
                  <a:lnTo>
                    <a:pt x="696" y="724"/>
                  </a:lnTo>
                  <a:lnTo>
                    <a:pt x="731" y="739"/>
                  </a:lnTo>
                  <a:lnTo>
                    <a:pt x="765" y="753"/>
                  </a:lnTo>
                  <a:lnTo>
                    <a:pt x="800" y="767"/>
                  </a:lnTo>
                  <a:lnTo>
                    <a:pt x="835" y="779"/>
                  </a:lnTo>
                  <a:lnTo>
                    <a:pt x="870" y="791"/>
                  </a:lnTo>
                  <a:lnTo>
                    <a:pt x="905" y="803"/>
                  </a:lnTo>
                  <a:lnTo>
                    <a:pt x="942" y="812"/>
                  </a:lnTo>
                  <a:lnTo>
                    <a:pt x="977" y="821"/>
                  </a:lnTo>
                  <a:lnTo>
                    <a:pt x="1014" y="830"/>
                  </a:lnTo>
                  <a:lnTo>
                    <a:pt x="1050" y="837"/>
                  </a:lnTo>
                  <a:lnTo>
                    <a:pt x="1087" y="844"/>
                  </a:lnTo>
                  <a:lnTo>
                    <a:pt x="1124" y="850"/>
                  </a:lnTo>
                  <a:lnTo>
                    <a:pt x="1160" y="855"/>
                  </a:lnTo>
                  <a:lnTo>
                    <a:pt x="1198" y="859"/>
                  </a:lnTo>
                  <a:lnTo>
                    <a:pt x="1235" y="862"/>
                  </a:lnTo>
                  <a:lnTo>
                    <a:pt x="1272" y="864"/>
                  </a:lnTo>
                  <a:lnTo>
                    <a:pt x="1309" y="865"/>
                  </a:lnTo>
                  <a:lnTo>
                    <a:pt x="1347" y="866"/>
                  </a:lnTo>
                  <a:lnTo>
                    <a:pt x="1384" y="865"/>
                  </a:lnTo>
                  <a:lnTo>
                    <a:pt x="1422" y="864"/>
                  </a:lnTo>
                  <a:lnTo>
                    <a:pt x="1459" y="862"/>
                  </a:lnTo>
                  <a:lnTo>
                    <a:pt x="1496" y="859"/>
                  </a:lnTo>
                  <a:lnTo>
                    <a:pt x="1534" y="855"/>
                  </a:lnTo>
                  <a:lnTo>
                    <a:pt x="1572" y="849"/>
                  </a:lnTo>
                  <a:lnTo>
                    <a:pt x="1609" y="844"/>
                  </a:lnTo>
                  <a:lnTo>
                    <a:pt x="1647" y="836"/>
                  </a:lnTo>
                  <a:lnTo>
                    <a:pt x="1684" y="829"/>
                  </a:lnTo>
                  <a:lnTo>
                    <a:pt x="1721" y="820"/>
                  </a:lnTo>
                  <a:lnTo>
                    <a:pt x="1758" y="809"/>
                  </a:lnTo>
                  <a:lnTo>
                    <a:pt x="1794" y="798"/>
                  </a:lnTo>
                  <a:lnTo>
                    <a:pt x="1831" y="787"/>
                  </a:lnTo>
                  <a:lnTo>
                    <a:pt x="1868" y="775"/>
                  </a:lnTo>
                  <a:lnTo>
                    <a:pt x="1904" y="761"/>
                  </a:lnTo>
                  <a:lnTo>
                    <a:pt x="1940" y="747"/>
                  </a:lnTo>
                  <a:lnTo>
                    <a:pt x="1976" y="730"/>
                  </a:lnTo>
                  <a:lnTo>
                    <a:pt x="2012" y="714"/>
                  </a:lnTo>
                  <a:lnTo>
                    <a:pt x="2048" y="696"/>
                  </a:lnTo>
                  <a:lnTo>
                    <a:pt x="2082" y="678"/>
                  </a:lnTo>
                  <a:lnTo>
                    <a:pt x="2117" y="658"/>
                  </a:lnTo>
                  <a:lnTo>
                    <a:pt x="2028" y="503"/>
                  </a:lnTo>
                  <a:lnTo>
                    <a:pt x="1997" y="520"/>
                  </a:lnTo>
                  <a:lnTo>
                    <a:pt x="1966" y="537"/>
                  </a:lnTo>
                  <a:lnTo>
                    <a:pt x="1934" y="552"/>
                  </a:lnTo>
                  <a:lnTo>
                    <a:pt x="1903" y="566"/>
                  </a:lnTo>
                  <a:lnTo>
                    <a:pt x="1872" y="580"/>
                  </a:lnTo>
                  <a:lnTo>
                    <a:pt x="1840" y="593"/>
                  </a:lnTo>
                  <a:lnTo>
                    <a:pt x="1807" y="605"/>
                  </a:lnTo>
                  <a:lnTo>
                    <a:pt x="1775" y="617"/>
                  </a:lnTo>
                  <a:lnTo>
                    <a:pt x="1743" y="627"/>
                  </a:lnTo>
                  <a:lnTo>
                    <a:pt x="1711" y="637"/>
                  </a:lnTo>
                  <a:lnTo>
                    <a:pt x="1677" y="645"/>
                  </a:lnTo>
                  <a:lnTo>
                    <a:pt x="1645" y="653"/>
                  </a:lnTo>
                  <a:lnTo>
                    <a:pt x="1611" y="660"/>
                  </a:lnTo>
                  <a:lnTo>
                    <a:pt x="1579" y="667"/>
                  </a:lnTo>
                  <a:lnTo>
                    <a:pt x="1546" y="671"/>
                  </a:lnTo>
                  <a:lnTo>
                    <a:pt x="1512" y="676"/>
                  </a:lnTo>
                  <a:lnTo>
                    <a:pt x="1479" y="680"/>
                  </a:lnTo>
                  <a:lnTo>
                    <a:pt x="1447" y="683"/>
                  </a:lnTo>
                  <a:lnTo>
                    <a:pt x="1413" y="685"/>
                  </a:lnTo>
                  <a:lnTo>
                    <a:pt x="1380" y="686"/>
                  </a:lnTo>
                  <a:lnTo>
                    <a:pt x="1347" y="686"/>
                  </a:lnTo>
                  <a:lnTo>
                    <a:pt x="1313" y="686"/>
                  </a:lnTo>
                  <a:lnTo>
                    <a:pt x="1281" y="685"/>
                  </a:lnTo>
                  <a:lnTo>
                    <a:pt x="1248" y="683"/>
                  </a:lnTo>
                  <a:lnTo>
                    <a:pt x="1214" y="681"/>
                  </a:lnTo>
                  <a:lnTo>
                    <a:pt x="1182" y="676"/>
                  </a:lnTo>
                  <a:lnTo>
                    <a:pt x="1148" y="672"/>
                  </a:lnTo>
                  <a:lnTo>
                    <a:pt x="1116" y="667"/>
                  </a:lnTo>
                  <a:lnTo>
                    <a:pt x="1084" y="661"/>
                  </a:lnTo>
                  <a:lnTo>
                    <a:pt x="1052" y="655"/>
                  </a:lnTo>
                  <a:lnTo>
                    <a:pt x="1019" y="647"/>
                  </a:lnTo>
                  <a:lnTo>
                    <a:pt x="988" y="639"/>
                  </a:lnTo>
                  <a:lnTo>
                    <a:pt x="956" y="630"/>
                  </a:lnTo>
                  <a:lnTo>
                    <a:pt x="925" y="620"/>
                  </a:lnTo>
                  <a:lnTo>
                    <a:pt x="893" y="611"/>
                  </a:lnTo>
                  <a:lnTo>
                    <a:pt x="862" y="599"/>
                  </a:lnTo>
                  <a:lnTo>
                    <a:pt x="831" y="587"/>
                  </a:lnTo>
                  <a:lnTo>
                    <a:pt x="801" y="574"/>
                  </a:lnTo>
                  <a:lnTo>
                    <a:pt x="771" y="561"/>
                  </a:lnTo>
                  <a:lnTo>
                    <a:pt x="740" y="547"/>
                  </a:lnTo>
                  <a:lnTo>
                    <a:pt x="711" y="532"/>
                  </a:lnTo>
                  <a:lnTo>
                    <a:pt x="682" y="517"/>
                  </a:lnTo>
                  <a:lnTo>
                    <a:pt x="653" y="501"/>
                  </a:lnTo>
                  <a:lnTo>
                    <a:pt x="624" y="483"/>
                  </a:lnTo>
                  <a:lnTo>
                    <a:pt x="596" y="465"/>
                  </a:lnTo>
                  <a:lnTo>
                    <a:pt x="569" y="447"/>
                  </a:lnTo>
                  <a:lnTo>
                    <a:pt x="541" y="428"/>
                  </a:lnTo>
                  <a:lnTo>
                    <a:pt x="514" y="408"/>
                  </a:lnTo>
                  <a:lnTo>
                    <a:pt x="488" y="387"/>
                  </a:lnTo>
                  <a:lnTo>
                    <a:pt x="462" y="367"/>
                  </a:lnTo>
                  <a:lnTo>
                    <a:pt x="437" y="345"/>
                  </a:lnTo>
                  <a:lnTo>
                    <a:pt x="412" y="322"/>
                  </a:lnTo>
                  <a:lnTo>
                    <a:pt x="387" y="299"/>
                  </a:lnTo>
                  <a:lnTo>
                    <a:pt x="364" y="275"/>
                  </a:lnTo>
                  <a:lnTo>
                    <a:pt x="340" y="250"/>
                  </a:lnTo>
                  <a:lnTo>
                    <a:pt x="317" y="225"/>
                  </a:lnTo>
                  <a:lnTo>
                    <a:pt x="295" y="199"/>
                  </a:lnTo>
                  <a:lnTo>
                    <a:pt x="272" y="172"/>
                  </a:lnTo>
                  <a:lnTo>
                    <a:pt x="252" y="145"/>
                  </a:lnTo>
                  <a:lnTo>
                    <a:pt x="231" y="117"/>
                  </a:lnTo>
                  <a:lnTo>
                    <a:pt x="211" y="89"/>
                  </a:lnTo>
                  <a:lnTo>
                    <a:pt x="191" y="60"/>
                  </a:lnTo>
                  <a:lnTo>
                    <a:pt x="173" y="30"/>
                  </a:lnTo>
                  <a:lnTo>
                    <a:pt x="155"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249000" y="5378040"/>
              <a:ext cx="112680" cy="257400"/>
            </a:xfrm>
            <a:custGeom>
              <a:avLst/>
              <a:gdLst/>
              <a:ahLst/>
              <a:rect l="l" t="t" r="r" b="b"/>
              <a:pathLst>
                <a:path w="863" h="2122">
                  <a:moveTo>
                    <a:pt x="774" y="0"/>
                  </a:moveTo>
                  <a:lnTo>
                    <a:pt x="740" y="20"/>
                  </a:lnTo>
                  <a:lnTo>
                    <a:pt x="706" y="41"/>
                  </a:lnTo>
                  <a:lnTo>
                    <a:pt x="674" y="63"/>
                  </a:lnTo>
                  <a:lnTo>
                    <a:pt x="642" y="86"/>
                  </a:lnTo>
                  <a:lnTo>
                    <a:pt x="609" y="109"/>
                  </a:lnTo>
                  <a:lnTo>
                    <a:pt x="579" y="133"/>
                  </a:lnTo>
                  <a:lnTo>
                    <a:pt x="549" y="158"/>
                  </a:lnTo>
                  <a:lnTo>
                    <a:pt x="520" y="184"/>
                  </a:lnTo>
                  <a:lnTo>
                    <a:pt x="492" y="210"/>
                  </a:lnTo>
                  <a:lnTo>
                    <a:pt x="464" y="237"/>
                  </a:lnTo>
                  <a:lnTo>
                    <a:pt x="437" y="264"/>
                  </a:lnTo>
                  <a:lnTo>
                    <a:pt x="410" y="291"/>
                  </a:lnTo>
                  <a:lnTo>
                    <a:pt x="385" y="320"/>
                  </a:lnTo>
                  <a:lnTo>
                    <a:pt x="361" y="349"/>
                  </a:lnTo>
                  <a:lnTo>
                    <a:pt x="337" y="378"/>
                  </a:lnTo>
                  <a:lnTo>
                    <a:pt x="313" y="408"/>
                  </a:lnTo>
                  <a:lnTo>
                    <a:pt x="291" y="439"/>
                  </a:lnTo>
                  <a:lnTo>
                    <a:pt x="269" y="469"/>
                  </a:lnTo>
                  <a:lnTo>
                    <a:pt x="249" y="501"/>
                  </a:lnTo>
                  <a:lnTo>
                    <a:pt x="228" y="533"/>
                  </a:lnTo>
                  <a:lnTo>
                    <a:pt x="210" y="565"/>
                  </a:lnTo>
                  <a:lnTo>
                    <a:pt x="192" y="598"/>
                  </a:lnTo>
                  <a:lnTo>
                    <a:pt x="173" y="631"/>
                  </a:lnTo>
                  <a:lnTo>
                    <a:pt x="157" y="664"/>
                  </a:lnTo>
                  <a:lnTo>
                    <a:pt x="141" y="698"/>
                  </a:lnTo>
                  <a:lnTo>
                    <a:pt x="126" y="732"/>
                  </a:lnTo>
                  <a:lnTo>
                    <a:pt x="112" y="767"/>
                  </a:lnTo>
                  <a:lnTo>
                    <a:pt x="98" y="801"/>
                  </a:lnTo>
                  <a:lnTo>
                    <a:pt x="86" y="837"/>
                  </a:lnTo>
                  <a:lnTo>
                    <a:pt x="74" y="873"/>
                  </a:lnTo>
                  <a:lnTo>
                    <a:pt x="63" y="908"/>
                  </a:lnTo>
                  <a:lnTo>
                    <a:pt x="53" y="944"/>
                  </a:lnTo>
                  <a:lnTo>
                    <a:pt x="44" y="980"/>
                  </a:lnTo>
                  <a:lnTo>
                    <a:pt x="35" y="1016"/>
                  </a:lnTo>
                  <a:lnTo>
                    <a:pt x="28" y="1053"/>
                  </a:lnTo>
                  <a:lnTo>
                    <a:pt x="21" y="1089"/>
                  </a:lnTo>
                  <a:lnTo>
                    <a:pt x="15" y="1126"/>
                  </a:lnTo>
                  <a:lnTo>
                    <a:pt x="11" y="1164"/>
                  </a:lnTo>
                  <a:lnTo>
                    <a:pt x="6" y="1201"/>
                  </a:lnTo>
                  <a:lnTo>
                    <a:pt x="3" y="1238"/>
                  </a:lnTo>
                  <a:lnTo>
                    <a:pt x="1" y="1275"/>
                  </a:lnTo>
                  <a:lnTo>
                    <a:pt x="0" y="1313"/>
                  </a:lnTo>
                  <a:lnTo>
                    <a:pt x="0" y="1351"/>
                  </a:lnTo>
                  <a:lnTo>
                    <a:pt x="0" y="1387"/>
                  </a:lnTo>
                  <a:lnTo>
                    <a:pt x="2" y="1425"/>
                  </a:lnTo>
                  <a:lnTo>
                    <a:pt x="4" y="1463"/>
                  </a:lnTo>
                  <a:lnTo>
                    <a:pt x="7" y="1501"/>
                  </a:lnTo>
                  <a:lnTo>
                    <a:pt x="11" y="1538"/>
                  </a:lnTo>
                  <a:lnTo>
                    <a:pt x="16" y="1575"/>
                  </a:lnTo>
                  <a:lnTo>
                    <a:pt x="23" y="1613"/>
                  </a:lnTo>
                  <a:lnTo>
                    <a:pt x="29" y="1651"/>
                  </a:lnTo>
                  <a:lnTo>
                    <a:pt x="38" y="1688"/>
                  </a:lnTo>
                  <a:lnTo>
                    <a:pt x="46" y="1725"/>
                  </a:lnTo>
                  <a:lnTo>
                    <a:pt x="56" y="1762"/>
                  </a:lnTo>
                  <a:lnTo>
                    <a:pt x="67" y="1800"/>
                  </a:lnTo>
                  <a:lnTo>
                    <a:pt x="79" y="1836"/>
                  </a:lnTo>
                  <a:lnTo>
                    <a:pt x="91" y="1872"/>
                  </a:lnTo>
                  <a:lnTo>
                    <a:pt x="104" y="1909"/>
                  </a:lnTo>
                  <a:lnTo>
                    <a:pt x="119" y="1945"/>
                  </a:lnTo>
                  <a:lnTo>
                    <a:pt x="135" y="1981"/>
                  </a:lnTo>
                  <a:lnTo>
                    <a:pt x="152" y="2017"/>
                  </a:lnTo>
                  <a:lnTo>
                    <a:pt x="169" y="2052"/>
                  </a:lnTo>
                  <a:lnTo>
                    <a:pt x="187" y="2088"/>
                  </a:lnTo>
                  <a:lnTo>
                    <a:pt x="207" y="2122"/>
                  </a:lnTo>
                  <a:lnTo>
                    <a:pt x="362" y="2033"/>
                  </a:lnTo>
                  <a:lnTo>
                    <a:pt x="344" y="2001"/>
                  </a:lnTo>
                  <a:lnTo>
                    <a:pt x="328" y="1971"/>
                  </a:lnTo>
                  <a:lnTo>
                    <a:pt x="312" y="1940"/>
                  </a:lnTo>
                  <a:lnTo>
                    <a:pt x="298" y="1908"/>
                  </a:lnTo>
                  <a:lnTo>
                    <a:pt x="284" y="1876"/>
                  </a:lnTo>
                  <a:lnTo>
                    <a:pt x="271" y="1844"/>
                  </a:lnTo>
                  <a:lnTo>
                    <a:pt x="259" y="1811"/>
                  </a:lnTo>
                  <a:lnTo>
                    <a:pt x="248" y="1779"/>
                  </a:lnTo>
                  <a:lnTo>
                    <a:pt x="238" y="1747"/>
                  </a:lnTo>
                  <a:lnTo>
                    <a:pt x="228" y="1714"/>
                  </a:lnTo>
                  <a:lnTo>
                    <a:pt x="220" y="1682"/>
                  </a:lnTo>
                  <a:lnTo>
                    <a:pt x="212" y="1649"/>
                  </a:lnTo>
                  <a:lnTo>
                    <a:pt x="204" y="1616"/>
                  </a:lnTo>
                  <a:lnTo>
                    <a:pt x="199" y="1583"/>
                  </a:lnTo>
                  <a:lnTo>
                    <a:pt x="194" y="1549"/>
                  </a:lnTo>
                  <a:lnTo>
                    <a:pt x="189" y="1517"/>
                  </a:lnTo>
                  <a:lnTo>
                    <a:pt x="185" y="1483"/>
                  </a:lnTo>
                  <a:lnTo>
                    <a:pt x="183" y="1450"/>
                  </a:lnTo>
                  <a:lnTo>
                    <a:pt x="181" y="1416"/>
                  </a:lnTo>
                  <a:lnTo>
                    <a:pt x="180" y="1383"/>
                  </a:lnTo>
                  <a:lnTo>
                    <a:pt x="179" y="1351"/>
                  </a:lnTo>
                  <a:lnTo>
                    <a:pt x="180" y="1317"/>
                  </a:lnTo>
                  <a:lnTo>
                    <a:pt x="180" y="1284"/>
                  </a:lnTo>
                  <a:lnTo>
                    <a:pt x="182" y="1250"/>
                  </a:lnTo>
                  <a:lnTo>
                    <a:pt x="185" y="1218"/>
                  </a:lnTo>
                  <a:lnTo>
                    <a:pt x="188" y="1184"/>
                  </a:lnTo>
                  <a:lnTo>
                    <a:pt x="193" y="1152"/>
                  </a:lnTo>
                  <a:lnTo>
                    <a:pt x="198" y="1120"/>
                  </a:lnTo>
                  <a:lnTo>
                    <a:pt x="203" y="1086"/>
                  </a:lnTo>
                  <a:lnTo>
                    <a:pt x="211" y="1054"/>
                  </a:lnTo>
                  <a:lnTo>
                    <a:pt x="217" y="1023"/>
                  </a:lnTo>
                  <a:lnTo>
                    <a:pt x="226" y="990"/>
                  </a:lnTo>
                  <a:lnTo>
                    <a:pt x="235" y="959"/>
                  </a:lnTo>
                  <a:lnTo>
                    <a:pt x="244" y="926"/>
                  </a:lnTo>
                  <a:lnTo>
                    <a:pt x="255" y="895"/>
                  </a:lnTo>
                  <a:lnTo>
                    <a:pt x="266" y="864"/>
                  </a:lnTo>
                  <a:lnTo>
                    <a:pt x="278" y="834"/>
                  </a:lnTo>
                  <a:lnTo>
                    <a:pt x="291" y="802"/>
                  </a:lnTo>
                  <a:lnTo>
                    <a:pt x="304" y="773"/>
                  </a:lnTo>
                  <a:lnTo>
                    <a:pt x="319" y="743"/>
                  </a:lnTo>
                  <a:lnTo>
                    <a:pt x="333" y="713"/>
                  </a:lnTo>
                  <a:lnTo>
                    <a:pt x="349" y="684"/>
                  </a:lnTo>
                  <a:lnTo>
                    <a:pt x="365" y="655"/>
                  </a:lnTo>
                  <a:lnTo>
                    <a:pt x="381" y="626"/>
                  </a:lnTo>
                  <a:lnTo>
                    <a:pt x="399" y="598"/>
                  </a:lnTo>
                  <a:lnTo>
                    <a:pt x="418" y="570"/>
                  </a:lnTo>
                  <a:lnTo>
                    <a:pt x="437" y="543"/>
                  </a:lnTo>
                  <a:lnTo>
                    <a:pt x="456" y="516"/>
                  </a:lnTo>
                  <a:lnTo>
                    <a:pt x="477" y="489"/>
                  </a:lnTo>
                  <a:lnTo>
                    <a:pt x="497" y="463"/>
                  </a:lnTo>
                  <a:lnTo>
                    <a:pt x="520" y="438"/>
                  </a:lnTo>
                  <a:lnTo>
                    <a:pt x="543" y="413"/>
                  </a:lnTo>
                  <a:lnTo>
                    <a:pt x="565" y="388"/>
                  </a:lnTo>
                  <a:lnTo>
                    <a:pt x="589" y="364"/>
                  </a:lnTo>
                  <a:lnTo>
                    <a:pt x="614" y="340"/>
                  </a:lnTo>
                  <a:lnTo>
                    <a:pt x="638" y="318"/>
                  </a:lnTo>
                  <a:lnTo>
                    <a:pt x="664" y="295"/>
                  </a:lnTo>
                  <a:lnTo>
                    <a:pt x="691" y="274"/>
                  </a:lnTo>
                  <a:lnTo>
                    <a:pt x="718" y="252"/>
                  </a:lnTo>
                  <a:lnTo>
                    <a:pt x="746" y="231"/>
                  </a:lnTo>
                  <a:lnTo>
                    <a:pt x="774" y="212"/>
                  </a:lnTo>
                  <a:lnTo>
                    <a:pt x="803" y="193"/>
                  </a:lnTo>
                  <a:lnTo>
                    <a:pt x="833" y="173"/>
                  </a:lnTo>
                  <a:lnTo>
                    <a:pt x="863" y="155"/>
                  </a:lnTo>
                  <a:lnTo>
                    <a:pt x="7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0" y="0"/>
            <a:ext cx="2286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286000" y="0"/>
            <a:ext cx="2286000" cy="30492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0"/>
            <a:ext cx="2286000" cy="304920"/>
          </a:xfrm>
          <a:prstGeom prst="rect">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lan</a:t>
            </a:r>
            <a:endParaRPr b="0" lang="en-US" sz="1600" spc="-1" strike="noStrike">
              <a:solidFill>
                <a:srgbClr val="000000"/>
              </a:solidFill>
              <a:latin typeface="Times New Roman"/>
            </a:endParaRPr>
          </a:p>
        </p:txBody>
      </p:sp>
      <p:sp>
        <p:nvSpPr>
          <p:cNvPr id="437" name=""/>
          <p:cNvSpPr/>
          <p:nvPr/>
        </p:nvSpPr>
        <p:spPr>
          <a:xfrm>
            <a:off x="23209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Collect</a:t>
            </a:r>
            <a:endParaRPr b="0" lang="en-US" sz="1600" spc="-1" strike="noStrike">
              <a:solidFill>
                <a:srgbClr val="000000"/>
              </a:solidFill>
              <a:latin typeface="Times New Roman"/>
            </a:endParaRPr>
          </a:p>
        </p:txBody>
      </p:sp>
      <p:sp>
        <p:nvSpPr>
          <p:cNvPr id="438" name=""/>
          <p:cNvSpPr/>
          <p:nvPr/>
        </p:nvSpPr>
        <p:spPr>
          <a:xfrm>
            <a:off x="457200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Verdana"/>
              </a:rPr>
              <a:t>Process</a:t>
            </a:r>
            <a:endParaRPr b="0" lang="en-US" sz="1600" spc="-1" strike="noStrike">
              <a:solidFill>
                <a:srgbClr val="000000"/>
              </a:solidFill>
              <a:latin typeface="Times New Roman"/>
            </a:endParaRPr>
          </a:p>
        </p:txBody>
      </p:sp>
      <p:sp>
        <p:nvSpPr>
          <p:cNvPr id="439" name=""/>
          <p:cNvSpPr/>
          <p:nvPr/>
        </p:nvSpPr>
        <p:spPr>
          <a:xfrm>
            <a:off x="3402000" y="2168640"/>
            <a:ext cx="2286000" cy="9079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760920" y="2347200"/>
            <a:ext cx="1530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lan</a:t>
            </a:r>
            <a:endParaRPr b="0" lang="en-US" sz="3200" spc="-1" strike="noStrike">
              <a:solidFill>
                <a:srgbClr val="000000"/>
              </a:solidFill>
              <a:latin typeface="Times New Roman"/>
            </a:endParaRPr>
          </a:p>
        </p:txBody>
      </p:sp>
      <p:grpSp>
        <p:nvGrpSpPr>
          <p:cNvPr id="441" name=""/>
          <p:cNvGrpSpPr/>
          <p:nvPr/>
        </p:nvGrpSpPr>
        <p:grpSpPr>
          <a:xfrm>
            <a:off x="4842000" y="1628640"/>
            <a:ext cx="857160" cy="731880"/>
            <a:chOff x="4842000" y="1628640"/>
            <a:chExt cx="857160" cy="731880"/>
          </a:xfrm>
        </p:grpSpPr>
        <p:sp>
          <p:nvSpPr>
            <p:cNvPr id="442" name=""/>
            <p:cNvSpPr/>
            <p:nvPr/>
          </p:nvSpPr>
          <p:spPr>
            <a:xfrm>
              <a:off x="4842000" y="1814400"/>
              <a:ext cx="561960" cy="546120"/>
            </a:xfrm>
            <a:custGeom>
              <a:avLst/>
              <a:gdLst/>
              <a:ahLst/>
              <a:rect l="l" t="t" r="r" b="b"/>
              <a:pathLst>
                <a:path w="5197" h="4472">
                  <a:moveTo>
                    <a:pt x="129" y="60"/>
                  </a:moveTo>
                  <a:lnTo>
                    <a:pt x="142" y="79"/>
                  </a:lnTo>
                  <a:lnTo>
                    <a:pt x="155" y="95"/>
                  </a:lnTo>
                  <a:lnTo>
                    <a:pt x="168" y="108"/>
                  </a:lnTo>
                  <a:lnTo>
                    <a:pt x="182" y="119"/>
                  </a:lnTo>
                  <a:lnTo>
                    <a:pt x="197" y="128"/>
                  </a:lnTo>
                  <a:lnTo>
                    <a:pt x="212" y="133"/>
                  </a:lnTo>
                  <a:lnTo>
                    <a:pt x="227" y="138"/>
                  </a:lnTo>
                  <a:lnTo>
                    <a:pt x="243" y="139"/>
                  </a:lnTo>
                  <a:lnTo>
                    <a:pt x="260" y="140"/>
                  </a:lnTo>
                  <a:lnTo>
                    <a:pt x="276" y="139"/>
                  </a:lnTo>
                  <a:lnTo>
                    <a:pt x="293" y="136"/>
                  </a:lnTo>
                  <a:lnTo>
                    <a:pt x="310" y="134"/>
                  </a:lnTo>
                  <a:lnTo>
                    <a:pt x="345" y="127"/>
                  </a:lnTo>
                  <a:lnTo>
                    <a:pt x="379" y="118"/>
                  </a:lnTo>
                  <a:lnTo>
                    <a:pt x="397" y="114"/>
                  </a:lnTo>
                  <a:lnTo>
                    <a:pt x="415" y="111"/>
                  </a:lnTo>
                  <a:lnTo>
                    <a:pt x="433" y="107"/>
                  </a:lnTo>
                  <a:lnTo>
                    <a:pt x="450" y="105"/>
                  </a:lnTo>
                  <a:lnTo>
                    <a:pt x="467" y="105"/>
                  </a:lnTo>
                  <a:lnTo>
                    <a:pt x="486" y="105"/>
                  </a:lnTo>
                  <a:lnTo>
                    <a:pt x="503" y="107"/>
                  </a:lnTo>
                  <a:lnTo>
                    <a:pt x="520" y="112"/>
                  </a:lnTo>
                  <a:lnTo>
                    <a:pt x="536" y="117"/>
                  </a:lnTo>
                  <a:lnTo>
                    <a:pt x="554" y="125"/>
                  </a:lnTo>
                  <a:lnTo>
                    <a:pt x="570" y="135"/>
                  </a:lnTo>
                  <a:lnTo>
                    <a:pt x="586" y="148"/>
                  </a:lnTo>
                  <a:lnTo>
                    <a:pt x="601" y="165"/>
                  </a:lnTo>
                  <a:lnTo>
                    <a:pt x="617" y="184"/>
                  </a:lnTo>
                  <a:lnTo>
                    <a:pt x="631" y="207"/>
                  </a:lnTo>
                  <a:lnTo>
                    <a:pt x="646" y="233"/>
                  </a:lnTo>
                  <a:lnTo>
                    <a:pt x="783" y="262"/>
                  </a:lnTo>
                  <a:lnTo>
                    <a:pt x="926" y="282"/>
                  </a:lnTo>
                  <a:lnTo>
                    <a:pt x="1076" y="296"/>
                  </a:lnTo>
                  <a:lnTo>
                    <a:pt x="1230" y="304"/>
                  </a:lnTo>
                  <a:lnTo>
                    <a:pt x="1389" y="306"/>
                  </a:lnTo>
                  <a:lnTo>
                    <a:pt x="1552" y="302"/>
                  </a:lnTo>
                  <a:lnTo>
                    <a:pt x="1719" y="294"/>
                  </a:lnTo>
                  <a:lnTo>
                    <a:pt x="1888" y="281"/>
                  </a:lnTo>
                  <a:lnTo>
                    <a:pt x="2059" y="265"/>
                  </a:lnTo>
                  <a:lnTo>
                    <a:pt x="2232" y="247"/>
                  </a:lnTo>
                  <a:lnTo>
                    <a:pt x="2405" y="225"/>
                  </a:lnTo>
                  <a:lnTo>
                    <a:pt x="2580" y="202"/>
                  </a:lnTo>
                  <a:lnTo>
                    <a:pt x="2928" y="154"/>
                  </a:lnTo>
                  <a:lnTo>
                    <a:pt x="3269" y="104"/>
                  </a:lnTo>
                  <a:lnTo>
                    <a:pt x="3436" y="81"/>
                  </a:lnTo>
                  <a:lnTo>
                    <a:pt x="3600" y="60"/>
                  </a:lnTo>
                  <a:lnTo>
                    <a:pt x="3759" y="41"/>
                  </a:lnTo>
                  <a:lnTo>
                    <a:pt x="3914" y="25"/>
                  </a:lnTo>
                  <a:lnTo>
                    <a:pt x="4064" y="13"/>
                  </a:lnTo>
                  <a:lnTo>
                    <a:pt x="4208" y="5"/>
                  </a:lnTo>
                  <a:lnTo>
                    <a:pt x="4346" y="0"/>
                  </a:lnTo>
                  <a:lnTo>
                    <a:pt x="4476" y="3"/>
                  </a:lnTo>
                  <a:lnTo>
                    <a:pt x="4600" y="10"/>
                  </a:lnTo>
                  <a:lnTo>
                    <a:pt x="4714" y="24"/>
                  </a:lnTo>
                  <a:lnTo>
                    <a:pt x="4820" y="45"/>
                  </a:lnTo>
                  <a:lnTo>
                    <a:pt x="4917" y="74"/>
                  </a:lnTo>
                  <a:lnTo>
                    <a:pt x="5004" y="111"/>
                  </a:lnTo>
                  <a:lnTo>
                    <a:pt x="5080" y="156"/>
                  </a:lnTo>
                  <a:lnTo>
                    <a:pt x="5145" y="211"/>
                  </a:lnTo>
                  <a:lnTo>
                    <a:pt x="5197" y="276"/>
                  </a:lnTo>
                  <a:lnTo>
                    <a:pt x="5197" y="553"/>
                  </a:lnTo>
                  <a:lnTo>
                    <a:pt x="5195" y="825"/>
                  </a:lnTo>
                  <a:lnTo>
                    <a:pt x="5193" y="1092"/>
                  </a:lnTo>
                  <a:lnTo>
                    <a:pt x="5191" y="1353"/>
                  </a:lnTo>
                  <a:lnTo>
                    <a:pt x="5183" y="1867"/>
                  </a:lnTo>
                  <a:lnTo>
                    <a:pt x="5176" y="2374"/>
                  </a:lnTo>
                  <a:lnTo>
                    <a:pt x="5168" y="2880"/>
                  </a:lnTo>
                  <a:lnTo>
                    <a:pt x="5161" y="3394"/>
                  </a:lnTo>
                  <a:lnTo>
                    <a:pt x="5159" y="3656"/>
                  </a:lnTo>
                  <a:lnTo>
                    <a:pt x="5156" y="3923"/>
                  </a:lnTo>
                  <a:lnTo>
                    <a:pt x="5155" y="4193"/>
                  </a:lnTo>
                  <a:lnTo>
                    <a:pt x="5154" y="4472"/>
                  </a:lnTo>
                  <a:lnTo>
                    <a:pt x="5095" y="4437"/>
                  </a:lnTo>
                  <a:lnTo>
                    <a:pt x="5026" y="4407"/>
                  </a:lnTo>
                  <a:lnTo>
                    <a:pt x="4949" y="4380"/>
                  </a:lnTo>
                  <a:lnTo>
                    <a:pt x="4861" y="4357"/>
                  </a:lnTo>
                  <a:lnTo>
                    <a:pt x="4766" y="4338"/>
                  </a:lnTo>
                  <a:lnTo>
                    <a:pt x="4662" y="4321"/>
                  </a:lnTo>
                  <a:lnTo>
                    <a:pt x="4551" y="4308"/>
                  </a:lnTo>
                  <a:lnTo>
                    <a:pt x="4433" y="4297"/>
                  </a:lnTo>
                  <a:lnTo>
                    <a:pt x="4308" y="4288"/>
                  </a:lnTo>
                  <a:lnTo>
                    <a:pt x="4177" y="4283"/>
                  </a:lnTo>
                  <a:lnTo>
                    <a:pt x="4041" y="4279"/>
                  </a:lnTo>
                  <a:lnTo>
                    <a:pt x="3899" y="4278"/>
                  </a:lnTo>
                  <a:lnTo>
                    <a:pt x="3752" y="4278"/>
                  </a:lnTo>
                  <a:lnTo>
                    <a:pt x="3602" y="4280"/>
                  </a:lnTo>
                  <a:lnTo>
                    <a:pt x="3447" y="4283"/>
                  </a:lnTo>
                  <a:lnTo>
                    <a:pt x="3288" y="4288"/>
                  </a:lnTo>
                  <a:lnTo>
                    <a:pt x="3128" y="4294"/>
                  </a:lnTo>
                  <a:lnTo>
                    <a:pt x="2964" y="4301"/>
                  </a:lnTo>
                  <a:lnTo>
                    <a:pt x="2800" y="4309"/>
                  </a:lnTo>
                  <a:lnTo>
                    <a:pt x="2633" y="4316"/>
                  </a:lnTo>
                  <a:lnTo>
                    <a:pt x="2297" y="4335"/>
                  </a:lnTo>
                  <a:lnTo>
                    <a:pt x="1961" y="4352"/>
                  </a:lnTo>
                  <a:lnTo>
                    <a:pt x="1794" y="4361"/>
                  </a:lnTo>
                  <a:lnTo>
                    <a:pt x="1628" y="4368"/>
                  </a:lnTo>
                  <a:lnTo>
                    <a:pt x="1464" y="4376"/>
                  </a:lnTo>
                  <a:lnTo>
                    <a:pt x="1303" y="4382"/>
                  </a:lnTo>
                  <a:lnTo>
                    <a:pt x="1145" y="4388"/>
                  </a:lnTo>
                  <a:lnTo>
                    <a:pt x="989" y="4392"/>
                  </a:lnTo>
                  <a:lnTo>
                    <a:pt x="837" y="4394"/>
                  </a:lnTo>
                  <a:lnTo>
                    <a:pt x="689" y="4396"/>
                  </a:lnTo>
                  <a:lnTo>
                    <a:pt x="667" y="4394"/>
                  </a:lnTo>
                  <a:lnTo>
                    <a:pt x="647" y="4392"/>
                  </a:lnTo>
                  <a:lnTo>
                    <a:pt x="629" y="4387"/>
                  </a:lnTo>
                  <a:lnTo>
                    <a:pt x="614" y="4381"/>
                  </a:lnTo>
                  <a:lnTo>
                    <a:pt x="601" y="4374"/>
                  </a:lnTo>
                  <a:lnTo>
                    <a:pt x="589" y="4365"/>
                  </a:lnTo>
                  <a:lnTo>
                    <a:pt x="579" y="4355"/>
                  </a:lnTo>
                  <a:lnTo>
                    <a:pt x="570" y="4345"/>
                  </a:lnTo>
                  <a:lnTo>
                    <a:pt x="540" y="4297"/>
                  </a:lnTo>
                  <a:lnTo>
                    <a:pt x="506" y="4247"/>
                  </a:lnTo>
                  <a:lnTo>
                    <a:pt x="495" y="4236"/>
                  </a:lnTo>
                  <a:lnTo>
                    <a:pt x="483" y="4225"/>
                  </a:lnTo>
                  <a:lnTo>
                    <a:pt x="469" y="4214"/>
                  </a:lnTo>
                  <a:lnTo>
                    <a:pt x="452" y="4205"/>
                  </a:lnTo>
                  <a:lnTo>
                    <a:pt x="433" y="4197"/>
                  </a:lnTo>
                  <a:lnTo>
                    <a:pt x="413" y="4189"/>
                  </a:lnTo>
                  <a:lnTo>
                    <a:pt x="388" y="4183"/>
                  </a:lnTo>
                  <a:lnTo>
                    <a:pt x="361" y="4178"/>
                  </a:lnTo>
                  <a:lnTo>
                    <a:pt x="331" y="4175"/>
                  </a:lnTo>
                  <a:lnTo>
                    <a:pt x="296" y="4174"/>
                  </a:lnTo>
                  <a:lnTo>
                    <a:pt x="259" y="4175"/>
                  </a:lnTo>
                  <a:lnTo>
                    <a:pt x="217" y="4178"/>
                  </a:lnTo>
                  <a:lnTo>
                    <a:pt x="169" y="4183"/>
                  </a:lnTo>
                  <a:lnTo>
                    <a:pt x="119" y="4190"/>
                  </a:lnTo>
                  <a:lnTo>
                    <a:pt x="62" y="4200"/>
                  </a:lnTo>
                  <a:lnTo>
                    <a:pt x="0" y="4213"/>
                  </a:lnTo>
                  <a:lnTo>
                    <a:pt x="129" y="6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000760" y="1628640"/>
              <a:ext cx="698400" cy="731880"/>
            </a:xfrm>
            <a:custGeom>
              <a:avLst/>
              <a:gdLst/>
              <a:ahLst/>
              <a:rect l="l" t="t" r="r" b="b"/>
              <a:pathLst>
                <a:path w="6460" h="6681">
                  <a:moveTo>
                    <a:pt x="3020" y="0"/>
                  </a:moveTo>
                  <a:lnTo>
                    <a:pt x="3015" y="23"/>
                  </a:lnTo>
                  <a:lnTo>
                    <a:pt x="3013" y="43"/>
                  </a:lnTo>
                  <a:lnTo>
                    <a:pt x="3013" y="62"/>
                  </a:lnTo>
                  <a:lnTo>
                    <a:pt x="3015" y="79"/>
                  </a:lnTo>
                  <a:lnTo>
                    <a:pt x="3021" y="95"/>
                  </a:lnTo>
                  <a:lnTo>
                    <a:pt x="3027" y="110"/>
                  </a:lnTo>
                  <a:lnTo>
                    <a:pt x="3035" y="124"/>
                  </a:lnTo>
                  <a:lnTo>
                    <a:pt x="3044" y="136"/>
                  </a:lnTo>
                  <a:lnTo>
                    <a:pt x="3056" y="148"/>
                  </a:lnTo>
                  <a:lnTo>
                    <a:pt x="3068" y="160"/>
                  </a:lnTo>
                  <a:lnTo>
                    <a:pt x="3081" y="169"/>
                  </a:lnTo>
                  <a:lnTo>
                    <a:pt x="3095" y="180"/>
                  </a:lnTo>
                  <a:lnTo>
                    <a:pt x="3125" y="200"/>
                  </a:lnTo>
                  <a:lnTo>
                    <a:pt x="3156" y="218"/>
                  </a:lnTo>
                  <a:lnTo>
                    <a:pt x="3171" y="228"/>
                  </a:lnTo>
                  <a:lnTo>
                    <a:pt x="3187" y="237"/>
                  </a:lnTo>
                  <a:lnTo>
                    <a:pt x="3201" y="248"/>
                  </a:lnTo>
                  <a:lnTo>
                    <a:pt x="3215" y="259"/>
                  </a:lnTo>
                  <a:lnTo>
                    <a:pt x="3227" y="271"/>
                  </a:lnTo>
                  <a:lnTo>
                    <a:pt x="3239" y="284"/>
                  </a:lnTo>
                  <a:lnTo>
                    <a:pt x="3250" y="298"/>
                  </a:lnTo>
                  <a:lnTo>
                    <a:pt x="3260" y="313"/>
                  </a:lnTo>
                  <a:lnTo>
                    <a:pt x="3267" y="329"/>
                  </a:lnTo>
                  <a:lnTo>
                    <a:pt x="3274" y="346"/>
                  </a:lnTo>
                  <a:lnTo>
                    <a:pt x="3278" y="365"/>
                  </a:lnTo>
                  <a:lnTo>
                    <a:pt x="3280" y="386"/>
                  </a:lnTo>
                  <a:lnTo>
                    <a:pt x="3280" y="408"/>
                  </a:lnTo>
                  <a:lnTo>
                    <a:pt x="3277" y="433"/>
                  </a:lnTo>
                  <a:lnTo>
                    <a:pt x="3272" y="460"/>
                  </a:lnTo>
                  <a:lnTo>
                    <a:pt x="3263" y="488"/>
                  </a:lnTo>
                  <a:lnTo>
                    <a:pt x="3339" y="606"/>
                  </a:lnTo>
                  <a:lnTo>
                    <a:pt x="3427" y="722"/>
                  </a:lnTo>
                  <a:lnTo>
                    <a:pt x="3522" y="838"/>
                  </a:lnTo>
                  <a:lnTo>
                    <a:pt x="3626" y="952"/>
                  </a:lnTo>
                  <a:lnTo>
                    <a:pt x="3737" y="1066"/>
                  </a:lnTo>
                  <a:lnTo>
                    <a:pt x="3855" y="1180"/>
                  </a:lnTo>
                  <a:lnTo>
                    <a:pt x="3979" y="1292"/>
                  </a:lnTo>
                  <a:lnTo>
                    <a:pt x="4107" y="1403"/>
                  </a:lnTo>
                  <a:lnTo>
                    <a:pt x="4240" y="1513"/>
                  </a:lnTo>
                  <a:lnTo>
                    <a:pt x="4375" y="1622"/>
                  </a:lnTo>
                  <a:lnTo>
                    <a:pt x="4513" y="1730"/>
                  </a:lnTo>
                  <a:lnTo>
                    <a:pt x="4653" y="1838"/>
                  </a:lnTo>
                  <a:lnTo>
                    <a:pt x="4933" y="2050"/>
                  </a:lnTo>
                  <a:lnTo>
                    <a:pt x="5209" y="2257"/>
                  </a:lnTo>
                  <a:lnTo>
                    <a:pt x="5342" y="2358"/>
                  </a:lnTo>
                  <a:lnTo>
                    <a:pt x="5473" y="2460"/>
                  </a:lnTo>
                  <a:lnTo>
                    <a:pt x="5599" y="2559"/>
                  </a:lnTo>
                  <a:lnTo>
                    <a:pt x="5720" y="2657"/>
                  </a:lnTo>
                  <a:lnTo>
                    <a:pt x="5835" y="2755"/>
                  </a:lnTo>
                  <a:lnTo>
                    <a:pt x="5943" y="2851"/>
                  </a:lnTo>
                  <a:lnTo>
                    <a:pt x="6043" y="2946"/>
                  </a:lnTo>
                  <a:lnTo>
                    <a:pt x="6133" y="3040"/>
                  </a:lnTo>
                  <a:lnTo>
                    <a:pt x="6215" y="3133"/>
                  </a:lnTo>
                  <a:lnTo>
                    <a:pt x="6287" y="3224"/>
                  </a:lnTo>
                  <a:lnTo>
                    <a:pt x="6348" y="3314"/>
                  </a:lnTo>
                  <a:lnTo>
                    <a:pt x="6396" y="3403"/>
                  </a:lnTo>
                  <a:lnTo>
                    <a:pt x="6431" y="3490"/>
                  </a:lnTo>
                  <a:lnTo>
                    <a:pt x="6452" y="3577"/>
                  </a:lnTo>
                  <a:lnTo>
                    <a:pt x="6460" y="3661"/>
                  </a:lnTo>
                  <a:lnTo>
                    <a:pt x="6451" y="3744"/>
                  </a:lnTo>
                  <a:lnTo>
                    <a:pt x="6255" y="3940"/>
                  </a:lnTo>
                  <a:lnTo>
                    <a:pt x="6062" y="4131"/>
                  </a:lnTo>
                  <a:lnTo>
                    <a:pt x="5873" y="4318"/>
                  </a:lnTo>
                  <a:lnTo>
                    <a:pt x="5687" y="4502"/>
                  </a:lnTo>
                  <a:lnTo>
                    <a:pt x="5319" y="4860"/>
                  </a:lnTo>
                  <a:lnTo>
                    <a:pt x="4957" y="5213"/>
                  </a:lnTo>
                  <a:lnTo>
                    <a:pt x="4593" y="5566"/>
                  </a:lnTo>
                  <a:lnTo>
                    <a:pt x="4226" y="5924"/>
                  </a:lnTo>
                  <a:lnTo>
                    <a:pt x="4039" y="6107"/>
                  </a:lnTo>
                  <a:lnTo>
                    <a:pt x="3850" y="6293"/>
                  </a:lnTo>
                  <a:lnTo>
                    <a:pt x="3657" y="6484"/>
                  </a:lnTo>
                  <a:lnTo>
                    <a:pt x="3461" y="6681"/>
                  </a:lnTo>
                  <a:lnTo>
                    <a:pt x="3444" y="6615"/>
                  </a:lnTo>
                  <a:lnTo>
                    <a:pt x="3416" y="6545"/>
                  </a:lnTo>
                  <a:lnTo>
                    <a:pt x="3379" y="6470"/>
                  </a:lnTo>
                  <a:lnTo>
                    <a:pt x="3334" y="6393"/>
                  </a:lnTo>
                  <a:lnTo>
                    <a:pt x="3280" y="6311"/>
                  </a:lnTo>
                  <a:lnTo>
                    <a:pt x="3219" y="6226"/>
                  </a:lnTo>
                  <a:lnTo>
                    <a:pt x="3150" y="6138"/>
                  </a:lnTo>
                  <a:lnTo>
                    <a:pt x="3075" y="6046"/>
                  </a:lnTo>
                  <a:lnTo>
                    <a:pt x="2992" y="5952"/>
                  </a:lnTo>
                  <a:lnTo>
                    <a:pt x="2903" y="5855"/>
                  </a:lnTo>
                  <a:lnTo>
                    <a:pt x="2810" y="5756"/>
                  </a:lnTo>
                  <a:lnTo>
                    <a:pt x="2710" y="5653"/>
                  </a:lnTo>
                  <a:lnTo>
                    <a:pt x="2606" y="5550"/>
                  </a:lnTo>
                  <a:lnTo>
                    <a:pt x="2499" y="5445"/>
                  </a:lnTo>
                  <a:lnTo>
                    <a:pt x="2387" y="5337"/>
                  </a:lnTo>
                  <a:lnTo>
                    <a:pt x="2271" y="5229"/>
                  </a:lnTo>
                  <a:lnTo>
                    <a:pt x="2153" y="5119"/>
                  </a:lnTo>
                  <a:lnTo>
                    <a:pt x="2033" y="5008"/>
                  </a:lnTo>
                  <a:lnTo>
                    <a:pt x="1911" y="4897"/>
                  </a:lnTo>
                  <a:lnTo>
                    <a:pt x="1787" y="4784"/>
                  </a:lnTo>
                  <a:lnTo>
                    <a:pt x="1537" y="4559"/>
                  </a:lnTo>
                  <a:lnTo>
                    <a:pt x="1287" y="4333"/>
                  </a:lnTo>
                  <a:lnTo>
                    <a:pt x="1163" y="4221"/>
                  </a:lnTo>
                  <a:lnTo>
                    <a:pt x="1041" y="4109"/>
                  </a:lnTo>
                  <a:lnTo>
                    <a:pt x="919" y="3998"/>
                  </a:lnTo>
                  <a:lnTo>
                    <a:pt x="801" y="3889"/>
                  </a:lnTo>
                  <a:lnTo>
                    <a:pt x="684" y="3780"/>
                  </a:lnTo>
                  <a:lnTo>
                    <a:pt x="571" y="3672"/>
                  </a:lnTo>
                  <a:lnTo>
                    <a:pt x="463" y="3566"/>
                  </a:lnTo>
                  <a:lnTo>
                    <a:pt x="357" y="3462"/>
                  </a:lnTo>
                  <a:lnTo>
                    <a:pt x="342" y="3445"/>
                  </a:lnTo>
                  <a:lnTo>
                    <a:pt x="330" y="3430"/>
                  </a:lnTo>
                  <a:lnTo>
                    <a:pt x="321" y="3414"/>
                  </a:lnTo>
                  <a:lnTo>
                    <a:pt x="315" y="3399"/>
                  </a:lnTo>
                  <a:lnTo>
                    <a:pt x="311" y="3385"/>
                  </a:lnTo>
                  <a:lnTo>
                    <a:pt x="309" y="3371"/>
                  </a:lnTo>
                  <a:lnTo>
                    <a:pt x="307" y="3357"/>
                  </a:lnTo>
                  <a:lnTo>
                    <a:pt x="309" y="3343"/>
                  </a:lnTo>
                  <a:lnTo>
                    <a:pt x="320" y="3287"/>
                  </a:lnTo>
                  <a:lnTo>
                    <a:pt x="332" y="3228"/>
                  </a:lnTo>
                  <a:lnTo>
                    <a:pt x="332" y="3212"/>
                  </a:lnTo>
                  <a:lnTo>
                    <a:pt x="332" y="3195"/>
                  </a:lnTo>
                  <a:lnTo>
                    <a:pt x="329" y="3177"/>
                  </a:lnTo>
                  <a:lnTo>
                    <a:pt x="325" y="3159"/>
                  </a:lnTo>
                  <a:lnTo>
                    <a:pt x="317" y="3141"/>
                  </a:lnTo>
                  <a:lnTo>
                    <a:pt x="307" y="3120"/>
                  </a:lnTo>
                  <a:lnTo>
                    <a:pt x="295" y="3099"/>
                  </a:lnTo>
                  <a:lnTo>
                    <a:pt x="278" y="3076"/>
                  </a:lnTo>
                  <a:lnTo>
                    <a:pt x="259" y="3052"/>
                  </a:lnTo>
                  <a:lnTo>
                    <a:pt x="235" y="3027"/>
                  </a:lnTo>
                  <a:lnTo>
                    <a:pt x="208" y="3001"/>
                  </a:lnTo>
                  <a:lnTo>
                    <a:pt x="176" y="2973"/>
                  </a:lnTo>
                  <a:lnTo>
                    <a:pt x="139" y="2943"/>
                  </a:lnTo>
                  <a:lnTo>
                    <a:pt x="99" y="2912"/>
                  </a:lnTo>
                  <a:lnTo>
                    <a:pt x="51" y="2880"/>
                  </a:lnTo>
                  <a:lnTo>
                    <a:pt x="0" y="2845"/>
                  </a:lnTo>
                  <a:lnTo>
                    <a:pt x="302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984920" y="1931760"/>
              <a:ext cx="61920" cy="82440"/>
            </a:xfrm>
            <a:custGeom>
              <a:avLst/>
              <a:gdLst/>
              <a:ahLst/>
              <a:rect l="l" t="t" r="r" b="b"/>
              <a:pathLst>
                <a:path w="568" h="756">
                  <a:moveTo>
                    <a:pt x="83" y="10"/>
                  </a:moveTo>
                  <a:lnTo>
                    <a:pt x="96" y="152"/>
                  </a:lnTo>
                  <a:lnTo>
                    <a:pt x="146" y="185"/>
                  </a:lnTo>
                  <a:lnTo>
                    <a:pt x="191" y="216"/>
                  </a:lnTo>
                  <a:lnTo>
                    <a:pt x="230" y="245"/>
                  </a:lnTo>
                  <a:lnTo>
                    <a:pt x="264" y="274"/>
                  </a:lnTo>
                  <a:lnTo>
                    <a:pt x="293" y="298"/>
                  </a:lnTo>
                  <a:lnTo>
                    <a:pt x="317" y="321"/>
                  </a:lnTo>
                  <a:lnTo>
                    <a:pt x="336" y="343"/>
                  </a:lnTo>
                  <a:lnTo>
                    <a:pt x="352" y="362"/>
                  </a:lnTo>
                  <a:lnTo>
                    <a:pt x="365" y="379"/>
                  </a:lnTo>
                  <a:lnTo>
                    <a:pt x="374" y="394"/>
                  </a:lnTo>
                  <a:lnTo>
                    <a:pt x="379" y="406"/>
                  </a:lnTo>
                  <a:lnTo>
                    <a:pt x="384" y="418"/>
                  </a:lnTo>
                  <a:lnTo>
                    <a:pt x="387" y="428"/>
                  </a:lnTo>
                  <a:lnTo>
                    <a:pt x="388" y="435"/>
                  </a:lnTo>
                  <a:lnTo>
                    <a:pt x="388" y="444"/>
                  </a:lnTo>
                  <a:lnTo>
                    <a:pt x="389" y="445"/>
                  </a:lnTo>
                  <a:lnTo>
                    <a:pt x="378" y="500"/>
                  </a:lnTo>
                  <a:lnTo>
                    <a:pt x="366" y="556"/>
                  </a:lnTo>
                  <a:lnTo>
                    <a:pt x="363" y="585"/>
                  </a:lnTo>
                  <a:lnTo>
                    <a:pt x="364" y="609"/>
                  </a:lnTo>
                  <a:lnTo>
                    <a:pt x="367" y="634"/>
                  </a:lnTo>
                  <a:lnTo>
                    <a:pt x="375" y="660"/>
                  </a:lnTo>
                  <a:lnTo>
                    <a:pt x="386" y="686"/>
                  </a:lnTo>
                  <a:lnTo>
                    <a:pt x="401" y="710"/>
                  </a:lnTo>
                  <a:lnTo>
                    <a:pt x="418" y="733"/>
                  </a:lnTo>
                  <a:lnTo>
                    <a:pt x="437" y="756"/>
                  </a:lnTo>
                  <a:lnTo>
                    <a:pt x="567" y="631"/>
                  </a:lnTo>
                  <a:lnTo>
                    <a:pt x="556" y="620"/>
                  </a:lnTo>
                  <a:lnTo>
                    <a:pt x="549" y="611"/>
                  </a:lnTo>
                  <a:lnTo>
                    <a:pt x="546" y="605"/>
                  </a:lnTo>
                  <a:lnTo>
                    <a:pt x="544" y="599"/>
                  </a:lnTo>
                  <a:lnTo>
                    <a:pt x="543" y="596"/>
                  </a:lnTo>
                  <a:lnTo>
                    <a:pt x="543" y="593"/>
                  </a:lnTo>
                  <a:lnTo>
                    <a:pt x="543" y="589"/>
                  </a:lnTo>
                  <a:lnTo>
                    <a:pt x="542" y="590"/>
                  </a:lnTo>
                  <a:lnTo>
                    <a:pt x="554" y="536"/>
                  </a:lnTo>
                  <a:lnTo>
                    <a:pt x="566" y="472"/>
                  </a:lnTo>
                  <a:lnTo>
                    <a:pt x="568" y="442"/>
                  </a:lnTo>
                  <a:lnTo>
                    <a:pt x="566" y="417"/>
                  </a:lnTo>
                  <a:lnTo>
                    <a:pt x="561" y="390"/>
                  </a:lnTo>
                  <a:lnTo>
                    <a:pt x="555" y="363"/>
                  </a:lnTo>
                  <a:lnTo>
                    <a:pt x="544" y="336"/>
                  </a:lnTo>
                  <a:lnTo>
                    <a:pt x="531" y="308"/>
                  </a:lnTo>
                  <a:lnTo>
                    <a:pt x="514" y="281"/>
                  </a:lnTo>
                  <a:lnTo>
                    <a:pt x="494" y="253"/>
                  </a:lnTo>
                  <a:lnTo>
                    <a:pt x="471" y="224"/>
                  </a:lnTo>
                  <a:lnTo>
                    <a:pt x="444" y="196"/>
                  </a:lnTo>
                  <a:lnTo>
                    <a:pt x="414" y="166"/>
                  </a:lnTo>
                  <a:lnTo>
                    <a:pt x="379" y="135"/>
                  </a:lnTo>
                  <a:lnTo>
                    <a:pt x="339" y="104"/>
                  </a:lnTo>
                  <a:lnTo>
                    <a:pt x="296" y="71"/>
                  </a:lnTo>
                  <a:lnTo>
                    <a:pt x="247" y="36"/>
                  </a:lnTo>
                  <a:lnTo>
                    <a:pt x="193" y="0"/>
                  </a:lnTo>
                  <a:lnTo>
                    <a:pt x="206" y="141"/>
                  </a:lnTo>
                  <a:lnTo>
                    <a:pt x="83" y="10"/>
                  </a:lnTo>
                  <a:lnTo>
                    <a:pt x="0" y="88"/>
                  </a:lnTo>
                  <a:lnTo>
                    <a:pt x="96" y="150"/>
                  </a:lnTo>
                  <a:lnTo>
                    <a:pt x="83" y="10"/>
                  </a:lnTo>
                  <a:close/>
                </a:path>
              </a:pathLst>
            </a:custGeom>
            <a:solidFill>
              <a:srgbClr val="9999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4888080" y="1876320"/>
              <a:ext cx="503280" cy="438120"/>
            </a:xfrm>
            <a:custGeom>
              <a:avLst/>
              <a:gdLst/>
              <a:ahLst/>
              <a:rect l="l" t="t" r="r" b="b"/>
              <a:pathLst>
                <a:path w="4646" h="3995">
                  <a:moveTo>
                    <a:pt x="115" y="51"/>
                  </a:moveTo>
                  <a:lnTo>
                    <a:pt x="126" y="69"/>
                  </a:lnTo>
                  <a:lnTo>
                    <a:pt x="138" y="84"/>
                  </a:lnTo>
                  <a:lnTo>
                    <a:pt x="149" y="96"/>
                  </a:lnTo>
                  <a:lnTo>
                    <a:pt x="162" y="104"/>
                  </a:lnTo>
                  <a:lnTo>
                    <a:pt x="175" y="112"/>
                  </a:lnTo>
                  <a:lnTo>
                    <a:pt x="188" y="117"/>
                  </a:lnTo>
                  <a:lnTo>
                    <a:pt x="202" y="121"/>
                  </a:lnTo>
                  <a:lnTo>
                    <a:pt x="216" y="123"/>
                  </a:lnTo>
                  <a:lnTo>
                    <a:pt x="231" y="123"/>
                  </a:lnTo>
                  <a:lnTo>
                    <a:pt x="246" y="123"/>
                  </a:lnTo>
                  <a:lnTo>
                    <a:pt x="260" y="121"/>
                  </a:lnTo>
                  <a:lnTo>
                    <a:pt x="276" y="118"/>
                  </a:lnTo>
                  <a:lnTo>
                    <a:pt x="307" y="111"/>
                  </a:lnTo>
                  <a:lnTo>
                    <a:pt x="339" y="103"/>
                  </a:lnTo>
                  <a:lnTo>
                    <a:pt x="370" y="97"/>
                  </a:lnTo>
                  <a:lnTo>
                    <a:pt x="401" y="92"/>
                  </a:lnTo>
                  <a:lnTo>
                    <a:pt x="418" y="92"/>
                  </a:lnTo>
                  <a:lnTo>
                    <a:pt x="433" y="92"/>
                  </a:lnTo>
                  <a:lnTo>
                    <a:pt x="449" y="95"/>
                  </a:lnTo>
                  <a:lnTo>
                    <a:pt x="464" y="98"/>
                  </a:lnTo>
                  <a:lnTo>
                    <a:pt x="479" y="103"/>
                  </a:lnTo>
                  <a:lnTo>
                    <a:pt x="494" y="110"/>
                  </a:lnTo>
                  <a:lnTo>
                    <a:pt x="508" y="119"/>
                  </a:lnTo>
                  <a:lnTo>
                    <a:pt x="523" y="131"/>
                  </a:lnTo>
                  <a:lnTo>
                    <a:pt x="537" y="145"/>
                  </a:lnTo>
                  <a:lnTo>
                    <a:pt x="550" y="163"/>
                  </a:lnTo>
                  <a:lnTo>
                    <a:pt x="564" y="183"/>
                  </a:lnTo>
                  <a:lnTo>
                    <a:pt x="577" y="206"/>
                  </a:lnTo>
                  <a:lnTo>
                    <a:pt x="699" y="232"/>
                  </a:lnTo>
                  <a:lnTo>
                    <a:pt x="827" y="251"/>
                  </a:lnTo>
                  <a:lnTo>
                    <a:pt x="960" y="263"/>
                  </a:lnTo>
                  <a:lnTo>
                    <a:pt x="1098" y="269"/>
                  </a:lnTo>
                  <a:lnTo>
                    <a:pt x="1241" y="272"/>
                  </a:lnTo>
                  <a:lnTo>
                    <a:pt x="1387" y="268"/>
                  </a:lnTo>
                  <a:lnTo>
                    <a:pt x="1535" y="261"/>
                  </a:lnTo>
                  <a:lnTo>
                    <a:pt x="1687" y="250"/>
                  </a:lnTo>
                  <a:lnTo>
                    <a:pt x="1840" y="236"/>
                  </a:lnTo>
                  <a:lnTo>
                    <a:pt x="1995" y="219"/>
                  </a:lnTo>
                  <a:lnTo>
                    <a:pt x="2150" y="199"/>
                  </a:lnTo>
                  <a:lnTo>
                    <a:pt x="2306" y="179"/>
                  </a:lnTo>
                  <a:lnTo>
                    <a:pt x="2616" y="136"/>
                  </a:lnTo>
                  <a:lnTo>
                    <a:pt x="2921" y="91"/>
                  </a:lnTo>
                  <a:lnTo>
                    <a:pt x="3070" y="71"/>
                  </a:lnTo>
                  <a:lnTo>
                    <a:pt x="3217" y="53"/>
                  </a:lnTo>
                  <a:lnTo>
                    <a:pt x="3359" y="35"/>
                  </a:lnTo>
                  <a:lnTo>
                    <a:pt x="3498" y="21"/>
                  </a:lnTo>
                  <a:lnTo>
                    <a:pt x="3631" y="9"/>
                  </a:lnTo>
                  <a:lnTo>
                    <a:pt x="3761" y="3"/>
                  </a:lnTo>
                  <a:lnTo>
                    <a:pt x="3883" y="0"/>
                  </a:lnTo>
                  <a:lnTo>
                    <a:pt x="4001" y="1"/>
                  </a:lnTo>
                  <a:lnTo>
                    <a:pt x="4111" y="7"/>
                  </a:lnTo>
                  <a:lnTo>
                    <a:pt x="4214" y="20"/>
                  </a:lnTo>
                  <a:lnTo>
                    <a:pt x="4309" y="39"/>
                  </a:lnTo>
                  <a:lnTo>
                    <a:pt x="4395" y="64"/>
                  </a:lnTo>
                  <a:lnTo>
                    <a:pt x="4472" y="97"/>
                  </a:lnTo>
                  <a:lnTo>
                    <a:pt x="4540" y="138"/>
                  </a:lnTo>
                  <a:lnTo>
                    <a:pt x="4598" y="186"/>
                  </a:lnTo>
                  <a:lnTo>
                    <a:pt x="4646" y="245"/>
                  </a:lnTo>
                  <a:lnTo>
                    <a:pt x="4645" y="493"/>
                  </a:lnTo>
                  <a:lnTo>
                    <a:pt x="4644" y="736"/>
                  </a:lnTo>
                  <a:lnTo>
                    <a:pt x="4641" y="974"/>
                  </a:lnTo>
                  <a:lnTo>
                    <a:pt x="4639" y="1207"/>
                  </a:lnTo>
                  <a:lnTo>
                    <a:pt x="4633" y="1667"/>
                  </a:lnTo>
                  <a:lnTo>
                    <a:pt x="4626" y="2120"/>
                  </a:lnTo>
                  <a:lnTo>
                    <a:pt x="4619" y="2574"/>
                  </a:lnTo>
                  <a:lnTo>
                    <a:pt x="4613" y="3032"/>
                  </a:lnTo>
                  <a:lnTo>
                    <a:pt x="4610" y="3267"/>
                  </a:lnTo>
                  <a:lnTo>
                    <a:pt x="4608" y="3504"/>
                  </a:lnTo>
                  <a:lnTo>
                    <a:pt x="4607" y="3747"/>
                  </a:lnTo>
                  <a:lnTo>
                    <a:pt x="4607" y="3995"/>
                  </a:lnTo>
                  <a:lnTo>
                    <a:pt x="4554" y="3965"/>
                  </a:lnTo>
                  <a:lnTo>
                    <a:pt x="4493" y="3938"/>
                  </a:lnTo>
                  <a:lnTo>
                    <a:pt x="4423" y="3914"/>
                  </a:lnTo>
                  <a:lnTo>
                    <a:pt x="4345" y="3894"/>
                  </a:lnTo>
                  <a:lnTo>
                    <a:pt x="4259" y="3876"/>
                  </a:lnTo>
                  <a:lnTo>
                    <a:pt x="4167" y="3861"/>
                  </a:lnTo>
                  <a:lnTo>
                    <a:pt x="4067" y="3849"/>
                  </a:lnTo>
                  <a:lnTo>
                    <a:pt x="3962" y="3840"/>
                  </a:lnTo>
                  <a:lnTo>
                    <a:pt x="3850" y="3832"/>
                  </a:lnTo>
                  <a:lnTo>
                    <a:pt x="3734" y="3827"/>
                  </a:lnTo>
                  <a:lnTo>
                    <a:pt x="3611" y="3824"/>
                  </a:lnTo>
                  <a:lnTo>
                    <a:pt x="3484" y="3822"/>
                  </a:lnTo>
                  <a:lnTo>
                    <a:pt x="3354" y="3822"/>
                  </a:lnTo>
                  <a:lnTo>
                    <a:pt x="3219" y="3825"/>
                  </a:lnTo>
                  <a:lnTo>
                    <a:pt x="3080" y="3828"/>
                  </a:lnTo>
                  <a:lnTo>
                    <a:pt x="2939" y="3832"/>
                  </a:lnTo>
                  <a:lnTo>
                    <a:pt x="2796" y="3836"/>
                  </a:lnTo>
                  <a:lnTo>
                    <a:pt x="2649" y="3843"/>
                  </a:lnTo>
                  <a:lnTo>
                    <a:pt x="2502" y="3851"/>
                  </a:lnTo>
                  <a:lnTo>
                    <a:pt x="2353" y="3857"/>
                  </a:lnTo>
                  <a:lnTo>
                    <a:pt x="2053" y="3873"/>
                  </a:lnTo>
                  <a:lnTo>
                    <a:pt x="1753" y="3889"/>
                  </a:lnTo>
                  <a:lnTo>
                    <a:pt x="1455" y="3903"/>
                  </a:lnTo>
                  <a:lnTo>
                    <a:pt x="1164" y="3916"/>
                  </a:lnTo>
                  <a:lnTo>
                    <a:pt x="1023" y="3921"/>
                  </a:lnTo>
                  <a:lnTo>
                    <a:pt x="883" y="3925"/>
                  </a:lnTo>
                  <a:lnTo>
                    <a:pt x="747" y="3927"/>
                  </a:lnTo>
                  <a:lnTo>
                    <a:pt x="615" y="3928"/>
                  </a:lnTo>
                  <a:lnTo>
                    <a:pt x="595" y="3927"/>
                  </a:lnTo>
                  <a:lnTo>
                    <a:pt x="577" y="3924"/>
                  </a:lnTo>
                  <a:lnTo>
                    <a:pt x="562" y="3921"/>
                  </a:lnTo>
                  <a:lnTo>
                    <a:pt x="548" y="3914"/>
                  </a:lnTo>
                  <a:lnTo>
                    <a:pt x="536" y="3908"/>
                  </a:lnTo>
                  <a:lnTo>
                    <a:pt x="526" y="3900"/>
                  </a:lnTo>
                  <a:lnTo>
                    <a:pt x="517" y="3892"/>
                  </a:lnTo>
                  <a:lnTo>
                    <a:pt x="509" y="3883"/>
                  </a:lnTo>
                  <a:lnTo>
                    <a:pt x="482" y="3840"/>
                  </a:lnTo>
                  <a:lnTo>
                    <a:pt x="452" y="3795"/>
                  </a:lnTo>
                  <a:lnTo>
                    <a:pt x="441" y="3785"/>
                  </a:lnTo>
                  <a:lnTo>
                    <a:pt x="430" y="3775"/>
                  </a:lnTo>
                  <a:lnTo>
                    <a:pt x="418" y="3766"/>
                  </a:lnTo>
                  <a:lnTo>
                    <a:pt x="404" y="3758"/>
                  </a:lnTo>
                  <a:lnTo>
                    <a:pt x="386" y="3750"/>
                  </a:lnTo>
                  <a:lnTo>
                    <a:pt x="368" y="3744"/>
                  </a:lnTo>
                  <a:lnTo>
                    <a:pt x="346" y="3738"/>
                  </a:lnTo>
                  <a:lnTo>
                    <a:pt x="322" y="3734"/>
                  </a:lnTo>
                  <a:lnTo>
                    <a:pt x="295" y="3731"/>
                  </a:lnTo>
                  <a:lnTo>
                    <a:pt x="264" y="3730"/>
                  </a:lnTo>
                  <a:lnTo>
                    <a:pt x="230" y="3731"/>
                  </a:lnTo>
                  <a:lnTo>
                    <a:pt x="192" y="3733"/>
                  </a:lnTo>
                  <a:lnTo>
                    <a:pt x="150" y="3737"/>
                  </a:lnTo>
                  <a:lnTo>
                    <a:pt x="104" y="3745"/>
                  </a:lnTo>
                  <a:lnTo>
                    <a:pt x="55" y="3753"/>
                  </a:lnTo>
                  <a:lnTo>
                    <a:pt x="0" y="3764"/>
                  </a:lnTo>
                  <a:lnTo>
                    <a:pt x="115" y="51"/>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965840" y="1955520"/>
              <a:ext cx="65160" cy="274680"/>
            </a:xfrm>
            <a:custGeom>
              <a:avLst/>
              <a:gdLst/>
              <a:ahLst/>
              <a:rect l="l" t="t" r="r" b="b"/>
              <a:pathLst>
                <a:path w="609" h="2505">
                  <a:moveTo>
                    <a:pt x="600" y="2505"/>
                  </a:moveTo>
                  <a:lnTo>
                    <a:pt x="0" y="2505"/>
                  </a:lnTo>
                  <a:lnTo>
                    <a:pt x="0" y="2311"/>
                  </a:lnTo>
                  <a:lnTo>
                    <a:pt x="0" y="2284"/>
                  </a:lnTo>
                  <a:lnTo>
                    <a:pt x="1" y="2260"/>
                  </a:lnTo>
                  <a:lnTo>
                    <a:pt x="1" y="2239"/>
                  </a:lnTo>
                  <a:lnTo>
                    <a:pt x="2" y="2219"/>
                  </a:lnTo>
                  <a:lnTo>
                    <a:pt x="3" y="2203"/>
                  </a:lnTo>
                  <a:lnTo>
                    <a:pt x="5" y="2188"/>
                  </a:lnTo>
                  <a:lnTo>
                    <a:pt x="6" y="2176"/>
                  </a:lnTo>
                  <a:lnTo>
                    <a:pt x="8" y="2166"/>
                  </a:lnTo>
                  <a:lnTo>
                    <a:pt x="13" y="2153"/>
                  </a:lnTo>
                  <a:lnTo>
                    <a:pt x="18" y="2141"/>
                  </a:lnTo>
                  <a:lnTo>
                    <a:pt x="24" y="2130"/>
                  </a:lnTo>
                  <a:lnTo>
                    <a:pt x="30" y="2119"/>
                  </a:lnTo>
                  <a:lnTo>
                    <a:pt x="39" y="2108"/>
                  </a:lnTo>
                  <a:lnTo>
                    <a:pt x="47" y="2098"/>
                  </a:lnTo>
                  <a:lnTo>
                    <a:pt x="57" y="2089"/>
                  </a:lnTo>
                  <a:lnTo>
                    <a:pt x="68" y="2080"/>
                  </a:lnTo>
                  <a:lnTo>
                    <a:pt x="80" y="2071"/>
                  </a:lnTo>
                  <a:lnTo>
                    <a:pt x="91" y="2065"/>
                  </a:lnTo>
                  <a:lnTo>
                    <a:pt x="105" y="2058"/>
                  </a:lnTo>
                  <a:lnTo>
                    <a:pt x="119" y="2054"/>
                  </a:lnTo>
                  <a:lnTo>
                    <a:pt x="134" y="2050"/>
                  </a:lnTo>
                  <a:lnTo>
                    <a:pt x="151" y="2048"/>
                  </a:lnTo>
                  <a:lnTo>
                    <a:pt x="167" y="2045"/>
                  </a:lnTo>
                  <a:lnTo>
                    <a:pt x="184" y="2045"/>
                  </a:lnTo>
                  <a:lnTo>
                    <a:pt x="198" y="2045"/>
                  </a:lnTo>
                  <a:lnTo>
                    <a:pt x="211" y="2047"/>
                  </a:lnTo>
                  <a:lnTo>
                    <a:pt x="224" y="2048"/>
                  </a:lnTo>
                  <a:lnTo>
                    <a:pt x="236" y="2050"/>
                  </a:lnTo>
                  <a:lnTo>
                    <a:pt x="246" y="2053"/>
                  </a:lnTo>
                  <a:lnTo>
                    <a:pt x="257" y="2056"/>
                  </a:lnTo>
                  <a:lnTo>
                    <a:pt x="268" y="2061"/>
                  </a:lnTo>
                  <a:lnTo>
                    <a:pt x="278" y="2065"/>
                  </a:lnTo>
                  <a:lnTo>
                    <a:pt x="286" y="2070"/>
                  </a:lnTo>
                  <a:lnTo>
                    <a:pt x="295" y="2076"/>
                  </a:lnTo>
                  <a:lnTo>
                    <a:pt x="303" y="2082"/>
                  </a:lnTo>
                  <a:lnTo>
                    <a:pt x="311" y="2088"/>
                  </a:lnTo>
                  <a:lnTo>
                    <a:pt x="317" y="2094"/>
                  </a:lnTo>
                  <a:lnTo>
                    <a:pt x="325" y="2102"/>
                  </a:lnTo>
                  <a:lnTo>
                    <a:pt x="330" y="2109"/>
                  </a:lnTo>
                  <a:lnTo>
                    <a:pt x="337" y="2117"/>
                  </a:lnTo>
                  <a:lnTo>
                    <a:pt x="341" y="2124"/>
                  </a:lnTo>
                  <a:lnTo>
                    <a:pt x="347" y="2132"/>
                  </a:lnTo>
                  <a:lnTo>
                    <a:pt x="351" y="2139"/>
                  </a:lnTo>
                  <a:lnTo>
                    <a:pt x="354" y="2147"/>
                  </a:lnTo>
                  <a:lnTo>
                    <a:pt x="357" y="2156"/>
                  </a:lnTo>
                  <a:lnTo>
                    <a:pt x="361" y="2163"/>
                  </a:lnTo>
                  <a:lnTo>
                    <a:pt x="363" y="2171"/>
                  </a:lnTo>
                  <a:lnTo>
                    <a:pt x="365" y="2179"/>
                  </a:lnTo>
                  <a:lnTo>
                    <a:pt x="367" y="2190"/>
                  </a:lnTo>
                  <a:lnTo>
                    <a:pt x="368" y="2203"/>
                  </a:lnTo>
                  <a:lnTo>
                    <a:pt x="370" y="2217"/>
                  </a:lnTo>
                  <a:lnTo>
                    <a:pt x="371" y="2232"/>
                  </a:lnTo>
                  <a:lnTo>
                    <a:pt x="372" y="2248"/>
                  </a:lnTo>
                  <a:lnTo>
                    <a:pt x="372" y="2267"/>
                  </a:lnTo>
                  <a:lnTo>
                    <a:pt x="373" y="2285"/>
                  </a:lnTo>
                  <a:lnTo>
                    <a:pt x="373" y="2306"/>
                  </a:lnTo>
                  <a:lnTo>
                    <a:pt x="373" y="2384"/>
                  </a:lnTo>
                  <a:lnTo>
                    <a:pt x="600" y="2384"/>
                  </a:lnTo>
                  <a:lnTo>
                    <a:pt x="600" y="2505"/>
                  </a:lnTo>
                  <a:close/>
                  <a:moveTo>
                    <a:pt x="101" y="2384"/>
                  </a:moveTo>
                  <a:lnTo>
                    <a:pt x="271" y="2384"/>
                  </a:lnTo>
                  <a:lnTo>
                    <a:pt x="271" y="2317"/>
                  </a:lnTo>
                  <a:lnTo>
                    <a:pt x="271" y="2300"/>
                  </a:lnTo>
                  <a:lnTo>
                    <a:pt x="271" y="2285"/>
                  </a:lnTo>
                  <a:lnTo>
                    <a:pt x="270" y="2271"/>
                  </a:lnTo>
                  <a:lnTo>
                    <a:pt x="269" y="2258"/>
                  </a:lnTo>
                  <a:lnTo>
                    <a:pt x="268" y="2246"/>
                  </a:lnTo>
                  <a:lnTo>
                    <a:pt x="266" y="2236"/>
                  </a:lnTo>
                  <a:lnTo>
                    <a:pt x="265" y="2229"/>
                  </a:lnTo>
                  <a:lnTo>
                    <a:pt x="263" y="2221"/>
                  </a:lnTo>
                  <a:lnTo>
                    <a:pt x="259" y="2216"/>
                  </a:lnTo>
                  <a:lnTo>
                    <a:pt x="257" y="2211"/>
                  </a:lnTo>
                  <a:lnTo>
                    <a:pt x="254" y="2205"/>
                  </a:lnTo>
                  <a:lnTo>
                    <a:pt x="250" y="2200"/>
                  </a:lnTo>
                  <a:lnTo>
                    <a:pt x="246" y="2195"/>
                  </a:lnTo>
                  <a:lnTo>
                    <a:pt x="242" y="2191"/>
                  </a:lnTo>
                  <a:lnTo>
                    <a:pt x="238" y="2188"/>
                  </a:lnTo>
                  <a:lnTo>
                    <a:pt x="232" y="2184"/>
                  </a:lnTo>
                  <a:lnTo>
                    <a:pt x="227" y="2180"/>
                  </a:lnTo>
                  <a:lnTo>
                    <a:pt x="223" y="2178"/>
                  </a:lnTo>
                  <a:lnTo>
                    <a:pt x="216" y="2176"/>
                  </a:lnTo>
                  <a:lnTo>
                    <a:pt x="211" y="2174"/>
                  </a:lnTo>
                  <a:lnTo>
                    <a:pt x="205" y="2172"/>
                  </a:lnTo>
                  <a:lnTo>
                    <a:pt x="199" y="2171"/>
                  </a:lnTo>
                  <a:lnTo>
                    <a:pt x="193" y="2171"/>
                  </a:lnTo>
                  <a:lnTo>
                    <a:pt x="186" y="2171"/>
                  </a:lnTo>
                  <a:lnTo>
                    <a:pt x="177" y="2171"/>
                  </a:lnTo>
                  <a:lnTo>
                    <a:pt x="170" y="2172"/>
                  </a:lnTo>
                  <a:lnTo>
                    <a:pt x="163" y="2173"/>
                  </a:lnTo>
                  <a:lnTo>
                    <a:pt x="156" y="2175"/>
                  </a:lnTo>
                  <a:lnTo>
                    <a:pt x="149" y="2178"/>
                  </a:lnTo>
                  <a:lnTo>
                    <a:pt x="143" y="2181"/>
                  </a:lnTo>
                  <a:lnTo>
                    <a:pt x="138" y="2185"/>
                  </a:lnTo>
                  <a:lnTo>
                    <a:pt x="132" y="2189"/>
                  </a:lnTo>
                  <a:lnTo>
                    <a:pt x="127" y="2194"/>
                  </a:lnTo>
                  <a:lnTo>
                    <a:pt x="123" y="2200"/>
                  </a:lnTo>
                  <a:lnTo>
                    <a:pt x="118" y="2205"/>
                  </a:lnTo>
                  <a:lnTo>
                    <a:pt x="115" y="2212"/>
                  </a:lnTo>
                  <a:lnTo>
                    <a:pt x="112" y="2217"/>
                  </a:lnTo>
                  <a:lnTo>
                    <a:pt x="109" y="2225"/>
                  </a:lnTo>
                  <a:lnTo>
                    <a:pt x="107" y="2231"/>
                  </a:lnTo>
                  <a:lnTo>
                    <a:pt x="105" y="2239"/>
                  </a:lnTo>
                  <a:lnTo>
                    <a:pt x="104" y="2244"/>
                  </a:lnTo>
                  <a:lnTo>
                    <a:pt x="103" y="2252"/>
                  </a:lnTo>
                  <a:lnTo>
                    <a:pt x="103" y="2260"/>
                  </a:lnTo>
                  <a:lnTo>
                    <a:pt x="102" y="2271"/>
                  </a:lnTo>
                  <a:lnTo>
                    <a:pt x="102" y="2283"/>
                  </a:lnTo>
                  <a:lnTo>
                    <a:pt x="102" y="2296"/>
                  </a:lnTo>
                  <a:lnTo>
                    <a:pt x="101" y="2310"/>
                  </a:lnTo>
                  <a:lnTo>
                    <a:pt x="101" y="2325"/>
                  </a:lnTo>
                  <a:lnTo>
                    <a:pt x="101" y="2384"/>
                  </a:lnTo>
                  <a:close/>
                  <a:moveTo>
                    <a:pt x="600" y="1946"/>
                  </a:moveTo>
                  <a:lnTo>
                    <a:pt x="0" y="1946"/>
                  </a:lnTo>
                  <a:lnTo>
                    <a:pt x="0" y="1831"/>
                  </a:lnTo>
                  <a:lnTo>
                    <a:pt x="600" y="1831"/>
                  </a:lnTo>
                  <a:lnTo>
                    <a:pt x="600" y="1946"/>
                  </a:lnTo>
                  <a:close/>
                  <a:moveTo>
                    <a:pt x="298" y="1627"/>
                  </a:moveTo>
                  <a:lnTo>
                    <a:pt x="279" y="1731"/>
                  </a:lnTo>
                  <a:lnTo>
                    <a:pt x="264" y="1726"/>
                  </a:lnTo>
                  <a:lnTo>
                    <a:pt x="250" y="1721"/>
                  </a:lnTo>
                  <a:lnTo>
                    <a:pt x="237" y="1714"/>
                  </a:lnTo>
                  <a:lnTo>
                    <a:pt x="224" y="1708"/>
                  </a:lnTo>
                  <a:lnTo>
                    <a:pt x="213" y="1699"/>
                  </a:lnTo>
                  <a:lnTo>
                    <a:pt x="202" y="1690"/>
                  </a:lnTo>
                  <a:lnTo>
                    <a:pt x="194" y="1681"/>
                  </a:lnTo>
                  <a:lnTo>
                    <a:pt x="186" y="1671"/>
                  </a:lnTo>
                  <a:lnTo>
                    <a:pt x="179" y="1659"/>
                  </a:lnTo>
                  <a:lnTo>
                    <a:pt x="172" y="1646"/>
                  </a:lnTo>
                  <a:lnTo>
                    <a:pt x="167" y="1632"/>
                  </a:lnTo>
                  <a:lnTo>
                    <a:pt x="162" y="1617"/>
                  </a:lnTo>
                  <a:lnTo>
                    <a:pt x="159" y="1601"/>
                  </a:lnTo>
                  <a:lnTo>
                    <a:pt x="157" y="1582"/>
                  </a:lnTo>
                  <a:lnTo>
                    <a:pt x="156" y="1563"/>
                  </a:lnTo>
                  <a:lnTo>
                    <a:pt x="155" y="1543"/>
                  </a:lnTo>
                  <a:lnTo>
                    <a:pt x="156" y="1524"/>
                  </a:lnTo>
                  <a:lnTo>
                    <a:pt x="156" y="1507"/>
                  </a:lnTo>
                  <a:lnTo>
                    <a:pt x="158" y="1491"/>
                  </a:lnTo>
                  <a:lnTo>
                    <a:pt x="160" y="1476"/>
                  </a:lnTo>
                  <a:lnTo>
                    <a:pt x="162" y="1462"/>
                  </a:lnTo>
                  <a:lnTo>
                    <a:pt x="166" y="1450"/>
                  </a:lnTo>
                  <a:lnTo>
                    <a:pt x="169" y="1438"/>
                  </a:lnTo>
                  <a:lnTo>
                    <a:pt x="173" y="1428"/>
                  </a:lnTo>
                  <a:lnTo>
                    <a:pt x="179" y="1418"/>
                  </a:lnTo>
                  <a:lnTo>
                    <a:pt x="183" y="1411"/>
                  </a:lnTo>
                  <a:lnTo>
                    <a:pt x="188" y="1402"/>
                  </a:lnTo>
                  <a:lnTo>
                    <a:pt x="195" y="1396"/>
                  </a:lnTo>
                  <a:lnTo>
                    <a:pt x="200" y="1389"/>
                  </a:lnTo>
                  <a:lnTo>
                    <a:pt x="207" y="1384"/>
                  </a:lnTo>
                  <a:lnTo>
                    <a:pt x="213" y="1378"/>
                  </a:lnTo>
                  <a:lnTo>
                    <a:pt x="219" y="1375"/>
                  </a:lnTo>
                  <a:lnTo>
                    <a:pt x="227" y="1371"/>
                  </a:lnTo>
                  <a:lnTo>
                    <a:pt x="237" y="1368"/>
                  </a:lnTo>
                  <a:lnTo>
                    <a:pt x="247" y="1366"/>
                  </a:lnTo>
                  <a:lnTo>
                    <a:pt x="259" y="1363"/>
                  </a:lnTo>
                  <a:lnTo>
                    <a:pt x="273" y="1361"/>
                  </a:lnTo>
                  <a:lnTo>
                    <a:pt x="288" y="1360"/>
                  </a:lnTo>
                  <a:lnTo>
                    <a:pt x="305" y="1360"/>
                  </a:lnTo>
                  <a:lnTo>
                    <a:pt x="323" y="1359"/>
                  </a:lnTo>
                  <a:lnTo>
                    <a:pt x="457" y="1360"/>
                  </a:lnTo>
                  <a:lnTo>
                    <a:pt x="470" y="1360"/>
                  </a:lnTo>
                  <a:lnTo>
                    <a:pt x="483" y="1360"/>
                  </a:lnTo>
                  <a:lnTo>
                    <a:pt x="495" y="1360"/>
                  </a:lnTo>
                  <a:lnTo>
                    <a:pt x="507" y="1359"/>
                  </a:lnTo>
                  <a:lnTo>
                    <a:pt x="517" y="1358"/>
                  </a:lnTo>
                  <a:lnTo>
                    <a:pt x="526" y="1358"/>
                  </a:lnTo>
                  <a:lnTo>
                    <a:pt x="534" y="1357"/>
                  </a:lnTo>
                  <a:lnTo>
                    <a:pt x="541" y="1355"/>
                  </a:lnTo>
                  <a:lnTo>
                    <a:pt x="548" y="1354"/>
                  </a:lnTo>
                  <a:lnTo>
                    <a:pt x="555" y="1351"/>
                  </a:lnTo>
                  <a:lnTo>
                    <a:pt x="562" y="1349"/>
                  </a:lnTo>
                  <a:lnTo>
                    <a:pt x="569" y="1347"/>
                  </a:lnTo>
                  <a:lnTo>
                    <a:pt x="577" y="1344"/>
                  </a:lnTo>
                  <a:lnTo>
                    <a:pt x="584" y="1342"/>
                  </a:lnTo>
                  <a:lnTo>
                    <a:pt x="592" y="1337"/>
                  </a:lnTo>
                  <a:lnTo>
                    <a:pt x="600" y="1334"/>
                  </a:lnTo>
                  <a:lnTo>
                    <a:pt x="600" y="1449"/>
                  </a:lnTo>
                  <a:lnTo>
                    <a:pt x="596" y="1450"/>
                  </a:lnTo>
                  <a:lnTo>
                    <a:pt x="593" y="1451"/>
                  </a:lnTo>
                  <a:lnTo>
                    <a:pt x="590" y="1452"/>
                  </a:lnTo>
                  <a:lnTo>
                    <a:pt x="586" y="1453"/>
                  </a:lnTo>
                  <a:lnTo>
                    <a:pt x="581" y="1455"/>
                  </a:lnTo>
                  <a:lnTo>
                    <a:pt x="576" y="1456"/>
                  </a:lnTo>
                  <a:lnTo>
                    <a:pt x="572" y="1458"/>
                  </a:lnTo>
                  <a:lnTo>
                    <a:pt x="566" y="1459"/>
                  </a:lnTo>
                  <a:lnTo>
                    <a:pt x="563" y="1460"/>
                  </a:lnTo>
                  <a:lnTo>
                    <a:pt x="561" y="1460"/>
                  </a:lnTo>
                  <a:lnTo>
                    <a:pt x="559" y="1462"/>
                  </a:lnTo>
                  <a:lnTo>
                    <a:pt x="558" y="1462"/>
                  </a:lnTo>
                  <a:lnTo>
                    <a:pt x="555" y="1463"/>
                  </a:lnTo>
                  <a:lnTo>
                    <a:pt x="554" y="1463"/>
                  </a:lnTo>
                  <a:lnTo>
                    <a:pt x="553" y="1464"/>
                  </a:lnTo>
                  <a:lnTo>
                    <a:pt x="552" y="1464"/>
                  </a:lnTo>
                  <a:lnTo>
                    <a:pt x="559" y="1471"/>
                  </a:lnTo>
                  <a:lnTo>
                    <a:pt x="565" y="1479"/>
                  </a:lnTo>
                  <a:lnTo>
                    <a:pt x="572" y="1486"/>
                  </a:lnTo>
                  <a:lnTo>
                    <a:pt x="577" y="1494"/>
                  </a:lnTo>
                  <a:lnTo>
                    <a:pt x="582" y="1503"/>
                  </a:lnTo>
                  <a:lnTo>
                    <a:pt x="587" y="1510"/>
                  </a:lnTo>
                  <a:lnTo>
                    <a:pt x="591" y="1519"/>
                  </a:lnTo>
                  <a:lnTo>
                    <a:pt x="595" y="1526"/>
                  </a:lnTo>
                  <a:lnTo>
                    <a:pt x="598" y="1535"/>
                  </a:lnTo>
                  <a:lnTo>
                    <a:pt x="602" y="1544"/>
                  </a:lnTo>
                  <a:lnTo>
                    <a:pt x="604" y="1552"/>
                  </a:lnTo>
                  <a:lnTo>
                    <a:pt x="606" y="1562"/>
                  </a:lnTo>
                  <a:lnTo>
                    <a:pt x="607" y="1571"/>
                  </a:lnTo>
                  <a:lnTo>
                    <a:pt x="608" y="1579"/>
                  </a:lnTo>
                  <a:lnTo>
                    <a:pt x="609" y="1589"/>
                  </a:lnTo>
                  <a:lnTo>
                    <a:pt x="609" y="1599"/>
                  </a:lnTo>
                  <a:lnTo>
                    <a:pt x="609" y="1615"/>
                  </a:lnTo>
                  <a:lnTo>
                    <a:pt x="607" y="1630"/>
                  </a:lnTo>
                  <a:lnTo>
                    <a:pt x="604" y="1645"/>
                  </a:lnTo>
                  <a:lnTo>
                    <a:pt x="601" y="1659"/>
                  </a:lnTo>
                  <a:lnTo>
                    <a:pt x="595" y="1671"/>
                  </a:lnTo>
                  <a:lnTo>
                    <a:pt x="589" y="1683"/>
                  </a:lnTo>
                  <a:lnTo>
                    <a:pt x="581" y="1695"/>
                  </a:lnTo>
                  <a:lnTo>
                    <a:pt x="573" y="1704"/>
                  </a:lnTo>
                  <a:lnTo>
                    <a:pt x="564" y="1713"/>
                  </a:lnTo>
                  <a:lnTo>
                    <a:pt x="553" y="1722"/>
                  </a:lnTo>
                  <a:lnTo>
                    <a:pt x="544" y="1728"/>
                  </a:lnTo>
                  <a:lnTo>
                    <a:pt x="532" y="1734"/>
                  </a:lnTo>
                  <a:lnTo>
                    <a:pt x="520" y="1738"/>
                  </a:lnTo>
                  <a:lnTo>
                    <a:pt x="508" y="1741"/>
                  </a:lnTo>
                  <a:lnTo>
                    <a:pt x="494" y="1742"/>
                  </a:lnTo>
                  <a:lnTo>
                    <a:pt x="481" y="1743"/>
                  </a:lnTo>
                  <a:lnTo>
                    <a:pt x="471" y="1743"/>
                  </a:lnTo>
                  <a:lnTo>
                    <a:pt x="463" y="1742"/>
                  </a:lnTo>
                  <a:lnTo>
                    <a:pt x="454" y="1741"/>
                  </a:lnTo>
                  <a:lnTo>
                    <a:pt x="447" y="1739"/>
                  </a:lnTo>
                  <a:lnTo>
                    <a:pt x="438" y="1737"/>
                  </a:lnTo>
                  <a:lnTo>
                    <a:pt x="431" y="1734"/>
                  </a:lnTo>
                  <a:lnTo>
                    <a:pt x="423" y="1729"/>
                  </a:lnTo>
                  <a:lnTo>
                    <a:pt x="415" y="1726"/>
                  </a:lnTo>
                  <a:lnTo>
                    <a:pt x="408" y="1721"/>
                  </a:lnTo>
                  <a:lnTo>
                    <a:pt x="401" y="1716"/>
                  </a:lnTo>
                  <a:lnTo>
                    <a:pt x="395" y="1711"/>
                  </a:lnTo>
                  <a:lnTo>
                    <a:pt x="390" y="1704"/>
                  </a:lnTo>
                  <a:lnTo>
                    <a:pt x="384" y="1698"/>
                  </a:lnTo>
                  <a:lnTo>
                    <a:pt x="380" y="1691"/>
                  </a:lnTo>
                  <a:lnTo>
                    <a:pt x="376" y="1684"/>
                  </a:lnTo>
                  <a:lnTo>
                    <a:pt x="371" y="1676"/>
                  </a:lnTo>
                  <a:lnTo>
                    <a:pt x="367" y="1668"/>
                  </a:lnTo>
                  <a:lnTo>
                    <a:pt x="364" y="1659"/>
                  </a:lnTo>
                  <a:lnTo>
                    <a:pt x="361" y="1648"/>
                  </a:lnTo>
                  <a:lnTo>
                    <a:pt x="357" y="1637"/>
                  </a:lnTo>
                  <a:lnTo>
                    <a:pt x="353" y="1626"/>
                  </a:lnTo>
                  <a:lnTo>
                    <a:pt x="351" y="1613"/>
                  </a:lnTo>
                  <a:lnTo>
                    <a:pt x="348" y="1599"/>
                  </a:lnTo>
                  <a:lnTo>
                    <a:pt x="344" y="1585"/>
                  </a:lnTo>
                  <a:lnTo>
                    <a:pt x="340" y="1565"/>
                  </a:lnTo>
                  <a:lnTo>
                    <a:pt x="337" y="1547"/>
                  </a:lnTo>
                  <a:lnTo>
                    <a:pt x="334" y="1531"/>
                  </a:lnTo>
                  <a:lnTo>
                    <a:pt x="329" y="1517"/>
                  </a:lnTo>
                  <a:lnTo>
                    <a:pt x="326" y="1503"/>
                  </a:lnTo>
                  <a:lnTo>
                    <a:pt x="323" y="1492"/>
                  </a:lnTo>
                  <a:lnTo>
                    <a:pt x="320" y="1481"/>
                  </a:lnTo>
                  <a:lnTo>
                    <a:pt x="316" y="1472"/>
                  </a:lnTo>
                  <a:lnTo>
                    <a:pt x="305" y="1472"/>
                  </a:lnTo>
                  <a:lnTo>
                    <a:pt x="297" y="1472"/>
                  </a:lnTo>
                  <a:lnTo>
                    <a:pt x="289" y="1473"/>
                  </a:lnTo>
                  <a:lnTo>
                    <a:pt x="282" y="1475"/>
                  </a:lnTo>
                  <a:lnTo>
                    <a:pt x="277" y="1477"/>
                  </a:lnTo>
                  <a:lnTo>
                    <a:pt x="270" y="1479"/>
                  </a:lnTo>
                  <a:lnTo>
                    <a:pt x="266" y="1482"/>
                  </a:lnTo>
                  <a:lnTo>
                    <a:pt x="261" y="1485"/>
                  </a:lnTo>
                  <a:lnTo>
                    <a:pt x="257" y="1489"/>
                  </a:lnTo>
                  <a:lnTo>
                    <a:pt x="254" y="1494"/>
                  </a:lnTo>
                  <a:lnTo>
                    <a:pt x="251" y="1499"/>
                  </a:lnTo>
                  <a:lnTo>
                    <a:pt x="249" y="1506"/>
                  </a:lnTo>
                  <a:lnTo>
                    <a:pt x="246" y="1512"/>
                  </a:lnTo>
                  <a:lnTo>
                    <a:pt x="245" y="1521"/>
                  </a:lnTo>
                  <a:lnTo>
                    <a:pt x="244" y="1530"/>
                  </a:lnTo>
                  <a:lnTo>
                    <a:pt x="243" y="1540"/>
                  </a:lnTo>
                  <a:lnTo>
                    <a:pt x="243" y="1551"/>
                  </a:lnTo>
                  <a:lnTo>
                    <a:pt x="243" y="1559"/>
                  </a:lnTo>
                  <a:lnTo>
                    <a:pt x="244" y="1565"/>
                  </a:lnTo>
                  <a:lnTo>
                    <a:pt x="245" y="1572"/>
                  </a:lnTo>
                  <a:lnTo>
                    <a:pt x="246" y="1578"/>
                  </a:lnTo>
                  <a:lnTo>
                    <a:pt x="247" y="1585"/>
                  </a:lnTo>
                  <a:lnTo>
                    <a:pt x="250" y="1589"/>
                  </a:lnTo>
                  <a:lnTo>
                    <a:pt x="253" y="1594"/>
                  </a:lnTo>
                  <a:lnTo>
                    <a:pt x="255" y="1599"/>
                  </a:lnTo>
                  <a:lnTo>
                    <a:pt x="258" y="1603"/>
                  </a:lnTo>
                  <a:lnTo>
                    <a:pt x="263" y="1607"/>
                  </a:lnTo>
                  <a:lnTo>
                    <a:pt x="267" y="1610"/>
                  </a:lnTo>
                  <a:lnTo>
                    <a:pt x="272" y="1615"/>
                  </a:lnTo>
                  <a:lnTo>
                    <a:pt x="278" y="1618"/>
                  </a:lnTo>
                  <a:lnTo>
                    <a:pt x="284" y="1621"/>
                  </a:lnTo>
                  <a:lnTo>
                    <a:pt x="291" y="1623"/>
                  </a:lnTo>
                  <a:lnTo>
                    <a:pt x="298" y="1627"/>
                  </a:lnTo>
                  <a:close/>
                  <a:moveTo>
                    <a:pt x="391" y="1472"/>
                  </a:moveTo>
                  <a:lnTo>
                    <a:pt x="393" y="1479"/>
                  </a:lnTo>
                  <a:lnTo>
                    <a:pt x="395" y="1485"/>
                  </a:lnTo>
                  <a:lnTo>
                    <a:pt x="397" y="1493"/>
                  </a:lnTo>
                  <a:lnTo>
                    <a:pt x="399" y="1501"/>
                  </a:lnTo>
                  <a:lnTo>
                    <a:pt x="401" y="1510"/>
                  </a:lnTo>
                  <a:lnTo>
                    <a:pt x="404" y="1520"/>
                  </a:lnTo>
                  <a:lnTo>
                    <a:pt x="406" y="1531"/>
                  </a:lnTo>
                  <a:lnTo>
                    <a:pt x="409" y="1543"/>
                  </a:lnTo>
                  <a:lnTo>
                    <a:pt x="411" y="1554"/>
                  </a:lnTo>
                  <a:lnTo>
                    <a:pt x="413" y="1564"/>
                  </a:lnTo>
                  <a:lnTo>
                    <a:pt x="417" y="1574"/>
                  </a:lnTo>
                  <a:lnTo>
                    <a:pt x="419" y="1582"/>
                  </a:lnTo>
                  <a:lnTo>
                    <a:pt x="421" y="1590"/>
                  </a:lnTo>
                  <a:lnTo>
                    <a:pt x="424" y="1596"/>
                  </a:lnTo>
                  <a:lnTo>
                    <a:pt x="426" y="1601"/>
                  </a:lnTo>
                  <a:lnTo>
                    <a:pt x="428" y="1605"/>
                  </a:lnTo>
                  <a:lnTo>
                    <a:pt x="433" y="1610"/>
                  </a:lnTo>
                  <a:lnTo>
                    <a:pt x="437" y="1615"/>
                  </a:lnTo>
                  <a:lnTo>
                    <a:pt x="441" y="1619"/>
                  </a:lnTo>
                  <a:lnTo>
                    <a:pt x="447" y="1622"/>
                  </a:lnTo>
                  <a:lnTo>
                    <a:pt x="452" y="1625"/>
                  </a:lnTo>
                  <a:lnTo>
                    <a:pt x="457" y="1627"/>
                  </a:lnTo>
                  <a:lnTo>
                    <a:pt x="463" y="1628"/>
                  </a:lnTo>
                  <a:lnTo>
                    <a:pt x="469" y="1628"/>
                  </a:lnTo>
                  <a:lnTo>
                    <a:pt x="475" y="1628"/>
                  </a:lnTo>
                  <a:lnTo>
                    <a:pt x="481" y="1627"/>
                  </a:lnTo>
                  <a:lnTo>
                    <a:pt x="486" y="1626"/>
                  </a:lnTo>
                  <a:lnTo>
                    <a:pt x="492" y="1623"/>
                  </a:lnTo>
                  <a:lnTo>
                    <a:pt x="496" y="1621"/>
                  </a:lnTo>
                  <a:lnTo>
                    <a:pt x="502" y="1618"/>
                  </a:lnTo>
                  <a:lnTo>
                    <a:pt x="506" y="1614"/>
                  </a:lnTo>
                  <a:lnTo>
                    <a:pt x="511" y="1609"/>
                  </a:lnTo>
                  <a:lnTo>
                    <a:pt x="514" y="1605"/>
                  </a:lnTo>
                  <a:lnTo>
                    <a:pt x="519" y="1601"/>
                  </a:lnTo>
                  <a:lnTo>
                    <a:pt x="522" y="1595"/>
                  </a:lnTo>
                  <a:lnTo>
                    <a:pt x="524" y="1589"/>
                  </a:lnTo>
                  <a:lnTo>
                    <a:pt x="526" y="1584"/>
                  </a:lnTo>
                  <a:lnTo>
                    <a:pt x="527" y="1577"/>
                  </a:lnTo>
                  <a:lnTo>
                    <a:pt x="528" y="1571"/>
                  </a:lnTo>
                  <a:lnTo>
                    <a:pt x="528" y="1564"/>
                  </a:lnTo>
                  <a:lnTo>
                    <a:pt x="528" y="1557"/>
                  </a:lnTo>
                  <a:lnTo>
                    <a:pt x="527" y="1549"/>
                  </a:lnTo>
                  <a:lnTo>
                    <a:pt x="525" y="1541"/>
                  </a:lnTo>
                  <a:lnTo>
                    <a:pt x="523" y="1534"/>
                  </a:lnTo>
                  <a:lnTo>
                    <a:pt x="520" y="1526"/>
                  </a:lnTo>
                  <a:lnTo>
                    <a:pt x="517" y="1519"/>
                  </a:lnTo>
                  <a:lnTo>
                    <a:pt x="512" y="1511"/>
                  </a:lnTo>
                  <a:lnTo>
                    <a:pt x="508" y="1505"/>
                  </a:lnTo>
                  <a:lnTo>
                    <a:pt x="504" y="1499"/>
                  </a:lnTo>
                  <a:lnTo>
                    <a:pt x="499" y="1495"/>
                  </a:lnTo>
                  <a:lnTo>
                    <a:pt x="495" y="1491"/>
                  </a:lnTo>
                  <a:lnTo>
                    <a:pt x="491" y="1487"/>
                  </a:lnTo>
                  <a:lnTo>
                    <a:pt x="485" y="1484"/>
                  </a:lnTo>
                  <a:lnTo>
                    <a:pt x="481" y="1481"/>
                  </a:lnTo>
                  <a:lnTo>
                    <a:pt x="476" y="1479"/>
                  </a:lnTo>
                  <a:lnTo>
                    <a:pt x="470" y="1477"/>
                  </a:lnTo>
                  <a:lnTo>
                    <a:pt x="466" y="1476"/>
                  </a:lnTo>
                  <a:lnTo>
                    <a:pt x="461" y="1476"/>
                  </a:lnTo>
                  <a:lnTo>
                    <a:pt x="455" y="1475"/>
                  </a:lnTo>
                  <a:lnTo>
                    <a:pt x="449" y="1473"/>
                  </a:lnTo>
                  <a:lnTo>
                    <a:pt x="441" y="1473"/>
                  </a:lnTo>
                  <a:lnTo>
                    <a:pt x="433" y="1472"/>
                  </a:lnTo>
                  <a:lnTo>
                    <a:pt x="424" y="1472"/>
                  </a:lnTo>
                  <a:lnTo>
                    <a:pt x="414" y="1472"/>
                  </a:lnTo>
                  <a:lnTo>
                    <a:pt x="391" y="1472"/>
                  </a:lnTo>
                  <a:close/>
                  <a:moveTo>
                    <a:pt x="600" y="850"/>
                  </a:moveTo>
                  <a:lnTo>
                    <a:pt x="600" y="965"/>
                  </a:lnTo>
                  <a:lnTo>
                    <a:pt x="378" y="965"/>
                  </a:lnTo>
                  <a:lnTo>
                    <a:pt x="361" y="965"/>
                  </a:lnTo>
                  <a:lnTo>
                    <a:pt x="345" y="965"/>
                  </a:lnTo>
                  <a:lnTo>
                    <a:pt x="333" y="966"/>
                  </a:lnTo>
                  <a:lnTo>
                    <a:pt x="320" y="966"/>
                  </a:lnTo>
                  <a:lnTo>
                    <a:pt x="309" y="967"/>
                  </a:lnTo>
                  <a:lnTo>
                    <a:pt x="300" y="969"/>
                  </a:lnTo>
                  <a:lnTo>
                    <a:pt x="293" y="970"/>
                  </a:lnTo>
                  <a:lnTo>
                    <a:pt x="287" y="973"/>
                  </a:lnTo>
                  <a:lnTo>
                    <a:pt x="282" y="974"/>
                  </a:lnTo>
                  <a:lnTo>
                    <a:pt x="278" y="977"/>
                  </a:lnTo>
                  <a:lnTo>
                    <a:pt x="272" y="979"/>
                  </a:lnTo>
                  <a:lnTo>
                    <a:pt x="269" y="982"/>
                  </a:lnTo>
                  <a:lnTo>
                    <a:pt x="265" y="986"/>
                  </a:lnTo>
                  <a:lnTo>
                    <a:pt x="261" y="989"/>
                  </a:lnTo>
                  <a:lnTo>
                    <a:pt x="257" y="992"/>
                  </a:lnTo>
                  <a:lnTo>
                    <a:pt x="255" y="996"/>
                  </a:lnTo>
                  <a:lnTo>
                    <a:pt x="252" y="1001"/>
                  </a:lnTo>
                  <a:lnTo>
                    <a:pt x="250" y="1005"/>
                  </a:lnTo>
                  <a:lnTo>
                    <a:pt x="247" y="1009"/>
                  </a:lnTo>
                  <a:lnTo>
                    <a:pt x="246" y="1015"/>
                  </a:lnTo>
                  <a:lnTo>
                    <a:pt x="245" y="1020"/>
                  </a:lnTo>
                  <a:lnTo>
                    <a:pt x="244" y="1024"/>
                  </a:lnTo>
                  <a:lnTo>
                    <a:pt x="243" y="1031"/>
                  </a:lnTo>
                  <a:lnTo>
                    <a:pt x="243" y="1036"/>
                  </a:lnTo>
                  <a:lnTo>
                    <a:pt x="243" y="1044"/>
                  </a:lnTo>
                  <a:lnTo>
                    <a:pt x="244" y="1050"/>
                  </a:lnTo>
                  <a:lnTo>
                    <a:pt x="245" y="1058"/>
                  </a:lnTo>
                  <a:lnTo>
                    <a:pt x="247" y="1064"/>
                  </a:lnTo>
                  <a:lnTo>
                    <a:pt x="250" y="1071"/>
                  </a:lnTo>
                  <a:lnTo>
                    <a:pt x="253" y="1077"/>
                  </a:lnTo>
                  <a:lnTo>
                    <a:pt x="256" y="1084"/>
                  </a:lnTo>
                  <a:lnTo>
                    <a:pt x="259" y="1090"/>
                  </a:lnTo>
                  <a:lnTo>
                    <a:pt x="264" y="1096"/>
                  </a:lnTo>
                  <a:lnTo>
                    <a:pt x="269" y="1101"/>
                  </a:lnTo>
                  <a:lnTo>
                    <a:pt x="273" y="1105"/>
                  </a:lnTo>
                  <a:lnTo>
                    <a:pt x="279" y="1110"/>
                  </a:lnTo>
                  <a:lnTo>
                    <a:pt x="284" y="1114"/>
                  </a:lnTo>
                  <a:lnTo>
                    <a:pt x="291" y="1117"/>
                  </a:lnTo>
                  <a:lnTo>
                    <a:pt x="296" y="1121"/>
                  </a:lnTo>
                  <a:lnTo>
                    <a:pt x="303" y="1123"/>
                  </a:lnTo>
                  <a:lnTo>
                    <a:pt x="311" y="1125"/>
                  </a:lnTo>
                  <a:lnTo>
                    <a:pt x="320" y="1126"/>
                  </a:lnTo>
                  <a:lnTo>
                    <a:pt x="329" y="1128"/>
                  </a:lnTo>
                  <a:lnTo>
                    <a:pt x="341" y="1129"/>
                  </a:lnTo>
                  <a:lnTo>
                    <a:pt x="355" y="1130"/>
                  </a:lnTo>
                  <a:lnTo>
                    <a:pt x="369" y="1131"/>
                  </a:lnTo>
                  <a:lnTo>
                    <a:pt x="385" y="1131"/>
                  </a:lnTo>
                  <a:lnTo>
                    <a:pt x="403" y="1131"/>
                  </a:lnTo>
                  <a:lnTo>
                    <a:pt x="600" y="1131"/>
                  </a:lnTo>
                  <a:lnTo>
                    <a:pt x="600" y="1247"/>
                  </a:lnTo>
                  <a:lnTo>
                    <a:pt x="166" y="1247"/>
                  </a:lnTo>
                  <a:lnTo>
                    <a:pt x="166" y="1140"/>
                  </a:lnTo>
                  <a:lnTo>
                    <a:pt x="229" y="1140"/>
                  </a:lnTo>
                  <a:lnTo>
                    <a:pt x="212" y="1125"/>
                  </a:lnTo>
                  <a:lnTo>
                    <a:pt x="197" y="1110"/>
                  </a:lnTo>
                  <a:lnTo>
                    <a:pt x="190" y="1101"/>
                  </a:lnTo>
                  <a:lnTo>
                    <a:pt x="184" y="1092"/>
                  </a:lnTo>
                  <a:lnTo>
                    <a:pt x="179" y="1084"/>
                  </a:lnTo>
                  <a:lnTo>
                    <a:pt x="173" y="1075"/>
                  </a:lnTo>
                  <a:lnTo>
                    <a:pt x="169" y="1067"/>
                  </a:lnTo>
                  <a:lnTo>
                    <a:pt x="166" y="1057"/>
                  </a:lnTo>
                  <a:lnTo>
                    <a:pt x="162" y="1047"/>
                  </a:lnTo>
                  <a:lnTo>
                    <a:pt x="160" y="1037"/>
                  </a:lnTo>
                  <a:lnTo>
                    <a:pt x="158" y="1028"/>
                  </a:lnTo>
                  <a:lnTo>
                    <a:pt x="156" y="1017"/>
                  </a:lnTo>
                  <a:lnTo>
                    <a:pt x="156" y="1007"/>
                  </a:lnTo>
                  <a:lnTo>
                    <a:pt x="155" y="996"/>
                  </a:lnTo>
                  <a:lnTo>
                    <a:pt x="156" y="987"/>
                  </a:lnTo>
                  <a:lnTo>
                    <a:pt x="156" y="977"/>
                  </a:lnTo>
                  <a:lnTo>
                    <a:pt x="157" y="968"/>
                  </a:lnTo>
                  <a:lnTo>
                    <a:pt x="159" y="960"/>
                  </a:lnTo>
                  <a:lnTo>
                    <a:pt x="160" y="951"/>
                  </a:lnTo>
                  <a:lnTo>
                    <a:pt x="163" y="942"/>
                  </a:lnTo>
                  <a:lnTo>
                    <a:pt x="166" y="934"/>
                  </a:lnTo>
                  <a:lnTo>
                    <a:pt x="169" y="926"/>
                  </a:lnTo>
                  <a:lnTo>
                    <a:pt x="172" y="919"/>
                  </a:lnTo>
                  <a:lnTo>
                    <a:pt x="176" y="911"/>
                  </a:lnTo>
                  <a:lnTo>
                    <a:pt x="181" y="905"/>
                  </a:lnTo>
                  <a:lnTo>
                    <a:pt x="185" y="898"/>
                  </a:lnTo>
                  <a:lnTo>
                    <a:pt x="189" y="893"/>
                  </a:lnTo>
                  <a:lnTo>
                    <a:pt x="194" y="887"/>
                  </a:lnTo>
                  <a:lnTo>
                    <a:pt x="199" y="883"/>
                  </a:lnTo>
                  <a:lnTo>
                    <a:pt x="204" y="879"/>
                  </a:lnTo>
                  <a:lnTo>
                    <a:pt x="210" y="874"/>
                  </a:lnTo>
                  <a:lnTo>
                    <a:pt x="215" y="871"/>
                  </a:lnTo>
                  <a:lnTo>
                    <a:pt x="221" y="868"/>
                  </a:lnTo>
                  <a:lnTo>
                    <a:pt x="227" y="865"/>
                  </a:lnTo>
                  <a:lnTo>
                    <a:pt x="232" y="863"/>
                  </a:lnTo>
                  <a:lnTo>
                    <a:pt x="239" y="859"/>
                  </a:lnTo>
                  <a:lnTo>
                    <a:pt x="245" y="858"/>
                  </a:lnTo>
                  <a:lnTo>
                    <a:pt x="253" y="856"/>
                  </a:lnTo>
                  <a:lnTo>
                    <a:pt x="259" y="855"/>
                  </a:lnTo>
                  <a:lnTo>
                    <a:pt x="267" y="853"/>
                  </a:lnTo>
                  <a:lnTo>
                    <a:pt x="275" y="852"/>
                  </a:lnTo>
                  <a:lnTo>
                    <a:pt x="285" y="851"/>
                  </a:lnTo>
                  <a:lnTo>
                    <a:pt x="295" y="851"/>
                  </a:lnTo>
                  <a:lnTo>
                    <a:pt x="306" y="850"/>
                  </a:lnTo>
                  <a:lnTo>
                    <a:pt x="317" y="850"/>
                  </a:lnTo>
                  <a:lnTo>
                    <a:pt x="329" y="850"/>
                  </a:lnTo>
                  <a:lnTo>
                    <a:pt x="600" y="850"/>
                  </a:lnTo>
                  <a:close/>
                  <a:moveTo>
                    <a:pt x="600" y="559"/>
                  </a:moveTo>
                  <a:lnTo>
                    <a:pt x="286" y="354"/>
                  </a:lnTo>
                  <a:lnTo>
                    <a:pt x="0" y="540"/>
                  </a:lnTo>
                  <a:lnTo>
                    <a:pt x="0" y="398"/>
                  </a:lnTo>
                  <a:lnTo>
                    <a:pt x="193" y="278"/>
                  </a:lnTo>
                  <a:lnTo>
                    <a:pt x="0" y="160"/>
                  </a:lnTo>
                  <a:lnTo>
                    <a:pt x="0" y="20"/>
                  </a:lnTo>
                  <a:lnTo>
                    <a:pt x="292" y="206"/>
                  </a:lnTo>
                  <a:lnTo>
                    <a:pt x="600" y="0"/>
                  </a:lnTo>
                  <a:lnTo>
                    <a:pt x="600" y="147"/>
                  </a:lnTo>
                  <a:lnTo>
                    <a:pt x="392" y="281"/>
                  </a:lnTo>
                  <a:lnTo>
                    <a:pt x="600" y="414"/>
                  </a:lnTo>
                  <a:lnTo>
                    <a:pt x="600" y="5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099040" y="2038320"/>
              <a:ext cx="190440" cy="125280"/>
            </a:xfrm>
            <a:prstGeom prst="flowChartMagneticDrum">
              <a:avLst/>
            </a:prstGeom>
            <a:no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5960" y="1679400"/>
              <a:ext cx="623880" cy="654120"/>
            </a:xfrm>
            <a:custGeom>
              <a:avLst/>
              <a:gdLst/>
              <a:ahLst/>
              <a:rect l="l" t="t" r="r" b="b"/>
              <a:pathLst>
                <a:path w="5775" h="5973">
                  <a:moveTo>
                    <a:pt x="2700" y="0"/>
                  </a:moveTo>
                  <a:lnTo>
                    <a:pt x="2696" y="21"/>
                  </a:lnTo>
                  <a:lnTo>
                    <a:pt x="2694" y="39"/>
                  </a:lnTo>
                  <a:lnTo>
                    <a:pt x="2694" y="56"/>
                  </a:lnTo>
                  <a:lnTo>
                    <a:pt x="2696" y="71"/>
                  </a:lnTo>
                  <a:lnTo>
                    <a:pt x="2700" y="87"/>
                  </a:lnTo>
                  <a:lnTo>
                    <a:pt x="2707" y="99"/>
                  </a:lnTo>
                  <a:lnTo>
                    <a:pt x="2713" y="111"/>
                  </a:lnTo>
                  <a:lnTo>
                    <a:pt x="2723" y="123"/>
                  </a:lnTo>
                  <a:lnTo>
                    <a:pt x="2733" y="133"/>
                  </a:lnTo>
                  <a:lnTo>
                    <a:pt x="2743" y="144"/>
                  </a:lnTo>
                  <a:lnTo>
                    <a:pt x="2755" y="152"/>
                  </a:lnTo>
                  <a:lnTo>
                    <a:pt x="2768" y="162"/>
                  </a:lnTo>
                  <a:lnTo>
                    <a:pt x="2794" y="179"/>
                  </a:lnTo>
                  <a:lnTo>
                    <a:pt x="2822" y="196"/>
                  </a:lnTo>
                  <a:lnTo>
                    <a:pt x="2849" y="214"/>
                  </a:lnTo>
                  <a:lnTo>
                    <a:pt x="2875" y="233"/>
                  </a:lnTo>
                  <a:lnTo>
                    <a:pt x="2886" y="243"/>
                  </a:lnTo>
                  <a:lnTo>
                    <a:pt x="2896" y="255"/>
                  </a:lnTo>
                  <a:lnTo>
                    <a:pt x="2906" y="267"/>
                  </a:lnTo>
                  <a:lnTo>
                    <a:pt x="2915" y="281"/>
                  </a:lnTo>
                  <a:lnTo>
                    <a:pt x="2922" y="295"/>
                  </a:lnTo>
                  <a:lnTo>
                    <a:pt x="2928" y="310"/>
                  </a:lnTo>
                  <a:lnTo>
                    <a:pt x="2931" y="327"/>
                  </a:lnTo>
                  <a:lnTo>
                    <a:pt x="2933" y="346"/>
                  </a:lnTo>
                  <a:lnTo>
                    <a:pt x="2933" y="366"/>
                  </a:lnTo>
                  <a:lnTo>
                    <a:pt x="2930" y="388"/>
                  </a:lnTo>
                  <a:lnTo>
                    <a:pt x="2925" y="411"/>
                  </a:lnTo>
                  <a:lnTo>
                    <a:pt x="2918" y="437"/>
                  </a:lnTo>
                  <a:lnTo>
                    <a:pt x="2987" y="542"/>
                  </a:lnTo>
                  <a:lnTo>
                    <a:pt x="3064" y="646"/>
                  </a:lnTo>
                  <a:lnTo>
                    <a:pt x="3149" y="749"/>
                  </a:lnTo>
                  <a:lnTo>
                    <a:pt x="3242" y="852"/>
                  </a:lnTo>
                  <a:lnTo>
                    <a:pt x="3342" y="954"/>
                  </a:lnTo>
                  <a:lnTo>
                    <a:pt x="3446" y="1055"/>
                  </a:lnTo>
                  <a:lnTo>
                    <a:pt x="3557" y="1155"/>
                  </a:lnTo>
                  <a:lnTo>
                    <a:pt x="3673" y="1254"/>
                  </a:lnTo>
                  <a:lnTo>
                    <a:pt x="3791" y="1354"/>
                  </a:lnTo>
                  <a:lnTo>
                    <a:pt x="3912" y="1451"/>
                  </a:lnTo>
                  <a:lnTo>
                    <a:pt x="4035" y="1548"/>
                  </a:lnTo>
                  <a:lnTo>
                    <a:pt x="4159" y="1644"/>
                  </a:lnTo>
                  <a:lnTo>
                    <a:pt x="4410" y="1833"/>
                  </a:lnTo>
                  <a:lnTo>
                    <a:pt x="4657" y="2018"/>
                  </a:lnTo>
                  <a:lnTo>
                    <a:pt x="4776" y="2109"/>
                  </a:lnTo>
                  <a:lnTo>
                    <a:pt x="4894" y="2200"/>
                  </a:lnTo>
                  <a:lnTo>
                    <a:pt x="5006" y="2288"/>
                  </a:lnTo>
                  <a:lnTo>
                    <a:pt x="5114" y="2377"/>
                  </a:lnTo>
                  <a:lnTo>
                    <a:pt x="5217" y="2464"/>
                  </a:lnTo>
                  <a:lnTo>
                    <a:pt x="5313" y="2549"/>
                  </a:lnTo>
                  <a:lnTo>
                    <a:pt x="5403" y="2635"/>
                  </a:lnTo>
                  <a:lnTo>
                    <a:pt x="5485" y="2719"/>
                  </a:lnTo>
                  <a:lnTo>
                    <a:pt x="5557" y="2801"/>
                  </a:lnTo>
                  <a:lnTo>
                    <a:pt x="5621" y="2883"/>
                  </a:lnTo>
                  <a:lnTo>
                    <a:pt x="5675" y="2964"/>
                  </a:lnTo>
                  <a:lnTo>
                    <a:pt x="5718" y="3043"/>
                  </a:lnTo>
                  <a:lnTo>
                    <a:pt x="5750" y="3121"/>
                  </a:lnTo>
                  <a:lnTo>
                    <a:pt x="5769" y="3198"/>
                  </a:lnTo>
                  <a:lnTo>
                    <a:pt x="5775" y="3274"/>
                  </a:lnTo>
                  <a:lnTo>
                    <a:pt x="5768" y="3348"/>
                  </a:lnTo>
                  <a:lnTo>
                    <a:pt x="5592" y="3524"/>
                  </a:lnTo>
                  <a:lnTo>
                    <a:pt x="5420" y="3695"/>
                  </a:lnTo>
                  <a:lnTo>
                    <a:pt x="5251" y="3862"/>
                  </a:lnTo>
                  <a:lnTo>
                    <a:pt x="5084" y="4025"/>
                  </a:lnTo>
                  <a:lnTo>
                    <a:pt x="4756" y="4345"/>
                  </a:lnTo>
                  <a:lnTo>
                    <a:pt x="4432" y="4661"/>
                  </a:lnTo>
                  <a:lnTo>
                    <a:pt x="4106" y="4976"/>
                  </a:lnTo>
                  <a:lnTo>
                    <a:pt x="3778" y="5296"/>
                  </a:lnTo>
                  <a:lnTo>
                    <a:pt x="3611" y="5460"/>
                  </a:lnTo>
                  <a:lnTo>
                    <a:pt x="3442" y="5628"/>
                  </a:lnTo>
                  <a:lnTo>
                    <a:pt x="3270" y="5798"/>
                  </a:lnTo>
                  <a:lnTo>
                    <a:pt x="3094" y="5973"/>
                  </a:lnTo>
                  <a:lnTo>
                    <a:pt x="3079" y="5915"/>
                  </a:lnTo>
                  <a:lnTo>
                    <a:pt x="3055" y="5852"/>
                  </a:lnTo>
                  <a:lnTo>
                    <a:pt x="3022" y="5785"/>
                  </a:lnTo>
                  <a:lnTo>
                    <a:pt x="2981" y="5716"/>
                  </a:lnTo>
                  <a:lnTo>
                    <a:pt x="2933" y="5643"/>
                  </a:lnTo>
                  <a:lnTo>
                    <a:pt x="2878" y="5567"/>
                  </a:lnTo>
                  <a:lnTo>
                    <a:pt x="2817" y="5487"/>
                  </a:lnTo>
                  <a:lnTo>
                    <a:pt x="2749" y="5406"/>
                  </a:lnTo>
                  <a:lnTo>
                    <a:pt x="2676" y="5321"/>
                  </a:lnTo>
                  <a:lnTo>
                    <a:pt x="2596" y="5235"/>
                  </a:lnTo>
                  <a:lnTo>
                    <a:pt x="2512" y="5146"/>
                  </a:lnTo>
                  <a:lnTo>
                    <a:pt x="2424" y="5056"/>
                  </a:lnTo>
                  <a:lnTo>
                    <a:pt x="2330" y="4963"/>
                  </a:lnTo>
                  <a:lnTo>
                    <a:pt x="2234" y="4868"/>
                  </a:lnTo>
                  <a:lnTo>
                    <a:pt x="2134" y="4773"/>
                  </a:lnTo>
                  <a:lnTo>
                    <a:pt x="2031" y="4676"/>
                  </a:lnTo>
                  <a:lnTo>
                    <a:pt x="1926" y="4577"/>
                  </a:lnTo>
                  <a:lnTo>
                    <a:pt x="1819" y="4478"/>
                  </a:lnTo>
                  <a:lnTo>
                    <a:pt x="1709" y="4379"/>
                  </a:lnTo>
                  <a:lnTo>
                    <a:pt x="1599" y="4278"/>
                  </a:lnTo>
                  <a:lnTo>
                    <a:pt x="1375" y="4077"/>
                  </a:lnTo>
                  <a:lnTo>
                    <a:pt x="1151" y="3875"/>
                  </a:lnTo>
                  <a:lnTo>
                    <a:pt x="931" y="3674"/>
                  </a:lnTo>
                  <a:lnTo>
                    <a:pt x="716" y="3477"/>
                  </a:lnTo>
                  <a:lnTo>
                    <a:pt x="613" y="3379"/>
                  </a:lnTo>
                  <a:lnTo>
                    <a:pt x="511" y="3283"/>
                  </a:lnTo>
                  <a:lnTo>
                    <a:pt x="413" y="3189"/>
                  </a:lnTo>
                  <a:lnTo>
                    <a:pt x="320" y="3096"/>
                  </a:lnTo>
                  <a:lnTo>
                    <a:pt x="306" y="3082"/>
                  </a:lnTo>
                  <a:lnTo>
                    <a:pt x="296" y="3066"/>
                  </a:lnTo>
                  <a:lnTo>
                    <a:pt x="287" y="3052"/>
                  </a:lnTo>
                  <a:lnTo>
                    <a:pt x="282" y="3039"/>
                  </a:lnTo>
                  <a:lnTo>
                    <a:pt x="278" y="3026"/>
                  </a:lnTo>
                  <a:lnTo>
                    <a:pt x="277" y="3014"/>
                  </a:lnTo>
                  <a:lnTo>
                    <a:pt x="276" y="3001"/>
                  </a:lnTo>
                  <a:lnTo>
                    <a:pt x="277" y="2989"/>
                  </a:lnTo>
                  <a:lnTo>
                    <a:pt x="287" y="2939"/>
                  </a:lnTo>
                  <a:lnTo>
                    <a:pt x="297" y="2886"/>
                  </a:lnTo>
                  <a:lnTo>
                    <a:pt x="298" y="2872"/>
                  </a:lnTo>
                  <a:lnTo>
                    <a:pt x="297" y="2857"/>
                  </a:lnTo>
                  <a:lnTo>
                    <a:pt x="295" y="2842"/>
                  </a:lnTo>
                  <a:lnTo>
                    <a:pt x="291" y="2826"/>
                  </a:lnTo>
                  <a:lnTo>
                    <a:pt x="284" y="2808"/>
                  </a:lnTo>
                  <a:lnTo>
                    <a:pt x="276" y="2790"/>
                  </a:lnTo>
                  <a:lnTo>
                    <a:pt x="264" y="2771"/>
                  </a:lnTo>
                  <a:lnTo>
                    <a:pt x="250" y="2751"/>
                  </a:lnTo>
                  <a:lnTo>
                    <a:pt x="233" y="2730"/>
                  </a:lnTo>
                  <a:lnTo>
                    <a:pt x="211" y="2707"/>
                  </a:lnTo>
                  <a:lnTo>
                    <a:pt x="186" y="2683"/>
                  </a:lnTo>
                  <a:lnTo>
                    <a:pt x="158" y="2658"/>
                  </a:lnTo>
                  <a:lnTo>
                    <a:pt x="126" y="2633"/>
                  </a:lnTo>
                  <a:lnTo>
                    <a:pt x="88" y="2604"/>
                  </a:lnTo>
                  <a:lnTo>
                    <a:pt x="46" y="2575"/>
                  </a:lnTo>
                  <a:lnTo>
                    <a:pt x="0" y="2544"/>
                  </a:lnTo>
                  <a:lnTo>
                    <a:pt x="2700" y="0"/>
                  </a:lnTo>
                  <a:close/>
                </a:path>
              </a:pathLst>
            </a:custGeom>
            <a:solidFill>
              <a:srgbClr val="6666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rot="19054200">
              <a:off x="5156280" y="1866240"/>
              <a:ext cx="244440" cy="150840"/>
            </a:xfrm>
            <a:prstGeom prst="flowChartOnlineStorag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49960" y="2009520"/>
              <a:ext cx="141120" cy="162000"/>
            </a:xfrm>
            <a:prstGeom prst="flowChartSummingJunction">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5111640" y="3338640"/>
            <a:ext cx="2286000" cy="990360"/>
          </a:xfrm>
          <a:prstGeom prst="rect">
            <a:avLst/>
          </a:prstGeom>
          <a:solidFill>
            <a:srgbClr val="99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202360" y="351684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Verdana"/>
              </a:rPr>
              <a:t>Collect</a:t>
            </a:r>
            <a:endParaRPr b="0" lang="en-US" sz="3200" spc="-1" strike="noStrike">
              <a:solidFill>
                <a:srgbClr val="000000"/>
              </a:solidFill>
              <a:latin typeface="Times New Roman"/>
            </a:endParaRPr>
          </a:p>
        </p:txBody>
      </p:sp>
      <p:grpSp>
        <p:nvGrpSpPr>
          <p:cNvPr id="453" name=""/>
          <p:cNvGrpSpPr/>
          <p:nvPr/>
        </p:nvGrpSpPr>
        <p:grpSpPr>
          <a:xfrm>
            <a:off x="6641640" y="3517920"/>
            <a:ext cx="1143000" cy="838080"/>
            <a:chOff x="6641640" y="3517920"/>
            <a:chExt cx="1143000" cy="838080"/>
          </a:xfrm>
        </p:grpSpPr>
        <p:sp>
          <p:nvSpPr>
            <p:cNvPr id="454" name=""/>
            <p:cNvSpPr/>
            <p:nvPr/>
          </p:nvSpPr>
          <p:spPr>
            <a:xfrm flipH="1">
              <a:off x="6641280" y="3517920"/>
              <a:ext cx="1143000" cy="838080"/>
            </a:xfrm>
            <a:custGeom>
              <a:avLst/>
              <a:gdLst/>
              <a:ahLst/>
              <a:rect l="l" t="t" r="r" b="b"/>
              <a:pathLst>
                <a:path w="9142" h="6069">
                  <a:moveTo>
                    <a:pt x="592" y="450"/>
                  </a:moveTo>
                  <a:lnTo>
                    <a:pt x="664" y="406"/>
                  </a:lnTo>
                  <a:lnTo>
                    <a:pt x="740" y="364"/>
                  </a:lnTo>
                  <a:lnTo>
                    <a:pt x="819" y="325"/>
                  </a:lnTo>
                  <a:lnTo>
                    <a:pt x="900" y="287"/>
                  </a:lnTo>
                  <a:lnTo>
                    <a:pt x="984" y="252"/>
                  </a:lnTo>
                  <a:lnTo>
                    <a:pt x="1071" y="218"/>
                  </a:lnTo>
                  <a:lnTo>
                    <a:pt x="1159" y="187"/>
                  </a:lnTo>
                  <a:lnTo>
                    <a:pt x="1250" y="158"/>
                  </a:lnTo>
                  <a:lnTo>
                    <a:pt x="1342" y="132"/>
                  </a:lnTo>
                  <a:lnTo>
                    <a:pt x="1436" y="107"/>
                  </a:lnTo>
                  <a:lnTo>
                    <a:pt x="1532" y="86"/>
                  </a:lnTo>
                  <a:lnTo>
                    <a:pt x="1629" y="66"/>
                  </a:lnTo>
                  <a:lnTo>
                    <a:pt x="1727" y="49"/>
                  </a:lnTo>
                  <a:lnTo>
                    <a:pt x="1826" y="35"/>
                  </a:lnTo>
                  <a:lnTo>
                    <a:pt x="1926" y="22"/>
                  </a:lnTo>
                  <a:lnTo>
                    <a:pt x="2026" y="13"/>
                  </a:lnTo>
                  <a:lnTo>
                    <a:pt x="2127" y="6"/>
                  </a:lnTo>
                  <a:lnTo>
                    <a:pt x="2228" y="1"/>
                  </a:lnTo>
                  <a:lnTo>
                    <a:pt x="2330" y="0"/>
                  </a:lnTo>
                  <a:lnTo>
                    <a:pt x="2431" y="1"/>
                  </a:lnTo>
                  <a:lnTo>
                    <a:pt x="2531" y="5"/>
                  </a:lnTo>
                  <a:lnTo>
                    <a:pt x="2631" y="11"/>
                  </a:lnTo>
                  <a:lnTo>
                    <a:pt x="2731" y="21"/>
                  </a:lnTo>
                  <a:lnTo>
                    <a:pt x="2830" y="33"/>
                  </a:lnTo>
                  <a:lnTo>
                    <a:pt x="2928" y="48"/>
                  </a:lnTo>
                  <a:lnTo>
                    <a:pt x="3024" y="66"/>
                  </a:lnTo>
                  <a:lnTo>
                    <a:pt x="3120" y="87"/>
                  </a:lnTo>
                  <a:lnTo>
                    <a:pt x="3214" y="111"/>
                  </a:lnTo>
                  <a:lnTo>
                    <a:pt x="3305" y="137"/>
                  </a:lnTo>
                  <a:lnTo>
                    <a:pt x="3395" y="168"/>
                  </a:lnTo>
                  <a:lnTo>
                    <a:pt x="3484" y="201"/>
                  </a:lnTo>
                  <a:lnTo>
                    <a:pt x="3570" y="237"/>
                  </a:lnTo>
                  <a:lnTo>
                    <a:pt x="3624" y="263"/>
                  </a:lnTo>
                  <a:lnTo>
                    <a:pt x="3680" y="290"/>
                  </a:lnTo>
                  <a:lnTo>
                    <a:pt x="3736" y="318"/>
                  </a:lnTo>
                  <a:lnTo>
                    <a:pt x="3793" y="348"/>
                  </a:lnTo>
                  <a:lnTo>
                    <a:pt x="3850" y="380"/>
                  </a:lnTo>
                  <a:lnTo>
                    <a:pt x="3907" y="414"/>
                  </a:lnTo>
                  <a:lnTo>
                    <a:pt x="3964" y="448"/>
                  </a:lnTo>
                  <a:lnTo>
                    <a:pt x="4021" y="484"/>
                  </a:lnTo>
                  <a:lnTo>
                    <a:pt x="4077" y="521"/>
                  </a:lnTo>
                  <a:lnTo>
                    <a:pt x="4132" y="558"/>
                  </a:lnTo>
                  <a:lnTo>
                    <a:pt x="4187" y="597"/>
                  </a:lnTo>
                  <a:lnTo>
                    <a:pt x="4241" y="637"/>
                  </a:lnTo>
                  <a:lnTo>
                    <a:pt x="4293" y="678"/>
                  </a:lnTo>
                  <a:lnTo>
                    <a:pt x="4345" y="719"/>
                  </a:lnTo>
                  <a:lnTo>
                    <a:pt x="4395" y="760"/>
                  </a:lnTo>
                  <a:lnTo>
                    <a:pt x="4442" y="802"/>
                  </a:lnTo>
                  <a:lnTo>
                    <a:pt x="4488" y="844"/>
                  </a:lnTo>
                  <a:lnTo>
                    <a:pt x="4531" y="887"/>
                  </a:lnTo>
                  <a:lnTo>
                    <a:pt x="4573" y="931"/>
                  </a:lnTo>
                  <a:lnTo>
                    <a:pt x="4612" y="973"/>
                  </a:lnTo>
                  <a:lnTo>
                    <a:pt x="4649" y="1016"/>
                  </a:lnTo>
                  <a:lnTo>
                    <a:pt x="4682" y="1058"/>
                  </a:lnTo>
                  <a:lnTo>
                    <a:pt x="4712" y="1100"/>
                  </a:lnTo>
                  <a:lnTo>
                    <a:pt x="4739" y="1142"/>
                  </a:lnTo>
                  <a:lnTo>
                    <a:pt x="4762" y="1184"/>
                  </a:lnTo>
                  <a:lnTo>
                    <a:pt x="4782" y="1225"/>
                  </a:lnTo>
                  <a:lnTo>
                    <a:pt x="4798" y="1265"/>
                  </a:lnTo>
                  <a:lnTo>
                    <a:pt x="4810" y="1305"/>
                  </a:lnTo>
                  <a:lnTo>
                    <a:pt x="4818" y="1343"/>
                  </a:lnTo>
                  <a:lnTo>
                    <a:pt x="4821" y="1381"/>
                  </a:lnTo>
                  <a:lnTo>
                    <a:pt x="4820" y="1417"/>
                  </a:lnTo>
                  <a:lnTo>
                    <a:pt x="4815" y="1453"/>
                  </a:lnTo>
                  <a:lnTo>
                    <a:pt x="4097" y="2532"/>
                  </a:lnTo>
                  <a:lnTo>
                    <a:pt x="9142" y="5684"/>
                  </a:lnTo>
                  <a:lnTo>
                    <a:pt x="8711" y="6069"/>
                  </a:lnTo>
                  <a:lnTo>
                    <a:pt x="3456" y="2992"/>
                  </a:lnTo>
                  <a:lnTo>
                    <a:pt x="3397" y="3062"/>
                  </a:lnTo>
                  <a:lnTo>
                    <a:pt x="3337" y="3132"/>
                  </a:lnTo>
                  <a:lnTo>
                    <a:pt x="3275" y="3204"/>
                  </a:lnTo>
                  <a:lnTo>
                    <a:pt x="3212" y="3275"/>
                  </a:lnTo>
                  <a:lnTo>
                    <a:pt x="3082" y="3419"/>
                  </a:lnTo>
                  <a:lnTo>
                    <a:pt x="2948" y="3565"/>
                  </a:lnTo>
                  <a:lnTo>
                    <a:pt x="2810" y="3712"/>
                  </a:lnTo>
                  <a:lnTo>
                    <a:pt x="2671" y="3858"/>
                  </a:lnTo>
                  <a:lnTo>
                    <a:pt x="2532" y="4003"/>
                  </a:lnTo>
                  <a:lnTo>
                    <a:pt x="2394" y="4147"/>
                  </a:lnTo>
                  <a:lnTo>
                    <a:pt x="2257" y="4289"/>
                  </a:lnTo>
                  <a:lnTo>
                    <a:pt x="2125" y="4427"/>
                  </a:lnTo>
                  <a:lnTo>
                    <a:pt x="1997" y="4563"/>
                  </a:lnTo>
                  <a:lnTo>
                    <a:pt x="1875" y="4694"/>
                  </a:lnTo>
                  <a:lnTo>
                    <a:pt x="1817" y="4758"/>
                  </a:lnTo>
                  <a:lnTo>
                    <a:pt x="1760" y="4820"/>
                  </a:lnTo>
                  <a:lnTo>
                    <a:pt x="1706" y="4882"/>
                  </a:lnTo>
                  <a:lnTo>
                    <a:pt x="1654" y="4941"/>
                  </a:lnTo>
                  <a:lnTo>
                    <a:pt x="1604" y="5000"/>
                  </a:lnTo>
                  <a:lnTo>
                    <a:pt x="1558" y="5056"/>
                  </a:lnTo>
                  <a:lnTo>
                    <a:pt x="1513" y="5110"/>
                  </a:lnTo>
                  <a:lnTo>
                    <a:pt x="1471" y="5162"/>
                  </a:lnTo>
                  <a:lnTo>
                    <a:pt x="1445" y="5191"/>
                  </a:lnTo>
                  <a:lnTo>
                    <a:pt x="1420" y="5200"/>
                  </a:lnTo>
                  <a:lnTo>
                    <a:pt x="1396" y="5194"/>
                  </a:lnTo>
                  <a:lnTo>
                    <a:pt x="1373" y="5172"/>
                  </a:lnTo>
                  <a:lnTo>
                    <a:pt x="1352" y="5138"/>
                  </a:lnTo>
                  <a:lnTo>
                    <a:pt x="1333" y="5088"/>
                  </a:lnTo>
                  <a:lnTo>
                    <a:pt x="1313" y="5028"/>
                  </a:lnTo>
                  <a:lnTo>
                    <a:pt x="1294" y="4955"/>
                  </a:lnTo>
                  <a:lnTo>
                    <a:pt x="1275" y="4873"/>
                  </a:lnTo>
                  <a:lnTo>
                    <a:pt x="1257" y="4783"/>
                  </a:lnTo>
                  <a:lnTo>
                    <a:pt x="1240" y="4683"/>
                  </a:lnTo>
                  <a:lnTo>
                    <a:pt x="1221" y="4576"/>
                  </a:lnTo>
                  <a:lnTo>
                    <a:pt x="1183" y="4347"/>
                  </a:lnTo>
                  <a:lnTo>
                    <a:pt x="1142" y="4099"/>
                  </a:lnTo>
                  <a:lnTo>
                    <a:pt x="1119" y="3973"/>
                  </a:lnTo>
                  <a:lnTo>
                    <a:pt x="1096" y="3845"/>
                  </a:lnTo>
                  <a:lnTo>
                    <a:pt x="1070" y="3717"/>
                  </a:lnTo>
                  <a:lnTo>
                    <a:pt x="1043" y="3590"/>
                  </a:lnTo>
                  <a:lnTo>
                    <a:pt x="1014" y="3466"/>
                  </a:lnTo>
                  <a:lnTo>
                    <a:pt x="983" y="3344"/>
                  </a:lnTo>
                  <a:lnTo>
                    <a:pt x="948" y="3225"/>
                  </a:lnTo>
                  <a:lnTo>
                    <a:pt x="913" y="3113"/>
                  </a:lnTo>
                  <a:lnTo>
                    <a:pt x="873" y="3006"/>
                  </a:lnTo>
                  <a:lnTo>
                    <a:pt x="831" y="2906"/>
                  </a:lnTo>
                  <a:lnTo>
                    <a:pt x="786" y="2814"/>
                  </a:lnTo>
                  <a:lnTo>
                    <a:pt x="737" y="2731"/>
                  </a:lnTo>
                  <a:lnTo>
                    <a:pt x="685" y="2659"/>
                  </a:lnTo>
                  <a:lnTo>
                    <a:pt x="629" y="2597"/>
                  </a:lnTo>
                  <a:lnTo>
                    <a:pt x="570" y="2547"/>
                  </a:lnTo>
                  <a:lnTo>
                    <a:pt x="506" y="2511"/>
                  </a:lnTo>
                  <a:lnTo>
                    <a:pt x="442" y="2479"/>
                  </a:lnTo>
                  <a:lnTo>
                    <a:pt x="382" y="2442"/>
                  </a:lnTo>
                  <a:lnTo>
                    <a:pt x="327" y="2400"/>
                  </a:lnTo>
                  <a:lnTo>
                    <a:pt x="276" y="2352"/>
                  </a:lnTo>
                  <a:lnTo>
                    <a:pt x="229" y="2300"/>
                  </a:lnTo>
                  <a:lnTo>
                    <a:pt x="187" y="2245"/>
                  </a:lnTo>
                  <a:lnTo>
                    <a:pt x="149" y="2187"/>
                  </a:lnTo>
                  <a:lnTo>
                    <a:pt x="115" y="2124"/>
                  </a:lnTo>
                  <a:lnTo>
                    <a:pt x="86" y="2058"/>
                  </a:lnTo>
                  <a:lnTo>
                    <a:pt x="61" y="1991"/>
                  </a:lnTo>
                  <a:lnTo>
                    <a:pt x="39" y="1920"/>
                  </a:lnTo>
                  <a:lnTo>
                    <a:pt x="23" y="1848"/>
                  </a:lnTo>
                  <a:lnTo>
                    <a:pt x="11" y="1774"/>
                  </a:lnTo>
                  <a:lnTo>
                    <a:pt x="3" y="1697"/>
                  </a:lnTo>
                  <a:lnTo>
                    <a:pt x="0" y="1620"/>
                  </a:lnTo>
                  <a:lnTo>
                    <a:pt x="1" y="1543"/>
                  </a:lnTo>
                  <a:lnTo>
                    <a:pt x="5" y="1465"/>
                  </a:lnTo>
                  <a:lnTo>
                    <a:pt x="15" y="1386"/>
                  </a:lnTo>
                  <a:lnTo>
                    <a:pt x="28" y="1308"/>
                  </a:lnTo>
                  <a:lnTo>
                    <a:pt x="46" y="1231"/>
                  </a:lnTo>
                  <a:lnTo>
                    <a:pt x="67" y="1154"/>
                  </a:lnTo>
                  <a:lnTo>
                    <a:pt x="94" y="1077"/>
                  </a:lnTo>
                  <a:lnTo>
                    <a:pt x="125" y="1003"/>
                  </a:lnTo>
                  <a:lnTo>
                    <a:pt x="160" y="931"/>
                  </a:lnTo>
                  <a:lnTo>
                    <a:pt x="199" y="861"/>
                  </a:lnTo>
                  <a:lnTo>
                    <a:pt x="242" y="791"/>
                  </a:lnTo>
                  <a:lnTo>
                    <a:pt x="289" y="727"/>
                  </a:lnTo>
                  <a:lnTo>
                    <a:pt x="342" y="664"/>
                  </a:lnTo>
                  <a:lnTo>
                    <a:pt x="398" y="605"/>
                  </a:lnTo>
                  <a:lnTo>
                    <a:pt x="458" y="550"/>
                  </a:lnTo>
                  <a:lnTo>
                    <a:pt x="523" y="498"/>
                  </a:lnTo>
                  <a:lnTo>
                    <a:pt x="592" y="4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7231320" y="3542760"/>
              <a:ext cx="524880" cy="632160"/>
            </a:xfrm>
            <a:custGeom>
              <a:avLst/>
              <a:gdLst/>
              <a:ahLst/>
              <a:rect l="l" t="t" r="r" b="b"/>
              <a:pathLst>
                <a:path w="4201" h="4576">
                  <a:moveTo>
                    <a:pt x="517" y="392"/>
                  </a:moveTo>
                  <a:lnTo>
                    <a:pt x="579" y="354"/>
                  </a:lnTo>
                  <a:lnTo>
                    <a:pt x="646" y="318"/>
                  </a:lnTo>
                  <a:lnTo>
                    <a:pt x="714" y="283"/>
                  </a:lnTo>
                  <a:lnTo>
                    <a:pt x="785" y="250"/>
                  </a:lnTo>
                  <a:lnTo>
                    <a:pt x="858" y="218"/>
                  </a:lnTo>
                  <a:lnTo>
                    <a:pt x="933" y="190"/>
                  </a:lnTo>
                  <a:lnTo>
                    <a:pt x="1011" y="162"/>
                  </a:lnTo>
                  <a:lnTo>
                    <a:pt x="1089" y="138"/>
                  </a:lnTo>
                  <a:lnTo>
                    <a:pt x="1170" y="115"/>
                  </a:lnTo>
                  <a:lnTo>
                    <a:pt x="1252" y="93"/>
                  </a:lnTo>
                  <a:lnTo>
                    <a:pt x="1335" y="74"/>
                  </a:lnTo>
                  <a:lnTo>
                    <a:pt x="1420" y="58"/>
                  </a:lnTo>
                  <a:lnTo>
                    <a:pt x="1505" y="43"/>
                  </a:lnTo>
                  <a:lnTo>
                    <a:pt x="1591" y="30"/>
                  </a:lnTo>
                  <a:lnTo>
                    <a:pt x="1678" y="19"/>
                  </a:lnTo>
                  <a:lnTo>
                    <a:pt x="1766" y="11"/>
                  </a:lnTo>
                  <a:lnTo>
                    <a:pt x="1854" y="5"/>
                  </a:lnTo>
                  <a:lnTo>
                    <a:pt x="1942" y="2"/>
                  </a:lnTo>
                  <a:lnTo>
                    <a:pt x="2031" y="0"/>
                  </a:lnTo>
                  <a:lnTo>
                    <a:pt x="2118" y="0"/>
                  </a:lnTo>
                  <a:lnTo>
                    <a:pt x="2206" y="4"/>
                  </a:lnTo>
                  <a:lnTo>
                    <a:pt x="2293" y="10"/>
                  </a:lnTo>
                  <a:lnTo>
                    <a:pt x="2380" y="18"/>
                  </a:lnTo>
                  <a:lnTo>
                    <a:pt x="2467" y="29"/>
                  </a:lnTo>
                  <a:lnTo>
                    <a:pt x="2552" y="41"/>
                  </a:lnTo>
                  <a:lnTo>
                    <a:pt x="2636" y="58"/>
                  </a:lnTo>
                  <a:lnTo>
                    <a:pt x="2719" y="76"/>
                  </a:lnTo>
                  <a:lnTo>
                    <a:pt x="2800" y="97"/>
                  </a:lnTo>
                  <a:lnTo>
                    <a:pt x="2880" y="120"/>
                  </a:lnTo>
                  <a:lnTo>
                    <a:pt x="2959" y="146"/>
                  </a:lnTo>
                  <a:lnTo>
                    <a:pt x="3036" y="175"/>
                  </a:lnTo>
                  <a:lnTo>
                    <a:pt x="3110" y="207"/>
                  </a:lnTo>
                  <a:lnTo>
                    <a:pt x="3158" y="228"/>
                  </a:lnTo>
                  <a:lnTo>
                    <a:pt x="3206" y="252"/>
                  </a:lnTo>
                  <a:lnTo>
                    <a:pt x="3256" y="277"/>
                  </a:lnTo>
                  <a:lnTo>
                    <a:pt x="3305" y="304"/>
                  </a:lnTo>
                  <a:lnTo>
                    <a:pt x="3355" y="331"/>
                  </a:lnTo>
                  <a:lnTo>
                    <a:pt x="3404" y="360"/>
                  </a:lnTo>
                  <a:lnTo>
                    <a:pt x="3454" y="390"/>
                  </a:lnTo>
                  <a:lnTo>
                    <a:pt x="3503" y="421"/>
                  </a:lnTo>
                  <a:lnTo>
                    <a:pt x="3553" y="454"/>
                  </a:lnTo>
                  <a:lnTo>
                    <a:pt x="3601" y="486"/>
                  </a:lnTo>
                  <a:lnTo>
                    <a:pt x="3649" y="521"/>
                  </a:lnTo>
                  <a:lnTo>
                    <a:pt x="3696" y="555"/>
                  </a:lnTo>
                  <a:lnTo>
                    <a:pt x="3741" y="590"/>
                  </a:lnTo>
                  <a:lnTo>
                    <a:pt x="3786" y="626"/>
                  </a:lnTo>
                  <a:lnTo>
                    <a:pt x="3830" y="662"/>
                  </a:lnTo>
                  <a:lnTo>
                    <a:pt x="3871" y="699"/>
                  </a:lnTo>
                  <a:lnTo>
                    <a:pt x="3910" y="735"/>
                  </a:lnTo>
                  <a:lnTo>
                    <a:pt x="3949" y="773"/>
                  </a:lnTo>
                  <a:lnTo>
                    <a:pt x="3985" y="810"/>
                  </a:lnTo>
                  <a:lnTo>
                    <a:pt x="4019" y="848"/>
                  </a:lnTo>
                  <a:lnTo>
                    <a:pt x="4050" y="884"/>
                  </a:lnTo>
                  <a:lnTo>
                    <a:pt x="4079" y="922"/>
                  </a:lnTo>
                  <a:lnTo>
                    <a:pt x="4105" y="959"/>
                  </a:lnTo>
                  <a:lnTo>
                    <a:pt x="4129" y="996"/>
                  </a:lnTo>
                  <a:lnTo>
                    <a:pt x="4149" y="1031"/>
                  </a:lnTo>
                  <a:lnTo>
                    <a:pt x="4167" y="1067"/>
                  </a:lnTo>
                  <a:lnTo>
                    <a:pt x="4181" y="1102"/>
                  </a:lnTo>
                  <a:lnTo>
                    <a:pt x="4191" y="1137"/>
                  </a:lnTo>
                  <a:lnTo>
                    <a:pt x="4198" y="1170"/>
                  </a:lnTo>
                  <a:lnTo>
                    <a:pt x="4201" y="1203"/>
                  </a:lnTo>
                  <a:lnTo>
                    <a:pt x="4200" y="1235"/>
                  </a:lnTo>
                  <a:lnTo>
                    <a:pt x="4195" y="1265"/>
                  </a:lnTo>
                  <a:lnTo>
                    <a:pt x="4189" y="1285"/>
                  </a:lnTo>
                  <a:lnTo>
                    <a:pt x="4182" y="1306"/>
                  </a:lnTo>
                  <a:lnTo>
                    <a:pt x="4171" y="1332"/>
                  </a:lnTo>
                  <a:lnTo>
                    <a:pt x="4158" y="1360"/>
                  </a:lnTo>
                  <a:lnTo>
                    <a:pt x="4143" y="1391"/>
                  </a:lnTo>
                  <a:lnTo>
                    <a:pt x="4126" y="1424"/>
                  </a:lnTo>
                  <a:lnTo>
                    <a:pt x="4106" y="1460"/>
                  </a:lnTo>
                  <a:lnTo>
                    <a:pt x="4086" y="1497"/>
                  </a:lnTo>
                  <a:lnTo>
                    <a:pt x="4039" y="1577"/>
                  </a:lnTo>
                  <a:lnTo>
                    <a:pt x="3987" y="1663"/>
                  </a:lnTo>
                  <a:lnTo>
                    <a:pt x="3930" y="1751"/>
                  </a:lnTo>
                  <a:lnTo>
                    <a:pt x="3869" y="1842"/>
                  </a:lnTo>
                  <a:lnTo>
                    <a:pt x="3807" y="1931"/>
                  </a:lnTo>
                  <a:lnTo>
                    <a:pt x="3744" y="2020"/>
                  </a:lnTo>
                  <a:lnTo>
                    <a:pt x="3711" y="2062"/>
                  </a:lnTo>
                  <a:lnTo>
                    <a:pt x="3679" y="2104"/>
                  </a:lnTo>
                  <a:lnTo>
                    <a:pt x="3648" y="2144"/>
                  </a:lnTo>
                  <a:lnTo>
                    <a:pt x="3616" y="2182"/>
                  </a:lnTo>
                  <a:lnTo>
                    <a:pt x="3585" y="2218"/>
                  </a:lnTo>
                  <a:lnTo>
                    <a:pt x="3555" y="2253"/>
                  </a:lnTo>
                  <a:lnTo>
                    <a:pt x="3526" y="2284"/>
                  </a:lnTo>
                  <a:lnTo>
                    <a:pt x="3497" y="2313"/>
                  </a:lnTo>
                  <a:lnTo>
                    <a:pt x="3469" y="2340"/>
                  </a:lnTo>
                  <a:lnTo>
                    <a:pt x="3443" y="2364"/>
                  </a:lnTo>
                  <a:lnTo>
                    <a:pt x="3418" y="2385"/>
                  </a:lnTo>
                  <a:lnTo>
                    <a:pt x="3395" y="2401"/>
                  </a:lnTo>
                  <a:lnTo>
                    <a:pt x="3326" y="2447"/>
                  </a:lnTo>
                  <a:lnTo>
                    <a:pt x="3259" y="2498"/>
                  </a:lnTo>
                  <a:lnTo>
                    <a:pt x="3191" y="2552"/>
                  </a:lnTo>
                  <a:lnTo>
                    <a:pt x="3126" y="2609"/>
                  </a:lnTo>
                  <a:lnTo>
                    <a:pt x="3059" y="2670"/>
                  </a:lnTo>
                  <a:lnTo>
                    <a:pt x="2993" y="2732"/>
                  </a:lnTo>
                  <a:lnTo>
                    <a:pt x="2928" y="2797"/>
                  </a:lnTo>
                  <a:lnTo>
                    <a:pt x="2864" y="2865"/>
                  </a:lnTo>
                  <a:lnTo>
                    <a:pt x="2799" y="2934"/>
                  </a:lnTo>
                  <a:lnTo>
                    <a:pt x="2735" y="3005"/>
                  </a:lnTo>
                  <a:lnTo>
                    <a:pt x="2671" y="3079"/>
                  </a:lnTo>
                  <a:lnTo>
                    <a:pt x="2608" y="3153"/>
                  </a:lnTo>
                  <a:lnTo>
                    <a:pt x="2481" y="3304"/>
                  </a:lnTo>
                  <a:lnTo>
                    <a:pt x="2355" y="3458"/>
                  </a:lnTo>
                  <a:lnTo>
                    <a:pt x="2228" y="3613"/>
                  </a:lnTo>
                  <a:lnTo>
                    <a:pt x="2100" y="3767"/>
                  </a:lnTo>
                  <a:lnTo>
                    <a:pt x="2037" y="3843"/>
                  </a:lnTo>
                  <a:lnTo>
                    <a:pt x="1973" y="3917"/>
                  </a:lnTo>
                  <a:lnTo>
                    <a:pt x="1909" y="3991"/>
                  </a:lnTo>
                  <a:lnTo>
                    <a:pt x="1844" y="4063"/>
                  </a:lnTo>
                  <a:lnTo>
                    <a:pt x="1780" y="4133"/>
                  </a:lnTo>
                  <a:lnTo>
                    <a:pt x="1715" y="4201"/>
                  </a:lnTo>
                  <a:lnTo>
                    <a:pt x="1649" y="4268"/>
                  </a:lnTo>
                  <a:lnTo>
                    <a:pt x="1583" y="4332"/>
                  </a:lnTo>
                  <a:lnTo>
                    <a:pt x="1517" y="4392"/>
                  </a:lnTo>
                  <a:lnTo>
                    <a:pt x="1449" y="4450"/>
                  </a:lnTo>
                  <a:lnTo>
                    <a:pt x="1381" y="4506"/>
                  </a:lnTo>
                  <a:lnTo>
                    <a:pt x="1313" y="4558"/>
                  </a:lnTo>
                  <a:lnTo>
                    <a:pt x="1282" y="4573"/>
                  </a:lnTo>
                  <a:lnTo>
                    <a:pt x="1254" y="4576"/>
                  </a:lnTo>
                  <a:lnTo>
                    <a:pt x="1227" y="4564"/>
                  </a:lnTo>
                  <a:lnTo>
                    <a:pt x="1203" y="4539"/>
                  </a:lnTo>
                  <a:lnTo>
                    <a:pt x="1180" y="4503"/>
                  </a:lnTo>
                  <a:lnTo>
                    <a:pt x="1158" y="4456"/>
                  </a:lnTo>
                  <a:lnTo>
                    <a:pt x="1138" y="4399"/>
                  </a:lnTo>
                  <a:lnTo>
                    <a:pt x="1119" y="4332"/>
                  </a:lnTo>
                  <a:lnTo>
                    <a:pt x="1100" y="4257"/>
                  </a:lnTo>
                  <a:lnTo>
                    <a:pt x="1083" y="4174"/>
                  </a:lnTo>
                  <a:lnTo>
                    <a:pt x="1066" y="4086"/>
                  </a:lnTo>
                  <a:lnTo>
                    <a:pt x="1049" y="3991"/>
                  </a:lnTo>
                  <a:lnTo>
                    <a:pt x="1015" y="3787"/>
                  </a:lnTo>
                  <a:lnTo>
                    <a:pt x="980" y="3570"/>
                  </a:lnTo>
                  <a:lnTo>
                    <a:pt x="960" y="3458"/>
                  </a:lnTo>
                  <a:lnTo>
                    <a:pt x="941" y="3346"/>
                  </a:lnTo>
                  <a:lnTo>
                    <a:pt x="919" y="3235"/>
                  </a:lnTo>
                  <a:lnTo>
                    <a:pt x="897" y="3124"/>
                  </a:lnTo>
                  <a:lnTo>
                    <a:pt x="873" y="3015"/>
                  </a:lnTo>
                  <a:lnTo>
                    <a:pt x="847" y="2909"/>
                  </a:lnTo>
                  <a:lnTo>
                    <a:pt x="819" y="2807"/>
                  </a:lnTo>
                  <a:lnTo>
                    <a:pt x="789" y="2708"/>
                  </a:lnTo>
                  <a:lnTo>
                    <a:pt x="756" y="2617"/>
                  </a:lnTo>
                  <a:lnTo>
                    <a:pt x="720" y="2529"/>
                  </a:lnTo>
                  <a:lnTo>
                    <a:pt x="682" y="2450"/>
                  </a:lnTo>
                  <a:lnTo>
                    <a:pt x="642" y="2378"/>
                  </a:lnTo>
                  <a:lnTo>
                    <a:pt x="596" y="2316"/>
                  </a:lnTo>
                  <a:lnTo>
                    <a:pt x="549" y="2263"/>
                  </a:lnTo>
                  <a:lnTo>
                    <a:pt x="497" y="2219"/>
                  </a:lnTo>
                  <a:lnTo>
                    <a:pt x="441" y="2188"/>
                  </a:lnTo>
                  <a:lnTo>
                    <a:pt x="385" y="2160"/>
                  </a:lnTo>
                  <a:lnTo>
                    <a:pt x="334" y="2127"/>
                  </a:lnTo>
                  <a:lnTo>
                    <a:pt x="285" y="2090"/>
                  </a:lnTo>
                  <a:lnTo>
                    <a:pt x="241" y="2049"/>
                  </a:lnTo>
                  <a:lnTo>
                    <a:pt x="200" y="2005"/>
                  </a:lnTo>
                  <a:lnTo>
                    <a:pt x="164" y="1956"/>
                  </a:lnTo>
                  <a:lnTo>
                    <a:pt x="130" y="1904"/>
                  </a:lnTo>
                  <a:lnTo>
                    <a:pt x="101" y="1850"/>
                  </a:lnTo>
                  <a:lnTo>
                    <a:pt x="75" y="1793"/>
                  </a:lnTo>
                  <a:lnTo>
                    <a:pt x="54" y="1734"/>
                  </a:lnTo>
                  <a:lnTo>
                    <a:pt x="35" y="1672"/>
                  </a:lnTo>
                  <a:lnTo>
                    <a:pt x="21" y="1610"/>
                  </a:lnTo>
                  <a:lnTo>
                    <a:pt x="11" y="1545"/>
                  </a:lnTo>
                  <a:lnTo>
                    <a:pt x="3" y="1479"/>
                  </a:lnTo>
                  <a:lnTo>
                    <a:pt x="0" y="1412"/>
                  </a:lnTo>
                  <a:lnTo>
                    <a:pt x="1" y="1344"/>
                  </a:lnTo>
                  <a:lnTo>
                    <a:pt x="5" y="1276"/>
                  </a:lnTo>
                  <a:lnTo>
                    <a:pt x="13" y="1208"/>
                  </a:lnTo>
                  <a:lnTo>
                    <a:pt x="25" y="1139"/>
                  </a:lnTo>
                  <a:lnTo>
                    <a:pt x="41" y="1072"/>
                  </a:lnTo>
                  <a:lnTo>
                    <a:pt x="60" y="1005"/>
                  </a:lnTo>
                  <a:lnTo>
                    <a:pt x="83" y="938"/>
                  </a:lnTo>
                  <a:lnTo>
                    <a:pt x="110" y="874"/>
                  </a:lnTo>
                  <a:lnTo>
                    <a:pt x="140" y="811"/>
                  </a:lnTo>
                  <a:lnTo>
                    <a:pt x="174" y="749"/>
                  </a:lnTo>
                  <a:lnTo>
                    <a:pt x="212" y="690"/>
                  </a:lnTo>
                  <a:lnTo>
                    <a:pt x="253" y="633"/>
                  </a:lnTo>
                  <a:lnTo>
                    <a:pt x="298" y="578"/>
                  </a:lnTo>
                  <a:lnTo>
                    <a:pt x="348" y="527"/>
                  </a:lnTo>
                  <a:lnTo>
                    <a:pt x="400" y="479"/>
                  </a:lnTo>
                  <a:lnTo>
                    <a:pt x="456" y="433"/>
                  </a:lnTo>
                  <a:lnTo>
                    <a:pt x="517" y="392"/>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6674040" y="3957480"/>
              <a:ext cx="543600" cy="370080"/>
            </a:xfrm>
            <a:custGeom>
              <a:avLst/>
              <a:gdLst/>
              <a:ahLst/>
              <a:rect l="l" t="t" r="r" b="b"/>
              <a:pathLst>
                <a:path w="4342" h="2680">
                  <a:moveTo>
                    <a:pt x="0" y="193"/>
                  </a:moveTo>
                  <a:lnTo>
                    <a:pt x="225" y="0"/>
                  </a:lnTo>
                  <a:lnTo>
                    <a:pt x="4342" y="2487"/>
                  </a:lnTo>
                  <a:lnTo>
                    <a:pt x="4118" y="2680"/>
                  </a:lnTo>
                  <a:lnTo>
                    <a:pt x="0" y="19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7184160" y="3839760"/>
              <a:ext cx="209880" cy="148680"/>
            </a:xfrm>
            <a:custGeom>
              <a:avLst/>
              <a:gdLst/>
              <a:ahLst/>
              <a:rect l="l" t="t" r="r" b="b"/>
              <a:pathLst>
                <a:path w="1683" h="1078">
                  <a:moveTo>
                    <a:pt x="0" y="211"/>
                  </a:moveTo>
                  <a:lnTo>
                    <a:pt x="244" y="0"/>
                  </a:lnTo>
                  <a:lnTo>
                    <a:pt x="1683" y="868"/>
                  </a:lnTo>
                  <a:lnTo>
                    <a:pt x="1437" y="1078"/>
                  </a:lnTo>
                  <a:lnTo>
                    <a:pt x="0" y="211"/>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a:off x="7597080" y="3882240"/>
              <a:ext cx="35640" cy="28584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7549200" y="3909240"/>
              <a:ext cx="35640" cy="246600"/>
            </a:xfrm>
            <a:custGeom>
              <a:avLst/>
              <a:gdLst/>
              <a:ahLst/>
              <a:rect l="l" t="t" r="r" b="b"/>
              <a:pathLst>
                <a:path w="287" h="1786">
                  <a:moveTo>
                    <a:pt x="287" y="0"/>
                  </a:moveTo>
                  <a:lnTo>
                    <a:pt x="280" y="68"/>
                  </a:lnTo>
                  <a:lnTo>
                    <a:pt x="273" y="133"/>
                  </a:lnTo>
                  <a:lnTo>
                    <a:pt x="265" y="196"/>
                  </a:lnTo>
                  <a:lnTo>
                    <a:pt x="257" y="256"/>
                  </a:lnTo>
                  <a:lnTo>
                    <a:pt x="247" y="315"/>
                  </a:lnTo>
                  <a:lnTo>
                    <a:pt x="237" y="373"/>
                  </a:lnTo>
                  <a:lnTo>
                    <a:pt x="226" y="428"/>
                  </a:lnTo>
                  <a:lnTo>
                    <a:pt x="216" y="482"/>
                  </a:lnTo>
                  <a:lnTo>
                    <a:pt x="192" y="585"/>
                  </a:lnTo>
                  <a:lnTo>
                    <a:pt x="168" y="687"/>
                  </a:lnTo>
                  <a:lnTo>
                    <a:pt x="143" y="784"/>
                  </a:lnTo>
                  <a:lnTo>
                    <a:pt x="120" y="882"/>
                  </a:lnTo>
                  <a:lnTo>
                    <a:pt x="96" y="979"/>
                  </a:lnTo>
                  <a:lnTo>
                    <a:pt x="75" y="1078"/>
                  </a:lnTo>
                  <a:lnTo>
                    <a:pt x="64" y="1129"/>
                  </a:lnTo>
                  <a:lnTo>
                    <a:pt x="54" y="1181"/>
                  </a:lnTo>
                  <a:lnTo>
                    <a:pt x="44" y="1234"/>
                  </a:lnTo>
                  <a:lnTo>
                    <a:pt x="36" y="1288"/>
                  </a:lnTo>
                  <a:lnTo>
                    <a:pt x="28" y="1343"/>
                  </a:lnTo>
                  <a:lnTo>
                    <a:pt x="22" y="1400"/>
                  </a:lnTo>
                  <a:lnTo>
                    <a:pt x="15" y="1459"/>
                  </a:lnTo>
                  <a:lnTo>
                    <a:pt x="10" y="1520"/>
                  </a:lnTo>
                  <a:lnTo>
                    <a:pt x="6" y="1582"/>
                  </a:lnTo>
                  <a:lnTo>
                    <a:pt x="4" y="1648"/>
                  </a:lnTo>
                  <a:lnTo>
                    <a:pt x="1" y="1716"/>
                  </a:lnTo>
                  <a:lnTo>
                    <a:pt x="0" y="178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7446600" y="3909240"/>
              <a:ext cx="102960" cy="198000"/>
            </a:xfrm>
            <a:custGeom>
              <a:avLst/>
              <a:gdLst/>
              <a:ahLst/>
              <a:rect l="l" t="t" r="r" b="b"/>
              <a:pathLst>
                <a:path w="827" h="1436">
                  <a:moveTo>
                    <a:pt x="827" y="0"/>
                  </a:moveTo>
                  <a:lnTo>
                    <a:pt x="803" y="69"/>
                  </a:lnTo>
                  <a:lnTo>
                    <a:pt x="778" y="134"/>
                  </a:lnTo>
                  <a:lnTo>
                    <a:pt x="753" y="193"/>
                  </a:lnTo>
                  <a:lnTo>
                    <a:pt x="729" y="250"/>
                  </a:lnTo>
                  <a:lnTo>
                    <a:pt x="704" y="301"/>
                  </a:lnTo>
                  <a:lnTo>
                    <a:pt x="678" y="349"/>
                  </a:lnTo>
                  <a:lnTo>
                    <a:pt x="652" y="394"/>
                  </a:lnTo>
                  <a:lnTo>
                    <a:pt x="626" y="435"/>
                  </a:lnTo>
                  <a:lnTo>
                    <a:pt x="599" y="475"/>
                  </a:lnTo>
                  <a:lnTo>
                    <a:pt x="574" y="512"/>
                  </a:lnTo>
                  <a:lnTo>
                    <a:pt x="547" y="547"/>
                  </a:lnTo>
                  <a:lnTo>
                    <a:pt x="521" y="581"/>
                  </a:lnTo>
                  <a:lnTo>
                    <a:pt x="467" y="645"/>
                  </a:lnTo>
                  <a:lnTo>
                    <a:pt x="413" y="706"/>
                  </a:lnTo>
                  <a:lnTo>
                    <a:pt x="359" y="768"/>
                  </a:lnTo>
                  <a:lnTo>
                    <a:pt x="307" y="833"/>
                  </a:lnTo>
                  <a:lnTo>
                    <a:pt x="280" y="868"/>
                  </a:lnTo>
                  <a:lnTo>
                    <a:pt x="253" y="904"/>
                  </a:lnTo>
                  <a:lnTo>
                    <a:pt x="227" y="942"/>
                  </a:lnTo>
                  <a:lnTo>
                    <a:pt x="201" y="982"/>
                  </a:lnTo>
                  <a:lnTo>
                    <a:pt x="174" y="1027"/>
                  </a:lnTo>
                  <a:lnTo>
                    <a:pt x="149" y="1073"/>
                  </a:lnTo>
                  <a:lnTo>
                    <a:pt x="123" y="1123"/>
                  </a:lnTo>
                  <a:lnTo>
                    <a:pt x="98" y="1177"/>
                  </a:lnTo>
                  <a:lnTo>
                    <a:pt x="73" y="1234"/>
                  </a:lnTo>
                  <a:lnTo>
                    <a:pt x="48" y="1296"/>
                  </a:lnTo>
                  <a:lnTo>
                    <a:pt x="23" y="1363"/>
                  </a:lnTo>
                  <a:lnTo>
                    <a:pt x="0" y="1436"/>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529760" y="3592080"/>
              <a:ext cx="7560" cy="250200"/>
            </a:xfrm>
            <a:prstGeom prst="line">
              <a:avLst/>
            </a:prstGeom>
            <a:ln w="1800">
              <a:solidFill>
                <a:srgbClr val="66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7409880" y="3623040"/>
              <a:ext cx="59400" cy="232920"/>
            </a:xfrm>
            <a:custGeom>
              <a:avLst/>
              <a:gdLst/>
              <a:ahLst/>
              <a:rect l="l" t="t" r="r" b="b"/>
              <a:pathLst>
                <a:path w="477" h="1690">
                  <a:moveTo>
                    <a:pt x="477" y="0"/>
                  </a:moveTo>
                  <a:lnTo>
                    <a:pt x="465" y="134"/>
                  </a:lnTo>
                  <a:lnTo>
                    <a:pt x="452" y="262"/>
                  </a:lnTo>
                  <a:lnTo>
                    <a:pt x="439" y="384"/>
                  </a:lnTo>
                  <a:lnTo>
                    <a:pt x="425" y="502"/>
                  </a:lnTo>
                  <a:lnTo>
                    <a:pt x="417" y="559"/>
                  </a:lnTo>
                  <a:lnTo>
                    <a:pt x="409" y="614"/>
                  </a:lnTo>
                  <a:lnTo>
                    <a:pt x="399" y="669"/>
                  </a:lnTo>
                  <a:lnTo>
                    <a:pt x="391" y="722"/>
                  </a:lnTo>
                  <a:lnTo>
                    <a:pt x="380" y="775"/>
                  </a:lnTo>
                  <a:lnTo>
                    <a:pt x="369" y="827"/>
                  </a:lnTo>
                  <a:lnTo>
                    <a:pt x="359" y="879"/>
                  </a:lnTo>
                  <a:lnTo>
                    <a:pt x="346" y="928"/>
                  </a:lnTo>
                  <a:lnTo>
                    <a:pt x="333" y="979"/>
                  </a:lnTo>
                  <a:lnTo>
                    <a:pt x="319" y="1028"/>
                  </a:lnTo>
                  <a:lnTo>
                    <a:pt x="304" y="1076"/>
                  </a:lnTo>
                  <a:lnTo>
                    <a:pt x="287" y="1125"/>
                  </a:lnTo>
                  <a:lnTo>
                    <a:pt x="271" y="1172"/>
                  </a:lnTo>
                  <a:lnTo>
                    <a:pt x="253" y="1220"/>
                  </a:lnTo>
                  <a:lnTo>
                    <a:pt x="234" y="1267"/>
                  </a:lnTo>
                  <a:lnTo>
                    <a:pt x="213" y="1314"/>
                  </a:lnTo>
                  <a:lnTo>
                    <a:pt x="192" y="1361"/>
                  </a:lnTo>
                  <a:lnTo>
                    <a:pt x="169" y="1407"/>
                  </a:lnTo>
                  <a:lnTo>
                    <a:pt x="144" y="1454"/>
                  </a:lnTo>
                  <a:lnTo>
                    <a:pt x="118" y="1501"/>
                  </a:lnTo>
                  <a:lnTo>
                    <a:pt x="92" y="1548"/>
                  </a:lnTo>
                  <a:lnTo>
                    <a:pt x="62" y="1595"/>
                  </a:lnTo>
                  <a:lnTo>
                    <a:pt x="32" y="1643"/>
                  </a:lnTo>
                  <a:lnTo>
                    <a:pt x="0" y="169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7302240" y="3666600"/>
              <a:ext cx="107640" cy="172080"/>
            </a:xfrm>
            <a:custGeom>
              <a:avLst/>
              <a:gdLst/>
              <a:ahLst/>
              <a:rect l="l" t="t" r="r" b="b"/>
              <a:pathLst>
                <a:path w="859" h="1245">
                  <a:moveTo>
                    <a:pt x="859" y="0"/>
                  </a:moveTo>
                  <a:lnTo>
                    <a:pt x="835" y="71"/>
                  </a:lnTo>
                  <a:lnTo>
                    <a:pt x="812" y="138"/>
                  </a:lnTo>
                  <a:lnTo>
                    <a:pt x="789" y="200"/>
                  </a:lnTo>
                  <a:lnTo>
                    <a:pt x="765" y="259"/>
                  </a:lnTo>
                  <a:lnTo>
                    <a:pt x="743" y="317"/>
                  </a:lnTo>
                  <a:lnTo>
                    <a:pt x="720" y="370"/>
                  </a:lnTo>
                  <a:lnTo>
                    <a:pt x="698" y="420"/>
                  </a:lnTo>
                  <a:lnTo>
                    <a:pt x="676" y="469"/>
                  </a:lnTo>
                  <a:lnTo>
                    <a:pt x="654" y="514"/>
                  </a:lnTo>
                  <a:lnTo>
                    <a:pt x="630" y="557"/>
                  </a:lnTo>
                  <a:lnTo>
                    <a:pt x="607" y="599"/>
                  </a:lnTo>
                  <a:lnTo>
                    <a:pt x="585" y="638"/>
                  </a:lnTo>
                  <a:lnTo>
                    <a:pt x="561" y="676"/>
                  </a:lnTo>
                  <a:lnTo>
                    <a:pt x="537" y="712"/>
                  </a:lnTo>
                  <a:lnTo>
                    <a:pt x="514" y="745"/>
                  </a:lnTo>
                  <a:lnTo>
                    <a:pt x="489" y="779"/>
                  </a:lnTo>
                  <a:lnTo>
                    <a:pt x="464" y="810"/>
                  </a:lnTo>
                  <a:lnTo>
                    <a:pt x="439" y="840"/>
                  </a:lnTo>
                  <a:lnTo>
                    <a:pt x="413" y="870"/>
                  </a:lnTo>
                  <a:lnTo>
                    <a:pt x="386" y="898"/>
                  </a:lnTo>
                  <a:lnTo>
                    <a:pt x="360" y="928"/>
                  </a:lnTo>
                  <a:lnTo>
                    <a:pt x="332" y="955"/>
                  </a:lnTo>
                  <a:lnTo>
                    <a:pt x="303" y="983"/>
                  </a:lnTo>
                  <a:lnTo>
                    <a:pt x="273" y="1010"/>
                  </a:lnTo>
                  <a:lnTo>
                    <a:pt x="211" y="1065"/>
                  </a:lnTo>
                  <a:lnTo>
                    <a:pt x="145" y="1122"/>
                  </a:lnTo>
                  <a:lnTo>
                    <a:pt x="75" y="1181"/>
                  </a:lnTo>
                  <a:lnTo>
                    <a:pt x="0" y="1245"/>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7613280" y="3635640"/>
              <a:ext cx="27000" cy="198000"/>
            </a:xfrm>
            <a:custGeom>
              <a:avLst/>
              <a:gdLst/>
              <a:ahLst/>
              <a:rect l="l" t="t" r="r" b="b"/>
              <a:pathLst>
                <a:path w="215" h="1434">
                  <a:moveTo>
                    <a:pt x="25" y="0"/>
                  </a:moveTo>
                  <a:lnTo>
                    <a:pt x="25" y="54"/>
                  </a:lnTo>
                  <a:lnTo>
                    <a:pt x="24" y="107"/>
                  </a:lnTo>
                  <a:lnTo>
                    <a:pt x="22" y="160"/>
                  </a:lnTo>
                  <a:lnTo>
                    <a:pt x="21" y="211"/>
                  </a:lnTo>
                  <a:lnTo>
                    <a:pt x="15" y="310"/>
                  </a:lnTo>
                  <a:lnTo>
                    <a:pt x="10" y="406"/>
                  </a:lnTo>
                  <a:lnTo>
                    <a:pt x="5" y="500"/>
                  </a:lnTo>
                  <a:lnTo>
                    <a:pt x="1" y="590"/>
                  </a:lnTo>
                  <a:lnTo>
                    <a:pt x="0" y="635"/>
                  </a:lnTo>
                  <a:lnTo>
                    <a:pt x="0" y="679"/>
                  </a:lnTo>
                  <a:lnTo>
                    <a:pt x="0" y="722"/>
                  </a:lnTo>
                  <a:lnTo>
                    <a:pt x="1" y="765"/>
                  </a:lnTo>
                  <a:lnTo>
                    <a:pt x="3" y="807"/>
                  </a:lnTo>
                  <a:lnTo>
                    <a:pt x="7" y="849"/>
                  </a:lnTo>
                  <a:lnTo>
                    <a:pt x="10" y="892"/>
                  </a:lnTo>
                  <a:lnTo>
                    <a:pt x="15" y="934"/>
                  </a:lnTo>
                  <a:lnTo>
                    <a:pt x="23" y="976"/>
                  </a:lnTo>
                  <a:lnTo>
                    <a:pt x="30" y="1017"/>
                  </a:lnTo>
                  <a:lnTo>
                    <a:pt x="40" y="1059"/>
                  </a:lnTo>
                  <a:lnTo>
                    <a:pt x="52" y="1100"/>
                  </a:lnTo>
                  <a:lnTo>
                    <a:pt x="65" y="1141"/>
                  </a:lnTo>
                  <a:lnTo>
                    <a:pt x="80" y="1183"/>
                  </a:lnTo>
                  <a:lnTo>
                    <a:pt x="97" y="1224"/>
                  </a:lnTo>
                  <a:lnTo>
                    <a:pt x="116" y="1266"/>
                  </a:lnTo>
                  <a:lnTo>
                    <a:pt x="138" y="1307"/>
                  </a:lnTo>
                  <a:lnTo>
                    <a:pt x="162" y="1349"/>
                  </a:lnTo>
                  <a:lnTo>
                    <a:pt x="187" y="1392"/>
                  </a:lnTo>
                  <a:lnTo>
                    <a:pt x="215" y="1434"/>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7299000" y="3671280"/>
              <a:ext cx="409680" cy="201600"/>
            </a:xfrm>
            <a:custGeom>
              <a:avLst/>
              <a:gdLst/>
              <a:ahLst/>
              <a:rect l="l" t="t" r="r" b="b"/>
              <a:pathLst>
                <a:path w="3276" h="1467">
                  <a:moveTo>
                    <a:pt x="1639" y="0"/>
                  </a:moveTo>
                  <a:lnTo>
                    <a:pt x="1723" y="1"/>
                  </a:lnTo>
                  <a:lnTo>
                    <a:pt x="1806" y="4"/>
                  </a:lnTo>
                  <a:lnTo>
                    <a:pt x="1887" y="8"/>
                  </a:lnTo>
                  <a:lnTo>
                    <a:pt x="1968" y="15"/>
                  </a:lnTo>
                  <a:lnTo>
                    <a:pt x="2047" y="22"/>
                  </a:lnTo>
                  <a:lnTo>
                    <a:pt x="2124" y="33"/>
                  </a:lnTo>
                  <a:lnTo>
                    <a:pt x="2201" y="44"/>
                  </a:lnTo>
                  <a:lnTo>
                    <a:pt x="2275" y="58"/>
                  </a:lnTo>
                  <a:lnTo>
                    <a:pt x="2347" y="72"/>
                  </a:lnTo>
                  <a:lnTo>
                    <a:pt x="2418" y="88"/>
                  </a:lnTo>
                  <a:lnTo>
                    <a:pt x="2487" y="107"/>
                  </a:lnTo>
                  <a:lnTo>
                    <a:pt x="2554" y="125"/>
                  </a:lnTo>
                  <a:lnTo>
                    <a:pt x="2617" y="146"/>
                  </a:lnTo>
                  <a:lnTo>
                    <a:pt x="2680" y="168"/>
                  </a:lnTo>
                  <a:lnTo>
                    <a:pt x="2739" y="191"/>
                  </a:lnTo>
                  <a:lnTo>
                    <a:pt x="2796" y="215"/>
                  </a:lnTo>
                  <a:lnTo>
                    <a:pt x="2850" y="240"/>
                  </a:lnTo>
                  <a:lnTo>
                    <a:pt x="2902" y="267"/>
                  </a:lnTo>
                  <a:lnTo>
                    <a:pt x="2950" y="294"/>
                  </a:lnTo>
                  <a:lnTo>
                    <a:pt x="2996" y="324"/>
                  </a:lnTo>
                  <a:lnTo>
                    <a:pt x="3040" y="354"/>
                  </a:lnTo>
                  <a:lnTo>
                    <a:pt x="3078" y="384"/>
                  </a:lnTo>
                  <a:lnTo>
                    <a:pt x="3115" y="415"/>
                  </a:lnTo>
                  <a:lnTo>
                    <a:pt x="3148" y="448"/>
                  </a:lnTo>
                  <a:lnTo>
                    <a:pt x="3177" y="481"/>
                  </a:lnTo>
                  <a:lnTo>
                    <a:pt x="3203" y="516"/>
                  </a:lnTo>
                  <a:lnTo>
                    <a:pt x="3225" y="550"/>
                  </a:lnTo>
                  <a:lnTo>
                    <a:pt x="3243" y="586"/>
                  </a:lnTo>
                  <a:lnTo>
                    <a:pt x="3258" y="621"/>
                  </a:lnTo>
                  <a:lnTo>
                    <a:pt x="3269" y="658"/>
                  </a:lnTo>
                  <a:lnTo>
                    <a:pt x="3274" y="696"/>
                  </a:lnTo>
                  <a:lnTo>
                    <a:pt x="3276" y="733"/>
                  </a:lnTo>
                  <a:lnTo>
                    <a:pt x="3274" y="770"/>
                  </a:lnTo>
                  <a:lnTo>
                    <a:pt x="3269" y="808"/>
                  </a:lnTo>
                  <a:lnTo>
                    <a:pt x="3258" y="845"/>
                  </a:lnTo>
                  <a:lnTo>
                    <a:pt x="3243" y="881"/>
                  </a:lnTo>
                  <a:lnTo>
                    <a:pt x="3225" y="916"/>
                  </a:lnTo>
                  <a:lnTo>
                    <a:pt x="3203" y="951"/>
                  </a:lnTo>
                  <a:lnTo>
                    <a:pt x="3177" y="985"/>
                  </a:lnTo>
                  <a:lnTo>
                    <a:pt x="3148" y="1019"/>
                  </a:lnTo>
                  <a:lnTo>
                    <a:pt x="3115" y="1051"/>
                  </a:lnTo>
                  <a:lnTo>
                    <a:pt x="3078" y="1082"/>
                  </a:lnTo>
                  <a:lnTo>
                    <a:pt x="3040" y="1113"/>
                  </a:lnTo>
                  <a:lnTo>
                    <a:pt x="2996" y="1143"/>
                  </a:lnTo>
                  <a:lnTo>
                    <a:pt x="2950" y="1172"/>
                  </a:lnTo>
                  <a:lnTo>
                    <a:pt x="2902" y="1199"/>
                  </a:lnTo>
                  <a:lnTo>
                    <a:pt x="2850" y="1226"/>
                  </a:lnTo>
                  <a:lnTo>
                    <a:pt x="2796" y="1252"/>
                  </a:lnTo>
                  <a:lnTo>
                    <a:pt x="2739" y="1276"/>
                  </a:lnTo>
                  <a:lnTo>
                    <a:pt x="2680" y="1299"/>
                  </a:lnTo>
                  <a:lnTo>
                    <a:pt x="2617" y="1321"/>
                  </a:lnTo>
                  <a:lnTo>
                    <a:pt x="2554" y="1341"/>
                  </a:lnTo>
                  <a:lnTo>
                    <a:pt x="2487" y="1360"/>
                  </a:lnTo>
                  <a:lnTo>
                    <a:pt x="2418" y="1378"/>
                  </a:lnTo>
                  <a:lnTo>
                    <a:pt x="2347" y="1394"/>
                  </a:lnTo>
                  <a:lnTo>
                    <a:pt x="2275" y="1408"/>
                  </a:lnTo>
                  <a:lnTo>
                    <a:pt x="2201" y="1422"/>
                  </a:lnTo>
                  <a:lnTo>
                    <a:pt x="2124" y="1433"/>
                  </a:lnTo>
                  <a:lnTo>
                    <a:pt x="2047" y="1444"/>
                  </a:lnTo>
                  <a:lnTo>
                    <a:pt x="1968" y="1451"/>
                  </a:lnTo>
                  <a:lnTo>
                    <a:pt x="1887" y="1458"/>
                  </a:lnTo>
                  <a:lnTo>
                    <a:pt x="1806" y="1462"/>
                  </a:lnTo>
                  <a:lnTo>
                    <a:pt x="1723" y="1465"/>
                  </a:lnTo>
                  <a:lnTo>
                    <a:pt x="1639" y="1467"/>
                  </a:lnTo>
                  <a:lnTo>
                    <a:pt x="1555" y="1465"/>
                  </a:lnTo>
                  <a:lnTo>
                    <a:pt x="1472" y="1462"/>
                  </a:lnTo>
                  <a:lnTo>
                    <a:pt x="1390" y="1458"/>
                  </a:lnTo>
                  <a:lnTo>
                    <a:pt x="1309" y="1451"/>
                  </a:lnTo>
                  <a:lnTo>
                    <a:pt x="1230" y="1444"/>
                  </a:lnTo>
                  <a:lnTo>
                    <a:pt x="1152" y="1433"/>
                  </a:lnTo>
                  <a:lnTo>
                    <a:pt x="1077" y="1422"/>
                  </a:lnTo>
                  <a:lnTo>
                    <a:pt x="1002" y="1408"/>
                  </a:lnTo>
                  <a:lnTo>
                    <a:pt x="929" y="1394"/>
                  </a:lnTo>
                  <a:lnTo>
                    <a:pt x="859" y="1378"/>
                  </a:lnTo>
                  <a:lnTo>
                    <a:pt x="790" y="1360"/>
                  </a:lnTo>
                  <a:lnTo>
                    <a:pt x="724" y="1341"/>
                  </a:lnTo>
                  <a:lnTo>
                    <a:pt x="660" y="1321"/>
                  </a:lnTo>
                  <a:lnTo>
                    <a:pt x="598" y="1299"/>
                  </a:lnTo>
                  <a:lnTo>
                    <a:pt x="538" y="1276"/>
                  </a:lnTo>
                  <a:lnTo>
                    <a:pt x="481" y="1252"/>
                  </a:lnTo>
                  <a:lnTo>
                    <a:pt x="426" y="1226"/>
                  </a:lnTo>
                  <a:lnTo>
                    <a:pt x="376" y="1199"/>
                  </a:lnTo>
                  <a:lnTo>
                    <a:pt x="326" y="1172"/>
                  </a:lnTo>
                  <a:lnTo>
                    <a:pt x="281" y="1143"/>
                  </a:lnTo>
                  <a:lnTo>
                    <a:pt x="238" y="1113"/>
                  </a:lnTo>
                  <a:lnTo>
                    <a:pt x="198" y="1082"/>
                  </a:lnTo>
                  <a:lnTo>
                    <a:pt x="163" y="1051"/>
                  </a:lnTo>
                  <a:lnTo>
                    <a:pt x="129" y="1019"/>
                  </a:lnTo>
                  <a:lnTo>
                    <a:pt x="100" y="985"/>
                  </a:lnTo>
                  <a:lnTo>
                    <a:pt x="74" y="951"/>
                  </a:lnTo>
                  <a:lnTo>
                    <a:pt x="52" y="916"/>
                  </a:lnTo>
                  <a:lnTo>
                    <a:pt x="33" y="881"/>
                  </a:lnTo>
                  <a:lnTo>
                    <a:pt x="19" y="845"/>
                  </a:lnTo>
                  <a:lnTo>
                    <a:pt x="9" y="808"/>
                  </a:lnTo>
                  <a:lnTo>
                    <a:pt x="2" y="770"/>
                  </a:lnTo>
                  <a:lnTo>
                    <a:pt x="0" y="733"/>
                  </a:lnTo>
                  <a:lnTo>
                    <a:pt x="2" y="696"/>
                  </a:lnTo>
                  <a:lnTo>
                    <a:pt x="9" y="658"/>
                  </a:lnTo>
                  <a:lnTo>
                    <a:pt x="19" y="621"/>
                  </a:lnTo>
                  <a:lnTo>
                    <a:pt x="33" y="586"/>
                  </a:lnTo>
                  <a:lnTo>
                    <a:pt x="52" y="550"/>
                  </a:lnTo>
                  <a:lnTo>
                    <a:pt x="74" y="516"/>
                  </a:lnTo>
                  <a:lnTo>
                    <a:pt x="100" y="481"/>
                  </a:lnTo>
                  <a:lnTo>
                    <a:pt x="129" y="448"/>
                  </a:lnTo>
                  <a:lnTo>
                    <a:pt x="163" y="415"/>
                  </a:lnTo>
                  <a:lnTo>
                    <a:pt x="198" y="384"/>
                  </a:lnTo>
                  <a:lnTo>
                    <a:pt x="238" y="354"/>
                  </a:lnTo>
                  <a:lnTo>
                    <a:pt x="281" y="324"/>
                  </a:lnTo>
                  <a:lnTo>
                    <a:pt x="326" y="294"/>
                  </a:lnTo>
                  <a:lnTo>
                    <a:pt x="376" y="267"/>
                  </a:lnTo>
                  <a:lnTo>
                    <a:pt x="426" y="240"/>
                  </a:lnTo>
                  <a:lnTo>
                    <a:pt x="481" y="215"/>
                  </a:lnTo>
                  <a:lnTo>
                    <a:pt x="538" y="191"/>
                  </a:lnTo>
                  <a:lnTo>
                    <a:pt x="598" y="168"/>
                  </a:lnTo>
                  <a:lnTo>
                    <a:pt x="660" y="146"/>
                  </a:lnTo>
                  <a:lnTo>
                    <a:pt x="724" y="125"/>
                  </a:lnTo>
                  <a:lnTo>
                    <a:pt x="790" y="107"/>
                  </a:lnTo>
                  <a:lnTo>
                    <a:pt x="859" y="88"/>
                  </a:lnTo>
                  <a:lnTo>
                    <a:pt x="929" y="72"/>
                  </a:lnTo>
                  <a:lnTo>
                    <a:pt x="1002" y="58"/>
                  </a:lnTo>
                  <a:lnTo>
                    <a:pt x="1077" y="44"/>
                  </a:lnTo>
                  <a:lnTo>
                    <a:pt x="1152" y="33"/>
                  </a:lnTo>
                  <a:lnTo>
                    <a:pt x="1230" y="22"/>
                  </a:lnTo>
                  <a:lnTo>
                    <a:pt x="1309" y="15"/>
                  </a:lnTo>
                  <a:lnTo>
                    <a:pt x="1390" y="8"/>
                  </a:lnTo>
                  <a:lnTo>
                    <a:pt x="1472" y="4"/>
                  </a:lnTo>
                  <a:lnTo>
                    <a:pt x="1555" y="1"/>
                  </a:lnTo>
                  <a:lnTo>
                    <a:pt x="1639"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7350840" y="3754440"/>
              <a:ext cx="329760" cy="110160"/>
            </a:xfrm>
            <a:custGeom>
              <a:avLst/>
              <a:gdLst/>
              <a:ahLst/>
              <a:rect l="l" t="t" r="r" b="b"/>
              <a:pathLst>
                <a:path w="2640" h="798">
                  <a:moveTo>
                    <a:pt x="1320" y="0"/>
                  </a:moveTo>
                  <a:lnTo>
                    <a:pt x="1388" y="1"/>
                  </a:lnTo>
                  <a:lnTo>
                    <a:pt x="1455" y="2"/>
                  </a:lnTo>
                  <a:lnTo>
                    <a:pt x="1520" y="6"/>
                  </a:lnTo>
                  <a:lnTo>
                    <a:pt x="1586" y="9"/>
                  </a:lnTo>
                  <a:lnTo>
                    <a:pt x="1649" y="13"/>
                  </a:lnTo>
                  <a:lnTo>
                    <a:pt x="1712" y="19"/>
                  </a:lnTo>
                  <a:lnTo>
                    <a:pt x="1773" y="25"/>
                  </a:lnTo>
                  <a:lnTo>
                    <a:pt x="1833" y="32"/>
                  </a:lnTo>
                  <a:lnTo>
                    <a:pt x="1892" y="40"/>
                  </a:lnTo>
                  <a:lnTo>
                    <a:pt x="1949" y="49"/>
                  </a:lnTo>
                  <a:lnTo>
                    <a:pt x="2004" y="59"/>
                  </a:lnTo>
                  <a:lnTo>
                    <a:pt x="2057" y="69"/>
                  </a:lnTo>
                  <a:lnTo>
                    <a:pt x="2109" y="80"/>
                  </a:lnTo>
                  <a:lnTo>
                    <a:pt x="2159" y="92"/>
                  </a:lnTo>
                  <a:lnTo>
                    <a:pt x="2207" y="104"/>
                  </a:lnTo>
                  <a:lnTo>
                    <a:pt x="2253" y="118"/>
                  </a:lnTo>
                  <a:lnTo>
                    <a:pt x="2296" y="132"/>
                  </a:lnTo>
                  <a:lnTo>
                    <a:pt x="2338" y="146"/>
                  </a:lnTo>
                  <a:lnTo>
                    <a:pt x="2377" y="161"/>
                  </a:lnTo>
                  <a:lnTo>
                    <a:pt x="2414" y="176"/>
                  </a:lnTo>
                  <a:lnTo>
                    <a:pt x="2448" y="192"/>
                  </a:lnTo>
                  <a:lnTo>
                    <a:pt x="2481" y="210"/>
                  </a:lnTo>
                  <a:lnTo>
                    <a:pt x="2510" y="227"/>
                  </a:lnTo>
                  <a:lnTo>
                    <a:pt x="2537" y="244"/>
                  </a:lnTo>
                  <a:lnTo>
                    <a:pt x="2560" y="263"/>
                  </a:lnTo>
                  <a:lnTo>
                    <a:pt x="2581" y="281"/>
                  </a:lnTo>
                  <a:lnTo>
                    <a:pt x="2599" y="300"/>
                  </a:lnTo>
                  <a:lnTo>
                    <a:pt x="2613" y="319"/>
                  </a:lnTo>
                  <a:lnTo>
                    <a:pt x="2625" y="339"/>
                  </a:lnTo>
                  <a:lnTo>
                    <a:pt x="2633" y="359"/>
                  </a:lnTo>
                  <a:lnTo>
                    <a:pt x="2639" y="379"/>
                  </a:lnTo>
                  <a:lnTo>
                    <a:pt x="2640" y="400"/>
                  </a:lnTo>
                  <a:lnTo>
                    <a:pt x="2639" y="420"/>
                  </a:lnTo>
                  <a:lnTo>
                    <a:pt x="2633" y="440"/>
                  </a:lnTo>
                  <a:lnTo>
                    <a:pt x="2625" y="460"/>
                  </a:lnTo>
                  <a:lnTo>
                    <a:pt x="2613" y="479"/>
                  </a:lnTo>
                  <a:lnTo>
                    <a:pt x="2599" y="499"/>
                  </a:lnTo>
                  <a:lnTo>
                    <a:pt x="2581" y="517"/>
                  </a:lnTo>
                  <a:lnTo>
                    <a:pt x="2560" y="536"/>
                  </a:lnTo>
                  <a:lnTo>
                    <a:pt x="2537" y="554"/>
                  </a:lnTo>
                  <a:lnTo>
                    <a:pt x="2510" y="572"/>
                  </a:lnTo>
                  <a:lnTo>
                    <a:pt x="2481" y="588"/>
                  </a:lnTo>
                  <a:lnTo>
                    <a:pt x="2448" y="606"/>
                  </a:lnTo>
                  <a:lnTo>
                    <a:pt x="2414" y="622"/>
                  </a:lnTo>
                  <a:lnTo>
                    <a:pt x="2377" y="637"/>
                  </a:lnTo>
                  <a:lnTo>
                    <a:pt x="2338" y="652"/>
                  </a:lnTo>
                  <a:lnTo>
                    <a:pt x="2296" y="667"/>
                  </a:lnTo>
                  <a:lnTo>
                    <a:pt x="2253" y="681"/>
                  </a:lnTo>
                  <a:lnTo>
                    <a:pt x="2207" y="694"/>
                  </a:lnTo>
                  <a:lnTo>
                    <a:pt x="2159" y="706"/>
                  </a:lnTo>
                  <a:lnTo>
                    <a:pt x="2109" y="718"/>
                  </a:lnTo>
                  <a:lnTo>
                    <a:pt x="2057" y="730"/>
                  </a:lnTo>
                  <a:lnTo>
                    <a:pt x="2004" y="740"/>
                  </a:lnTo>
                  <a:lnTo>
                    <a:pt x="1949" y="749"/>
                  </a:lnTo>
                  <a:lnTo>
                    <a:pt x="1892" y="758"/>
                  </a:lnTo>
                  <a:lnTo>
                    <a:pt x="1833" y="767"/>
                  </a:lnTo>
                  <a:lnTo>
                    <a:pt x="1773" y="773"/>
                  </a:lnTo>
                  <a:lnTo>
                    <a:pt x="1712" y="780"/>
                  </a:lnTo>
                  <a:lnTo>
                    <a:pt x="1649" y="785"/>
                  </a:lnTo>
                  <a:lnTo>
                    <a:pt x="1586" y="789"/>
                  </a:lnTo>
                  <a:lnTo>
                    <a:pt x="1520" y="794"/>
                  </a:lnTo>
                  <a:lnTo>
                    <a:pt x="1455" y="796"/>
                  </a:lnTo>
                  <a:lnTo>
                    <a:pt x="1388" y="797"/>
                  </a:lnTo>
                  <a:lnTo>
                    <a:pt x="1320" y="798"/>
                  </a:lnTo>
                  <a:lnTo>
                    <a:pt x="1252" y="797"/>
                  </a:lnTo>
                  <a:lnTo>
                    <a:pt x="1185" y="796"/>
                  </a:lnTo>
                  <a:lnTo>
                    <a:pt x="1120" y="794"/>
                  </a:lnTo>
                  <a:lnTo>
                    <a:pt x="1055" y="789"/>
                  </a:lnTo>
                  <a:lnTo>
                    <a:pt x="990" y="785"/>
                  </a:lnTo>
                  <a:lnTo>
                    <a:pt x="928" y="780"/>
                  </a:lnTo>
                  <a:lnTo>
                    <a:pt x="867" y="773"/>
                  </a:lnTo>
                  <a:lnTo>
                    <a:pt x="807" y="767"/>
                  </a:lnTo>
                  <a:lnTo>
                    <a:pt x="748" y="758"/>
                  </a:lnTo>
                  <a:lnTo>
                    <a:pt x="692" y="749"/>
                  </a:lnTo>
                  <a:lnTo>
                    <a:pt x="636" y="740"/>
                  </a:lnTo>
                  <a:lnTo>
                    <a:pt x="583" y="730"/>
                  </a:lnTo>
                  <a:lnTo>
                    <a:pt x="531" y="718"/>
                  </a:lnTo>
                  <a:lnTo>
                    <a:pt x="481" y="706"/>
                  </a:lnTo>
                  <a:lnTo>
                    <a:pt x="434" y="694"/>
                  </a:lnTo>
                  <a:lnTo>
                    <a:pt x="388" y="681"/>
                  </a:lnTo>
                  <a:lnTo>
                    <a:pt x="343" y="667"/>
                  </a:lnTo>
                  <a:lnTo>
                    <a:pt x="302" y="652"/>
                  </a:lnTo>
                  <a:lnTo>
                    <a:pt x="263" y="637"/>
                  </a:lnTo>
                  <a:lnTo>
                    <a:pt x="226" y="622"/>
                  </a:lnTo>
                  <a:lnTo>
                    <a:pt x="192" y="606"/>
                  </a:lnTo>
                  <a:lnTo>
                    <a:pt x="160" y="588"/>
                  </a:lnTo>
                  <a:lnTo>
                    <a:pt x="130" y="572"/>
                  </a:lnTo>
                  <a:lnTo>
                    <a:pt x="104" y="554"/>
                  </a:lnTo>
                  <a:lnTo>
                    <a:pt x="81" y="536"/>
                  </a:lnTo>
                  <a:lnTo>
                    <a:pt x="59" y="517"/>
                  </a:lnTo>
                  <a:lnTo>
                    <a:pt x="42" y="499"/>
                  </a:lnTo>
                  <a:lnTo>
                    <a:pt x="27" y="479"/>
                  </a:lnTo>
                  <a:lnTo>
                    <a:pt x="15" y="460"/>
                  </a:lnTo>
                  <a:lnTo>
                    <a:pt x="7" y="440"/>
                  </a:lnTo>
                  <a:lnTo>
                    <a:pt x="2" y="420"/>
                  </a:lnTo>
                  <a:lnTo>
                    <a:pt x="0" y="400"/>
                  </a:lnTo>
                  <a:lnTo>
                    <a:pt x="2" y="379"/>
                  </a:lnTo>
                  <a:lnTo>
                    <a:pt x="7" y="359"/>
                  </a:lnTo>
                  <a:lnTo>
                    <a:pt x="15" y="339"/>
                  </a:lnTo>
                  <a:lnTo>
                    <a:pt x="27" y="319"/>
                  </a:lnTo>
                  <a:lnTo>
                    <a:pt x="42" y="300"/>
                  </a:lnTo>
                  <a:lnTo>
                    <a:pt x="59" y="281"/>
                  </a:lnTo>
                  <a:lnTo>
                    <a:pt x="81" y="263"/>
                  </a:lnTo>
                  <a:lnTo>
                    <a:pt x="104" y="244"/>
                  </a:lnTo>
                  <a:lnTo>
                    <a:pt x="130" y="227"/>
                  </a:lnTo>
                  <a:lnTo>
                    <a:pt x="160" y="210"/>
                  </a:lnTo>
                  <a:lnTo>
                    <a:pt x="192" y="192"/>
                  </a:lnTo>
                  <a:lnTo>
                    <a:pt x="226" y="176"/>
                  </a:lnTo>
                  <a:lnTo>
                    <a:pt x="263" y="161"/>
                  </a:lnTo>
                  <a:lnTo>
                    <a:pt x="302" y="146"/>
                  </a:lnTo>
                  <a:lnTo>
                    <a:pt x="343" y="132"/>
                  </a:lnTo>
                  <a:lnTo>
                    <a:pt x="388" y="118"/>
                  </a:lnTo>
                  <a:lnTo>
                    <a:pt x="434" y="104"/>
                  </a:lnTo>
                  <a:lnTo>
                    <a:pt x="481" y="92"/>
                  </a:lnTo>
                  <a:lnTo>
                    <a:pt x="531" y="80"/>
                  </a:lnTo>
                  <a:lnTo>
                    <a:pt x="583" y="69"/>
                  </a:lnTo>
                  <a:lnTo>
                    <a:pt x="636" y="59"/>
                  </a:lnTo>
                  <a:lnTo>
                    <a:pt x="692" y="49"/>
                  </a:lnTo>
                  <a:lnTo>
                    <a:pt x="748" y="40"/>
                  </a:lnTo>
                  <a:lnTo>
                    <a:pt x="807" y="32"/>
                  </a:lnTo>
                  <a:lnTo>
                    <a:pt x="867" y="25"/>
                  </a:lnTo>
                  <a:lnTo>
                    <a:pt x="928" y="19"/>
                  </a:lnTo>
                  <a:lnTo>
                    <a:pt x="990" y="13"/>
                  </a:lnTo>
                  <a:lnTo>
                    <a:pt x="1055" y="9"/>
                  </a:lnTo>
                  <a:lnTo>
                    <a:pt x="1120" y="6"/>
                  </a:lnTo>
                  <a:lnTo>
                    <a:pt x="1185" y="2"/>
                  </a:lnTo>
                  <a:lnTo>
                    <a:pt x="1252" y="1"/>
                  </a:lnTo>
                  <a:lnTo>
                    <a:pt x="1320" y="0"/>
                  </a:lnTo>
                </a:path>
              </a:pathLst>
            </a:custGeom>
            <a:noFill/>
            <a:ln w="1800">
              <a:solidFill>
                <a:srgbClr val="66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7430400" y="3966480"/>
              <a:ext cx="206280" cy="34560"/>
            </a:xfrm>
            <a:custGeom>
              <a:avLst/>
              <a:gdLst/>
              <a:ahLst/>
              <a:rect l="l" t="t" r="r" b="b"/>
              <a:pathLst>
                <a:path w="1654" h="255">
                  <a:moveTo>
                    <a:pt x="1654" y="0"/>
                  </a:moveTo>
                  <a:lnTo>
                    <a:pt x="1653" y="14"/>
                  </a:lnTo>
                  <a:lnTo>
                    <a:pt x="1649" y="27"/>
                  </a:lnTo>
                  <a:lnTo>
                    <a:pt x="1645" y="39"/>
                  </a:lnTo>
                  <a:lnTo>
                    <a:pt x="1637" y="51"/>
                  </a:lnTo>
                  <a:lnTo>
                    <a:pt x="1628" y="63"/>
                  </a:lnTo>
                  <a:lnTo>
                    <a:pt x="1617" y="76"/>
                  </a:lnTo>
                  <a:lnTo>
                    <a:pt x="1604" y="88"/>
                  </a:lnTo>
                  <a:lnTo>
                    <a:pt x="1589" y="99"/>
                  </a:lnTo>
                  <a:lnTo>
                    <a:pt x="1572" y="111"/>
                  </a:lnTo>
                  <a:lnTo>
                    <a:pt x="1553" y="122"/>
                  </a:lnTo>
                  <a:lnTo>
                    <a:pt x="1534" y="132"/>
                  </a:lnTo>
                  <a:lnTo>
                    <a:pt x="1513" y="142"/>
                  </a:lnTo>
                  <a:lnTo>
                    <a:pt x="1489" y="153"/>
                  </a:lnTo>
                  <a:lnTo>
                    <a:pt x="1465" y="163"/>
                  </a:lnTo>
                  <a:lnTo>
                    <a:pt x="1438" y="171"/>
                  </a:lnTo>
                  <a:lnTo>
                    <a:pt x="1411" y="180"/>
                  </a:lnTo>
                  <a:lnTo>
                    <a:pt x="1382" y="189"/>
                  </a:lnTo>
                  <a:lnTo>
                    <a:pt x="1352" y="197"/>
                  </a:lnTo>
                  <a:lnTo>
                    <a:pt x="1321" y="205"/>
                  </a:lnTo>
                  <a:lnTo>
                    <a:pt x="1289" y="211"/>
                  </a:lnTo>
                  <a:lnTo>
                    <a:pt x="1255" y="219"/>
                  </a:lnTo>
                  <a:lnTo>
                    <a:pt x="1221" y="224"/>
                  </a:lnTo>
                  <a:lnTo>
                    <a:pt x="1185" y="230"/>
                  </a:lnTo>
                  <a:lnTo>
                    <a:pt x="1149" y="235"/>
                  </a:lnTo>
                  <a:lnTo>
                    <a:pt x="1111" y="239"/>
                  </a:lnTo>
                  <a:lnTo>
                    <a:pt x="1072" y="244"/>
                  </a:lnTo>
                  <a:lnTo>
                    <a:pt x="1033" y="247"/>
                  </a:lnTo>
                  <a:lnTo>
                    <a:pt x="994" y="250"/>
                  </a:lnTo>
                  <a:lnTo>
                    <a:pt x="953" y="252"/>
                  </a:lnTo>
                  <a:lnTo>
                    <a:pt x="912" y="254"/>
                  </a:lnTo>
                  <a:lnTo>
                    <a:pt x="870" y="254"/>
                  </a:lnTo>
                  <a:lnTo>
                    <a:pt x="827" y="255"/>
                  </a:lnTo>
                  <a:lnTo>
                    <a:pt x="785" y="254"/>
                  </a:lnTo>
                  <a:lnTo>
                    <a:pt x="743" y="254"/>
                  </a:lnTo>
                  <a:lnTo>
                    <a:pt x="702" y="252"/>
                  </a:lnTo>
                  <a:lnTo>
                    <a:pt x="661" y="250"/>
                  </a:lnTo>
                  <a:lnTo>
                    <a:pt x="621" y="247"/>
                  </a:lnTo>
                  <a:lnTo>
                    <a:pt x="581" y="244"/>
                  </a:lnTo>
                  <a:lnTo>
                    <a:pt x="544" y="239"/>
                  </a:lnTo>
                  <a:lnTo>
                    <a:pt x="506" y="235"/>
                  </a:lnTo>
                  <a:lnTo>
                    <a:pt x="469" y="230"/>
                  </a:lnTo>
                  <a:lnTo>
                    <a:pt x="434" y="224"/>
                  </a:lnTo>
                  <a:lnTo>
                    <a:pt x="398" y="219"/>
                  </a:lnTo>
                  <a:lnTo>
                    <a:pt x="365" y="211"/>
                  </a:lnTo>
                  <a:lnTo>
                    <a:pt x="333" y="205"/>
                  </a:lnTo>
                  <a:lnTo>
                    <a:pt x="301" y="197"/>
                  </a:lnTo>
                  <a:lnTo>
                    <a:pt x="271" y="189"/>
                  </a:lnTo>
                  <a:lnTo>
                    <a:pt x="243" y="180"/>
                  </a:lnTo>
                  <a:lnTo>
                    <a:pt x="215" y="171"/>
                  </a:lnTo>
                  <a:lnTo>
                    <a:pt x="189" y="163"/>
                  </a:lnTo>
                  <a:lnTo>
                    <a:pt x="165" y="153"/>
                  </a:lnTo>
                  <a:lnTo>
                    <a:pt x="142" y="142"/>
                  </a:lnTo>
                  <a:lnTo>
                    <a:pt x="120" y="132"/>
                  </a:lnTo>
                  <a:lnTo>
                    <a:pt x="100" y="122"/>
                  </a:lnTo>
                  <a:lnTo>
                    <a:pt x="82" y="111"/>
                  </a:lnTo>
                  <a:lnTo>
                    <a:pt x="65" y="99"/>
                  </a:lnTo>
                  <a:lnTo>
                    <a:pt x="50" y="88"/>
                  </a:lnTo>
                  <a:lnTo>
                    <a:pt x="38" y="76"/>
                  </a:lnTo>
                  <a:lnTo>
                    <a:pt x="26" y="63"/>
                  </a:lnTo>
                  <a:lnTo>
                    <a:pt x="17" y="51"/>
                  </a:lnTo>
                  <a:lnTo>
                    <a:pt x="10" y="39"/>
                  </a:lnTo>
                  <a:lnTo>
                    <a:pt x="4" y="27"/>
                  </a:lnTo>
                  <a:lnTo>
                    <a:pt x="1" y="14"/>
                  </a:lnTo>
                  <a:lnTo>
                    <a:pt x="0" y="0"/>
                  </a:lnTo>
                </a:path>
              </a:pathLst>
            </a:custGeom>
            <a:noFill/>
            <a:ln w="1800">
              <a:solidFill>
                <a:srgbClr val="6666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1" name=""/>
            <p:cNvSpPr/>
            <p:nvPr/>
          </p:nvSpPr>
          <p:spPr>
            <a:xfrm flipH="1">
              <a:off x="7510320" y="4074480"/>
              <a:ext cx="114480" cy="23760"/>
            </a:xfrm>
            <a:custGeom>
              <a:avLst/>
              <a:gdLst/>
              <a:ahLst/>
              <a:rect l="l" t="t" r="r" b="b"/>
              <a:pathLst>
                <a:path w="922" h="176">
                  <a:moveTo>
                    <a:pt x="922" y="0"/>
                  </a:moveTo>
                  <a:lnTo>
                    <a:pt x="921" y="10"/>
                  </a:lnTo>
                  <a:lnTo>
                    <a:pt x="919" y="18"/>
                  </a:lnTo>
                  <a:lnTo>
                    <a:pt x="917" y="27"/>
                  </a:lnTo>
                  <a:lnTo>
                    <a:pt x="913" y="36"/>
                  </a:lnTo>
                  <a:lnTo>
                    <a:pt x="907" y="44"/>
                  </a:lnTo>
                  <a:lnTo>
                    <a:pt x="901" y="53"/>
                  </a:lnTo>
                  <a:lnTo>
                    <a:pt x="893" y="61"/>
                  </a:lnTo>
                  <a:lnTo>
                    <a:pt x="886" y="68"/>
                  </a:lnTo>
                  <a:lnTo>
                    <a:pt x="876" y="77"/>
                  </a:lnTo>
                  <a:lnTo>
                    <a:pt x="866" y="84"/>
                  </a:lnTo>
                  <a:lnTo>
                    <a:pt x="855" y="91"/>
                  </a:lnTo>
                  <a:lnTo>
                    <a:pt x="843" y="98"/>
                  </a:lnTo>
                  <a:lnTo>
                    <a:pt x="817" y="112"/>
                  </a:lnTo>
                  <a:lnTo>
                    <a:pt x="787" y="124"/>
                  </a:lnTo>
                  <a:lnTo>
                    <a:pt x="753" y="136"/>
                  </a:lnTo>
                  <a:lnTo>
                    <a:pt x="718" y="146"/>
                  </a:lnTo>
                  <a:lnTo>
                    <a:pt x="680" y="154"/>
                  </a:lnTo>
                  <a:lnTo>
                    <a:pt x="640" y="162"/>
                  </a:lnTo>
                  <a:lnTo>
                    <a:pt x="597" y="167"/>
                  </a:lnTo>
                  <a:lnTo>
                    <a:pt x="553" y="172"/>
                  </a:lnTo>
                  <a:lnTo>
                    <a:pt x="508" y="175"/>
                  </a:lnTo>
                  <a:lnTo>
                    <a:pt x="460" y="176"/>
                  </a:lnTo>
                  <a:lnTo>
                    <a:pt x="413" y="175"/>
                  </a:lnTo>
                  <a:lnTo>
                    <a:pt x="368" y="172"/>
                  </a:lnTo>
                  <a:lnTo>
                    <a:pt x="324" y="167"/>
                  </a:lnTo>
                  <a:lnTo>
                    <a:pt x="282" y="162"/>
                  </a:lnTo>
                  <a:lnTo>
                    <a:pt x="241" y="154"/>
                  </a:lnTo>
                  <a:lnTo>
                    <a:pt x="203" y="146"/>
                  </a:lnTo>
                  <a:lnTo>
                    <a:pt x="168" y="136"/>
                  </a:lnTo>
                  <a:lnTo>
                    <a:pt x="135" y="124"/>
                  </a:lnTo>
                  <a:lnTo>
                    <a:pt x="105" y="112"/>
                  </a:lnTo>
                  <a:lnTo>
                    <a:pt x="78" y="98"/>
                  </a:lnTo>
                  <a:lnTo>
                    <a:pt x="66" y="91"/>
                  </a:lnTo>
                  <a:lnTo>
                    <a:pt x="56" y="84"/>
                  </a:lnTo>
                  <a:lnTo>
                    <a:pt x="45" y="77"/>
                  </a:lnTo>
                  <a:lnTo>
                    <a:pt x="36" y="68"/>
                  </a:lnTo>
                  <a:lnTo>
                    <a:pt x="28" y="61"/>
                  </a:lnTo>
                  <a:lnTo>
                    <a:pt x="20" y="53"/>
                  </a:lnTo>
                  <a:lnTo>
                    <a:pt x="14" y="44"/>
                  </a:lnTo>
                  <a:lnTo>
                    <a:pt x="9" y="36"/>
                  </a:lnTo>
                  <a:lnTo>
                    <a:pt x="5" y="27"/>
                  </a:lnTo>
                  <a:lnTo>
                    <a:pt x="2" y="18"/>
                  </a:lnTo>
                  <a:lnTo>
                    <a:pt x="0" y="10"/>
                  </a:lnTo>
                  <a:lnTo>
                    <a:pt x="0" y="0"/>
                  </a:lnTo>
                </a:path>
              </a:pathLst>
            </a:custGeom>
            <a:noFill/>
            <a:ln w="1800">
              <a:solidFill>
                <a:srgbClr val="6666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 name=""/>
            <p:cNvSpPr/>
            <p:nvPr/>
          </p:nvSpPr>
          <p:spPr>
            <a:xfrm flipH="1">
              <a:off x="7340040" y="3555360"/>
              <a:ext cx="343800" cy="72000"/>
            </a:xfrm>
            <a:custGeom>
              <a:avLst/>
              <a:gdLst/>
              <a:ahLst/>
              <a:rect l="l" t="t" r="r" b="b"/>
              <a:pathLst>
                <a:path w="2748" h="520">
                  <a:moveTo>
                    <a:pt x="2748" y="270"/>
                  </a:moveTo>
                  <a:lnTo>
                    <a:pt x="2709" y="252"/>
                  </a:lnTo>
                  <a:lnTo>
                    <a:pt x="2669" y="234"/>
                  </a:lnTo>
                  <a:lnTo>
                    <a:pt x="2628" y="216"/>
                  </a:lnTo>
                  <a:lnTo>
                    <a:pt x="2587" y="199"/>
                  </a:lnTo>
                  <a:lnTo>
                    <a:pt x="2547" y="183"/>
                  </a:lnTo>
                  <a:lnTo>
                    <a:pt x="2505" y="168"/>
                  </a:lnTo>
                  <a:lnTo>
                    <a:pt x="2463" y="153"/>
                  </a:lnTo>
                  <a:lnTo>
                    <a:pt x="2421" y="139"/>
                  </a:lnTo>
                  <a:lnTo>
                    <a:pt x="2377" y="124"/>
                  </a:lnTo>
                  <a:lnTo>
                    <a:pt x="2334" y="113"/>
                  </a:lnTo>
                  <a:lnTo>
                    <a:pt x="2290" y="101"/>
                  </a:lnTo>
                  <a:lnTo>
                    <a:pt x="2246" y="89"/>
                  </a:lnTo>
                  <a:lnTo>
                    <a:pt x="2202" y="78"/>
                  </a:lnTo>
                  <a:lnTo>
                    <a:pt x="2158" y="68"/>
                  </a:lnTo>
                  <a:lnTo>
                    <a:pt x="2113" y="59"/>
                  </a:lnTo>
                  <a:lnTo>
                    <a:pt x="2067" y="51"/>
                  </a:lnTo>
                  <a:lnTo>
                    <a:pt x="2022" y="42"/>
                  </a:lnTo>
                  <a:lnTo>
                    <a:pt x="1976" y="35"/>
                  </a:lnTo>
                  <a:lnTo>
                    <a:pt x="1931" y="30"/>
                  </a:lnTo>
                  <a:lnTo>
                    <a:pt x="1884" y="23"/>
                  </a:lnTo>
                  <a:lnTo>
                    <a:pt x="1838" y="18"/>
                  </a:lnTo>
                  <a:lnTo>
                    <a:pt x="1792" y="13"/>
                  </a:lnTo>
                  <a:lnTo>
                    <a:pt x="1745" y="9"/>
                  </a:lnTo>
                  <a:lnTo>
                    <a:pt x="1699" y="6"/>
                  </a:lnTo>
                  <a:lnTo>
                    <a:pt x="1652" y="4"/>
                  </a:lnTo>
                  <a:lnTo>
                    <a:pt x="1605" y="1"/>
                  </a:lnTo>
                  <a:lnTo>
                    <a:pt x="1559" y="0"/>
                  </a:lnTo>
                  <a:lnTo>
                    <a:pt x="1513" y="0"/>
                  </a:lnTo>
                  <a:lnTo>
                    <a:pt x="1466" y="0"/>
                  </a:lnTo>
                  <a:lnTo>
                    <a:pt x="1419" y="0"/>
                  </a:lnTo>
                  <a:lnTo>
                    <a:pt x="1373" y="3"/>
                  </a:lnTo>
                  <a:lnTo>
                    <a:pt x="1327" y="5"/>
                  </a:lnTo>
                  <a:lnTo>
                    <a:pt x="1280" y="7"/>
                  </a:lnTo>
                  <a:lnTo>
                    <a:pt x="1233" y="10"/>
                  </a:lnTo>
                  <a:lnTo>
                    <a:pt x="1187" y="14"/>
                  </a:lnTo>
                  <a:lnTo>
                    <a:pt x="1141" y="20"/>
                  </a:lnTo>
                  <a:lnTo>
                    <a:pt x="1095" y="25"/>
                  </a:lnTo>
                  <a:lnTo>
                    <a:pt x="1050" y="31"/>
                  </a:lnTo>
                  <a:lnTo>
                    <a:pt x="1005" y="37"/>
                  </a:lnTo>
                  <a:lnTo>
                    <a:pt x="959" y="45"/>
                  </a:lnTo>
                  <a:lnTo>
                    <a:pt x="914" y="53"/>
                  </a:lnTo>
                  <a:lnTo>
                    <a:pt x="869" y="61"/>
                  </a:lnTo>
                  <a:lnTo>
                    <a:pt x="825" y="71"/>
                  </a:lnTo>
                  <a:lnTo>
                    <a:pt x="781" y="80"/>
                  </a:lnTo>
                  <a:lnTo>
                    <a:pt x="738" y="91"/>
                  </a:lnTo>
                  <a:lnTo>
                    <a:pt x="695" y="102"/>
                  </a:lnTo>
                  <a:lnTo>
                    <a:pt x="652" y="114"/>
                  </a:lnTo>
                  <a:lnTo>
                    <a:pt x="608" y="127"/>
                  </a:lnTo>
                  <a:lnTo>
                    <a:pt x="566" y="140"/>
                  </a:lnTo>
                  <a:lnTo>
                    <a:pt x="524" y="154"/>
                  </a:lnTo>
                  <a:lnTo>
                    <a:pt x="484" y="168"/>
                  </a:lnTo>
                  <a:lnTo>
                    <a:pt x="443" y="183"/>
                  </a:lnTo>
                  <a:lnTo>
                    <a:pt x="403" y="199"/>
                  </a:lnTo>
                  <a:lnTo>
                    <a:pt x="363" y="215"/>
                  </a:lnTo>
                  <a:lnTo>
                    <a:pt x="323" y="232"/>
                  </a:lnTo>
                  <a:lnTo>
                    <a:pt x="285" y="250"/>
                  </a:lnTo>
                  <a:lnTo>
                    <a:pt x="247" y="268"/>
                  </a:lnTo>
                  <a:lnTo>
                    <a:pt x="210" y="287"/>
                  </a:lnTo>
                  <a:lnTo>
                    <a:pt x="173" y="307"/>
                  </a:lnTo>
                  <a:lnTo>
                    <a:pt x="137" y="327"/>
                  </a:lnTo>
                  <a:lnTo>
                    <a:pt x="101" y="349"/>
                  </a:lnTo>
                  <a:lnTo>
                    <a:pt x="67" y="371"/>
                  </a:lnTo>
                  <a:lnTo>
                    <a:pt x="32" y="392"/>
                  </a:lnTo>
                  <a:lnTo>
                    <a:pt x="0" y="415"/>
                  </a:lnTo>
                  <a:lnTo>
                    <a:pt x="72" y="520"/>
                  </a:lnTo>
                  <a:lnTo>
                    <a:pt x="103" y="498"/>
                  </a:lnTo>
                  <a:lnTo>
                    <a:pt x="135" y="477"/>
                  </a:lnTo>
                  <a:lnTo>
                    <a:pt x="167" y="457"/>
                  </a:lnTo>
                  <a:lnTo>
                    <a:pt x="200" y="437"/>
                  </a:lnTo>
                  <a:lnTo>
                    <a:pt x="234" y="419"/>
                  </a:lnTo>
                  <a:lnTo>
                    <a:pt x="268" y="401"/>
                  </a:lnTo>
                  <a:lnTo>
                    <a:pt x="304" y="382"/>
                  </a:lnTo>
                  <a:lnTo>
                    <a:pt x="339" y="365"/>
                  </a:lnTo>
                  <a:lnTo>
                    <a:pt x="375" y="349"/>
                  </a:lnTo>
                  <a:lnTo>
                    <a:pt x="413" y="333"/>
                  </a:lnTo>
                  <a:lnTo>
                    <a:pt x="450" y="317"/>
                  </a:lnTo>
                  <a:lnTo>
                    <a:pt x="488" y="303"/>
                  </a:lnTo>
                  <a:lnTo>
                    <a:pt x="527" y="287"/>
                  </a:lnTo>
                  <a:lnTo>
                    <a:pt x="565" y="275"/>
                  </a:lnTo>
                  <a:lnTo>
                    <a:pt x="605" y="260"/>
                  </a:lnTo>
                  <a:lnTo>
                    <a:pt x="645" y="249"/>
                  </a:lnTo>
                  <a:lnTo>
                    <a:pt x="686" y="237"/>
                  </a:lnTo>
                  <a:lnTo>
                    <a:pt x="727" y="225"/>
                  </a:lnTo>
                  <a:lnTo>
                    <a:pt x="768" y="214"/>
                  </a:lnTo>
                  <a:lnTo>
                    <a:pt x="810" y="204"/>
                  </a:lnTo>
                  <a:lnTo>
                    <a:pt x="852" y="195"/>
                  </a:lnTo>
                  <a:lnTo>
                    <a:pt x="894" y="186"/>
                  </a:lnTo>
                  <a:lnTo>
                    <a:pt x="937" y="177"/>
                  </a:lnTo>
                  <a:lnTo>
                    <a:pt x="980" y="170"/>
                  </a:lnTo>
                  <a:lnTo>
                    <a:pt x="1023" y="163"/>
                  </a:lnTo>
                  <a:lnTo>
                    <a:pt x="1067" y="157"/>
                  </a:lnTo>
                  <a:lnTo>
                    <a:pt x="1111" y="151"/>
                  </a:lnTo>
                  <a:lnTo>
                    <a:pt x="1154" y="146"/>
                  </a:lnTo>
                  <a:lnTo>
                    <a:pt x="1198" y="142"/>
                  </a:lnTo>
                  <a:lnTo>
                    <a:pt x="1244" y="137"/>
                  </a:lnTo>
                  <a:lnTo>
                    <a:pt x="1288" y="134"/>
                  </a:lnTo>
                  <a:lnTo>
                    <a:pt x="1333" y="131"/>
                  </a:lnTo>
                  <a:lnTo>
                    <a:pt x="1377" y="130"/>
                  </a:lnTo>
                  <a:lnTo>
                    <a:pt x="1421" y="129"/>
                  </a:lnTo>
                  <a:lnTo>
                    <a:pt x="1467" y="128"/>
                  </a:lnTo>
                  <a:lnTo>
                    <a:pt x="1512" y="128"/>
                  </a:lnTo>
                  <a:lnTo>
                    <a:pt x="1557" y="128"/>
                  </a:lnTo>
                  <a:lnTo>
                    <a:pt x="1601" y="129"/>
                  </a:lnTo>
                  <a:lnTo>
                    <a:pt x="1646" y="131"/>
                  </a:lnTo>
                  <a:lnTo>
                    <a:pt x="1692" y="133"/>
                  </a:lnTo>
                  <a:lnTo>
                    <a:pt x="1736" y="136"/>
                  </a:lnTo>
                  <a:lnTo>
                    <a:pt x="1781" y="141"/>
                  </a:lnTo>
                  <a:lnTo>
                    <a:pt x="1825" y="144"/>
                  </a:lnTo>
                  <a:lnTo>
                    <a:pt x="1869" y="149"/>
                  </a:lnTo>
                  <a:lnTo>
                    <a:pt x="1913" y="155"/>
                  </a:lnTo>
                  <a:lnTo>
                    <a:pt x="1958" y="161"/>
                  </a:lnTo>
                  <a:lnTo>
                    <a:pt x="2002" y="169"/>
                  </a:lnTo>
                  <a:lnTo>
                    <a:pt x="2045" y="175"/>
                  </a:lnTo>
                  <a:lnTo>
                    <a:pt x="2088" y="184"/>
                  </a:lnTo>
                  <a:lnTo>
                    <a:pt x="2131" y="192"/>
                  </a:lnTo>
                  <a:lnTo>
                    <a:pt x="2174" y="202"/>
                  </a:lnTo>
                  <a:lnTo>
                    <a:pt x="2216" y="213"/>
                  </a:lnTo>
                  <a:lnTo>
                    <a:pt x="2258" y="224"/>
                  </a:lnTo>
                  <a:lnTo>
                    <a:pt x="2300" y="235"/>
                  </a:lnTo>
                  <a:lnTo>
                    <a:pt x="2341" y="246"/>
                  </a:lnTo>
                  <a:lnTo>
                    <a:pt x="2382" y="259"/>
                  </a:lnTo>
                  <a:lnTo>
                    <a:pt x="2423" y="273"/>
                  </a:lnTo>
                  <a:lnTo>
                    <a:pt x="2463" y="286"/>
                  </a:lnTo>
                  <a:lnTo>
                    <a:pt x="2501" y="301"/>
                  </a:lnTo>
                  <a:lnTo>
                    <a:pt x="2541" y="317"/>
                  </a:lnTo>
                  <a:lnTo>
                    <a:pt x="2579" y="333"/>
                  </a:lnTo>
                  <a:lnTo>
                    <a:pt x="2618" y="349"/>
                  </a:lnTo>
                  <a:lnTo>
                    <a:pt x="2654" y="366"/>
                  </a:lnTo>
                  <a:lnTo>
                    <a:pt x="2691" y="385"/>
                  </a:lnTo>
                  <a:lnTo>
                    <a:pt x="2748" y="27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73" name=""/>
            <p:cNvSpPr/>
            <p:nvPr/>
          </p:nvSpPr>
          <p:spPr>
            <a:xfrm flipH="1">
              <a:off x="7250760" y="3593160"/>
              <a:ext cx="96120" cy="234720"/>
            </a:xfrm>
            <a:custGeom>
              <a:avLst/>
              <a:gdLst/>
              <a:ahLst/>
              <a:rect l="l" t="t" r="r" b="b"/>
              <a:pathLst>
                <a:path w="771" h="1704">
                  <a:moveTo>
                    <a:pt x="300" y="1704"/>
                  </a:moveTo>
                  <a:lnTo>
                    <a:pt x="332" y="1681"/>
                  </a:lnTo>
                  <a:lnTo>
                    <a:pt x="364" y="1657"/>
                  </a:lnTo>
                  <a:lnTo>
                    <a:pt x="394" y="1633"/>
                  </a:lnTo>
                  <a:lnTo>
                    <a:pt x="422" y="1608"/>
                  </a:lnTo>
                  <a:lnTo>
                    <a:pt x="450" y="1583"/>
                  </a:lnTo>
                  <a:lnTo>
                    <a:pt x="477" y="1558"/>
                  </a:lnTo>
                  <a:lnTo>
                    <a:pt x="503" y="1532"/>
                  </a:lnTo>
                  <a:lnTo>
                    <a:pt x="526" y="1506"/>
                  </a:lnTo>
                  <a:lnTo>
                    <a:pt x="550" y="1480"/>
                  </a:lnTo>
                  <a:lnTo>
                    <a:pt x="571" y="1453"/>
                  </a:lnTo>
                  <a:lnTo>
                    <a:pt x="593" y="1426"/>
                  </a:lnTo>
                  <a:lnTo>
                    <a:pt x="612" y="1399"/>
                  </a:lnTo>
                  <a:lnTo>
                    <a:pt x="632" y="1372"/>
                  </a:lnTo>
                  <a:lnTo>
                    <a:pt x="649" y="1344"/>
                  </a:lnTo>
                  <a:lnTo>
                    <a:pt x="665" y="1316"/>
                  </a:lnTo>
                  <a:lnTo>
                    <a:pt x="680" y="1288"/>
                  </a:lnTo>
                  <a:lnTo>
                    <a:pt x="694" y="1259"/>
                  </a:lnTo>
                  <a:lnTo>
                    <a:pt x="707" y="1231"/>
                  </a:lnTo>
                  <a:lnTo>
                    <a:pt x="719" y="1201"/>
                  </a:lnTo>
                  <a:lnTo>
                    <a:pt x="730" y="1172"/>
                  </a:lnTo>
                  <a:lnTo>
                    <a:pt x="738" y="1143"/>
                  </a:lnTo>
                  <a:lnTo>
                    <a:pt x="747" y="1114"/>
                  </a:lnTo>
                  <a:lnTo>
                    <a:pt x="753" y="1085"/>
                  </a:lnTo>
                  <a:lnTo>
                    <a:pt x="760" y="1055"/>
                  </a:lnTo>
                  <a:lnTo>
                    <a:pt x="764" y="1024"/>
                  </a:lnTo>
                  <a:lnTo>
                    <a:pt x="767" y="995"/>
                  </a:lnTo>
                  <a:lnTo>
                    <a:pt x="770" y="965"/>
                  </a:lnTo>
                  <a:lnTo>
                    <a:pt x="771" y="936"/>
                  </a:lnTo>
                  <a:lnTo>
                    <a:pt x="771" y="907"/>
                  </a:lnTo>
                  <a:lnTo>
                    <a:pt x="770" y="877"/>
                  </a:lnTo>
                  <a:lnTo>
                    <a:pt x="766" y="846"/>
                  </a:lnTo>
                  <a:lnTo>
                    <a:pt x="763" y="817"/>
                  </a:lnTo>
                  <a:lnTo>
                    <a:pt x="758" y="788"/>
                  </a:lnTo>
                  <a:lnTo>
                    <a:pt x="751" y="758"/>
                  </a:lnTo>
                  <a:lnTo>
                    <a:pt x="745" y="729"/>
                  </a:lnTo>
                  <a:lnTo>
                    <a:pt x="736" y="700"/>
                  </a:lnTo>
                  <a:lnTo>
                    <a:pt x="727" y="670"/>
                  </a:lnTo>
                  <a:lnTo>
                    <a:pt x="716" y="642"/>
                  </a:lnTo>
                  <a:lnTo>
                    <a:pt x="704" y="613"/>
                  </a:lnTo>
                  <a:lnTo>
                    <a:pt x="691" y="585"/>
                  </a:lnTo>
                  <a:lnTo>
                    <a:pt x="677" y="557"/>
                  </a:lnTo>
                  <a:lnTo>
                    <a:pt x="662" y="529"/>
                  </a:lnTo>
                  <a:lnTo>
                    <a:pt x="646" y="501"/>
                  </a:lnTo>
                  <a:lnTo>
                    <a:pt x="627" y="474"/>
                  </a:lnTo>
                  <a:lnTo>
                    <a:pt x="609" y="447"/>
                  </a:lnTo>
                  <a:lnTo>
                    <a:pt x="590" y="420"/>
                  </a:lnTo>
                  <a:lnTo>
                    <a:pt x="569" y="394"/>
                  </a:lnTo>
                  <a:lnTo>
                    <a:pt x="547" y="367"/>
                  </a:lnTo>
                  <a:lnTo>
                    <a:pt x="524" y="341"/>
                  </a:lnTo>
                  <a:lnTo>
                    <a:pt x="500" y="316"/>
                  </a:lnTo>
                  <a:lnTo>
                    <a:pt x="476" y="291"/>
                  </a:lnTo>
                  <a:lnTo>
                    <a:pt x="449" y="267"/>
                  </a:lnTo>
                  <a:lnTo>
                    <a:pt x="422" y="242"/>
                  </a:lnTo>
                  <a:lnTo>
                    <a:pt x="394" y="218"/>
                  </a:lnTo>
                  <a:lnTo>
                    <a:pt x="365" y="194"/>
                  </a:lnTo>
                  <a:lnTo>
                    <a:pt x="335" y="171"/>
                  </a:lnTo>
                  <a:lnTo>
                    <a:pt x="303" y="148"/>
                  </a:lnTo>
                  <a:lnTo>
                    <a:pt x="271" y="125"/>
                  </a:lnTo>
                  <a:lnTo>
                    <a:pt x="238" y="104"/>
                  </a:lnTo>
                  <a:lnTo>
                    <a:pt x="204" y="82"/>
                  </a:lnTo>
                  <a:lnTo>
                    <a:pt x="169" y="61"/>
                  </a:lnTo>
                  <a:lnTo>
                    <a:pt x="132" y="40"/>
                  </a:lnTo>
                  <a:lnTo>
                    <a:pt x="95" y="21"/>
                  </a:lnTo>
                  <a:lnTo>
                    <a:pt x="57" y="0"/>
                  </a:lnTo>
                  <a:lnTo>
                    <a:pt x="0" y="115"/>
                  </a:lnTo>
                  <a:lnTo>
                    <a:pt x="36" y="133"/>
                  </a:lnTo>
                  <a:lnTo>
                    <a:pt x="71" y="152"/>
                  </a:lnTo>
                  <a:lnTo>
                    <a:pt x="105" y="171"/>
                  </a:lnTo>
                  <a:lnTo>
                    <a:pt x="138" y="190"/>
                  </a:lnTo>
                  <a:lnTo>
                    <a:pt x="170" y="211"/>
                  </a:lnTo>
                  <a:lnTo>
                    <a:pt x="200" y="231"/>
                  </a:lnTo>
                  <a:lnTo>
                    <a:pt x="230" y="252"/>
                  </a:lnTo>
                  <a:lnTo>
                    <a:pt x="259" y="272"/>
                  </a:lnTo>
                  <a:lnTo>
                    <a:pt x="286" y="294"/>
                  </a:lnTo>
                  <a:lnTo>
                    <a:pt x="313" y="315"/>
                  </a:lnTo>
                  <a:lnTo>
                    <a:pt x="339" y="337"/>
                  </a:lnTo>
                  <a:lnTo>
                    <a:pt x="364" y="360"/>
                  </a:lnTo>
                  <a:lnTo>
                    <a:pt x="386" y="382"/>
                  </a:lnTo>
                  <a:lnTo>
                    <a:pt x="409" y="405"/>
                  </a:lnTo>
                  <a:lnTo>
                    <a:pt x="430" y="428"/>
                  </a:lnTo>
                  <a:lnTo>
                    <a:pt x="451" y="450"/>
                  </a:lnTo>
                  <a:lnTo>
                    <a:pt x="470" y="473"/>
                  </a:lnTo>
                  <a:lnTo>
                    <a:pt x="489" y="497"/>
                  </a:lnTo>
                  <a:lnTo>
                    <a:pt x="506" y="520"/>
                  </a:lnTo>
                  <a:lnTo>
                    <a:pt x="522" y="544"/>
                  </a:lnTo>
                  <a:lnTo>
                    <a:pt x="537" y="568"/>
                  </a:lnTo>
                  <a:lnTo>
                    <a:pt x="551" y="592"/>
                  </a:lnTo>
                  <a:lnTo>
                    <a:pt x="564" y="616"/>
                  </a:lnTo>
                  <a:lnTo>
                    <a:pt x="577" y="640"/>
                  </a:lnTo>
                  <a:lnTo>
                    <a:pt x="588" y="664"/>
                  </a:lnTo>
                  <a:lnTo>
                    <a:pt x="597" y="689"/>
                  </a:lnTo>
                  <a:lnTo>
                    <a:pt x="607" y="714"/>
                  </a:lnTo>
                  <a:lnTo>
                    <a:pt x="615" y="737"/>
                  </a:lnTo>
                  <a:lnTo>
                    <a:pt x="622" y="762"/>
                  </a:lnTo>
                  <a:lnTo>
                    <a:pt x="629" y="787"/>
                  </a:lnTo>
                  <a:lnTo>
                    <a:pt x="633" y="811"/>
                  </a:lnTo>
                  <a:lnTo>
                    <a:pt x="637" y="836"/>
                  </a:lnTo>
                  <a:lnTo>
                    <a:pt x="640" y="860"/>
                  </a:lnTo>
                  <a:lnTo>
                    <a:pt x="643" y="885"/>
                  </a:lnTo>
                  <a:lnTo>
                    <a:pt x="644" y="909"/>
                  </a:lnTo>
                  <a:lnTo>
                    <a:pt x="644" y="934"/>
                  </a:lnTo>
                  <a:lnTo>
                    <a:pt x="643" y="959"/>
                  </a:lnTo>
                  <a:lnTo>
                    <a:pt x="641" y="983"/>
                  </a:lnTo>
                  <a:lnTo>
                    <a:pt x="638" y="1008"/>
                  </a:lnTo>
                  <a:lnTo>
                    <a:pt x="635" y="1033"/>
                  </a:lnTo>
                  <a:lnTo>
                    <a:pt x="630" y="1058"/>
                  </a:lnTo>
                  <a:lnTo>
                    <a:pt x="624" y="1083"/>
                  </a:lnTo>
                  <a:lnTo>
                    <a:pt x="617" y="1106"/>
                  </a:lnTo>
                  <a:lnTo>
                    <a:pt x="609" y="1131"/>
                  </a:lnTo>
                  <a:lnTo>
                    <a:pt x="601" y="1156"/>
                  </a:lnTo>
                  <a:lnTo>
                    <a:pt x="591" y="1181"/>
                  </a:lnTo>
                  <a:lnTo>
                    <a:pt x="580" y="1205"/>
                  </a:lnTo>
                  <a:lnTo>
                    <a:pt x="567" y="1229"/>
                  </a:lnTo>
                  <a:lnTo>
                    <a:pt x="554" y="1253"/>
                  </a:lnTo>
                  <a:lnTo>
                    <a:pt x="540" y="1278"/>
                  </a:lnTo>
                  <a:lnTo>
                    <a:pt x="525" y="1302"/>
                  </a:lnTo>
                  <a:lnTo>
                    <a:pt x="509" y="1326"/>
                  </a:lnTo>
                  <a:lnTo>
                    <a:pt x="492" y="1349"/>
                  </a:lnTo>
                  <a:lnTo>
                    <a:pt x="474" y="1373"/>
                  </a:lnTo>
                  <a:lnTo>
                    <a:pt x="453" y="1397"/>
                  </a:lnTo>
                  <a:lnTo>
                    <a:pt x="433" y="1421"/>
                  </a:lnTo>
                  <a:lnTo>
                    <a:pt x="411" y="1444"/>
                  </a:lnTo>
                  <a:lnTo>
                    <a:pt x="388" y="1467"/>
                  </a:lnTo>
                  <a:lnTo>
                    <a:pt x="364" y="1490"/>
                  </a:lnTo>
                  <a:lnTo>
                    <a:pt x="339" y="1512"/>
                  </a:lnTo>
                  <a:lnTo>
                    <a:pt x="312" y="1535"/>
                  </a:lnTo>
                  <a:lnTo>
                    <a:pt x="285" y="1558"/>
                  </a:lnTo>
                  <a:lnTo>
                    <a:pt x="256" y="1579"/>
                  </a:lnTo>
                  <a:lnTo>
                    <a:pt x="227" y="1601"/>
                  </a:lnTo>
                  <a:lnTo>
                    <a:pt x="300" y="1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7309440" y="3814560"/>
              <a:ext cx="343800" cy="71640"/>
            </a:xfrm>
            <a:custGeom>
              <a:avLst/>
              <a:gdLst/>
              <a:ahLst/>
              <a:rect l="l" t="t" r="r" b="b"/>
              <a:pathLst>
                <a:path w="2749" h="519">
                  <a:moveTo>
                    <a:pt x="0" y="248"/>
                  </a:moveTo>
                  <a:lnTo>
                    <a:pt x="40" y="267"/>
                  </a:lnTo>
                  <a:lnTo>
                    <a:pt x="80" y="286"/>
                  </a:lnTo>
                  <a:lnTo>
                    <a:pt x="120" y="303"/>
                  </a:lnTo>
                  <a:lnTo>
                    <a:pt x="161" y="320"/>
                  </a:lnTo>
                  <a:lnTo>
                    <a:pt x="202" y="336"/>
                  </a:lnTo>
                  <a:lnTo>
                    <a:pt x="244" y="352"/>
                  </a:lnTo>
                  <a:lnTo>
                    <a:pt x="286" y="367"/>
                  </a:lnTo>
                  <a:lnTo>
                    <a:pt x="328" y="381"/>
                  </a:lnTo>
                  <a:lnTo>
                    <a:pt x="371" y="394"/>
                  </a:lnTo>
                  <a:lnTo>
                    <a:pt x="414" y="407"/>
                  </a:lnTo>
                  <a:lnTo>
                    <a:pt x="458" y="419"/>
                  </a:lnTo>
                  <a:lnTo>
                    <a:pt x="502" y="429"/>
                  </a:lnTo>
                  <a:lnTo>
                    <a:pt x="546" y="440"/>
                  </a:lnTo>
                  <a:lnTo>
                    <a:pt x="591" y="451"/>
                  </a:lnTo>
                  <a:lnTo>
                    <a:pt x="636" y="460"/>
                  </a:lnTo>
                  <a:lnTo>
                    <a:pt x="681" y="468"/>
                  </a:lnTo>
                  <a:lnTo>
                    <a:pt x="727" y="476"/>
                  </a:lnTo>
                  <a:lnTo>
                    <a:pt x="772" y="483"/>
                  </a:lnTo>
                  <a:lnTo>
                    <a:pt x="818" y="490"/>
                  </a:lnTo>
                  <a:lnTo>
                    <a:pt x="864" y="496"/>
                  </a:lnTo>
                  <a:lnTo>
                    <a:pt x="910" y="501"/>
                  </a:lnTo>
                  <a:lnTo>
                    <a:pt x="956" y="506"/>
                  </a:lnTo>
                  <a:lnTo>
                    <a:pt x="1003" y="509"/>
                  </a:lnTo>
                  <a:lnTo>
                    <a:pt x="1049" y="512"/>
                  </a:lnTo>
                  <a:lnTo>
                    <a:pt x="1096" y="515"/>
                  </a:lnTo>
                  <a:lnTo>
                    <a:pt x="1143" y="517"/>
                  </a:lnTo>
                  <a:lnTo>
                    <a:pt x="1189" y="519"/>
                  </a:lnTo>
                  <a:lnTo>
                    <a:pt x="1236" y="519"/>
                  </a:lnTo>
                  <a:lnTo>
                    <a:pt x="1283" y="519"/>
                  </a:lnTo>
                  <a:lnTo>
                    <a:pt x="1329" y="518"/>
                  </a:lnTo>
                  <a:lnTo>
                    <a:pt x="1375" y="517"/>
                  </a:lnTo>
                  <a:lnTo>
                    <a:pt x="1423" y="515"/>
                  </a:lnTo>
                  <a:lnTo>
                    <a:pt x="1469" y="511"/>
                  </a:lnTo>
                  <a:lnTo>
                    <a:pt x="1515" y="508"/>
                  </a:lnTo>
                  <a:lnTo>
                    <a:pt x="1562" y="504"/>
                  </a:lnTo>
                  <a:lnTo>
                    <a:pt x="1607" y="499"/>
                  </a:lnTo>
                  <a:lnTo>
                    <a:pt x="1653" y="494"/>
                  </a:lnTo>
                  <a:lnTo>
                    <a:pt x="1698" y="488"/>
                  </a:lnTo>
                  <a:lnTo>
                    <a:pt x="1745" y="481"/>
                  </a:lnTo>
                  <a:lnTo>
                    <a:pt x="1789" y="475"/>
                  </a:lnTo>
                  <a:lnTo>
                    <a:pt x="1834" y="466"/>
                  </a:lnTo>
                  <a:lnTo>
                    <a:pt x="1879" y="457"/>
                  </a:lnTo>
                  <a:lnTo>
                    <a:pt x="1923" y="449"/>
                  </a:lnTo>
                  <a:lnTo>
                    <a:pt x="1967" y="438"/>
                  </a:lnTo>
                  <a:lnTo>
                    <a:pt x="2011" y="428"/>
                  </a:lnTo>
                  <a:lnTo>
                    <a:pt x="2054" y="416"/>
                  </a:lnTo>
                  <a:lnTo>
                    <a:pt x="2098" y="404"/>
                  </a:lnTo>
                  <a:lnTo>
                    <a:pt x="2140" y="393"/>
                  </a:lnTo>
                  <a:lnTo>
                    <a:pt x="2182" y="379"/>
                  </a:lnTo>
                  <a:lnTo>
                    <a:pt x="2224" y="366"/>
                  </a:lnTo>
                  <a:lnTo>
                    <a:pt x="2265" y="351"/>
                  </a:lnTo>
                  <a:lnTo>
                    <a:pt x="2306" y="335"/>
                  </a:lnTo>
                  <a:lnTo>
                    <a:pt x="2345" y="320"/>
                  </a:lnTo>
                  <a:lnTo>
                    <a:pt x="2385" y="303"/>
                  </a:lnTo>
                  <a:lnTo>
                    <a:pt x="2425" y="287"/>
                  </a:lnTo>
                  <a:lnTo>
                    <a:pt x="2463" y="268"/>
                  </a:lnTo>
                  <a:lnTo>
                    <a:pt x="2502" y="250"/>
                  </a:lnTo>
                  <a:lnTo>
                    <a:pt x="2538" y="232"/>
                  </a:lnTo>
                  <a:lnTo>
                    <a:pt x="2576" y="211"/>
                  </a:lnTo>
                  <a:lnTo>
                    <a:pt x="2611" y="191"/>
                  </a:lnTo>
                  <a:lnTo>
                    <a:pt x="2647" y="170"/>
                  </a:lnTo>
                  <a:lnTo>
                    <a:pt x="2681" y="149"/>
                  </a:lnTo>
                  <a:lnTo>
                    <a:pt x="2716" y="126"/>
                  </a:lnTo>
                  <a:lnTo>
                    <a:pt x="2749" y="103"/>
                  </a:lnTo>
                  <a:lnTo>
                    <a:pt x="2676" y="0"/>
                  </a:lnTo>
                  <a:lnTo>
                    <a:pt x="2645" y="21"/>
                  </a:lnTo>
                  <a:lnTo>
                    <a:pt x="2614" y="42"/>
                  </a:lnTo>
                  <a:lnTo>
                    <a:pt x="2581" y="61"/>
                  </a:lnTo>
                  <a:lnTo>
                    <a:pt x="2548" y="82"/>
                  </a:lnTo>
                  <a:lnTo>
                    <a:pt x="2514" y="100"/>
                  </a:lnTo>
                  <a:lnTo>
                    <a:pt x="2480" y="118"/>
                  </a:lnTo>
                  <a:lnTo>
                    <a:pt x="2444" y="137"/>
                  </a:lnTo>
                  <a:lnTo>
                    <a:pt x="2409" y="154"/>
                  </a:lnTo>
                  <a:lnTo>
                    <a:pt x="2373" y="170"/>
                  </a:lnTo>
                  <a:lnTo>
                    <a:pt x="2336" y="186"/>
                  </a:lnTo>
                  <a:lnTo>
                    <a:pt x="2298" y="202"/>
                  </a:lnTo>
                  <a:lnTo>
                    <a:pt x="2260" y="217"/>
                  </a:lnTo>
                  <a:lnTo>
                    <a:pt x="2222" y="231"/>
                  </a:lnTo>
                  <a:lnTo>
                    <a:pt x="2183" y="245"/>
                  </a:lnTo>
                  <a:lnTo>
                    <a:pt x="2143" y="258"/>
                  </a:lnTo>
                  <a:lnTo>
                    <a:pt x="2103" y="271"/>
                  </a:lnTo>
                  <a:lnTo>
                    <a:pt x="2062" y="283"/>
                  </a:lnTo>
                  <a:lnTo>
                    <a:pt x="2021" y="293"/>
                  </a:lnTo>
                  <a:lnTo>
                    <a:pt x="1980" y="304"/>
                  </a:lnTo>
                  <a:lnTo>
                    <a:pt x="1938" y="315"/>
                  </a:lnTo>
                  <a:lnTo>
                    <a:pt x="1896" y="324"/>
                  </a:lnTo>
                  <a:lnTo>
                    <a:pt x="1854" y="332"/>
                  </a:lnTo>
                  <a:lnTo>
                    <a:pt x="1811" y="341"/>
                  </a:lnTo>
                  <a:lnTo>
                    <a:pt x="1768" y="348"/>
                  </a:lnTo>
                  <a:lnTo>
                    <a:pt x="1725" y="356"/>
                  </a:lnTo>
                  <a:lnTo>
                    <a:pt x="1681" y="362"/>
                  </a:lnTo>
                  <a:lnTo>
                    <a:pt x="1638" y="368"/>
                  </a:lnTo>
                  <a:lnTo>
                    <a:pt x="1594" y="373"/>
                  </a:lnTo>
                  <a:lnTo>
                    <a:pt x="1550" y="378"/>
                  </a:lnTo>
                  <a:lnTo>
                    <a:pt x="1505" y="382"/>
                  </a:lnTo>
                  <a:lnTo>
                    <a:pt x="1460" y="385"/>
                  </a:lnTo>
                  <a:lnTo>
                    <a:pt x="1416" y="387"/>
                  </a:lnTo>
                  <a:lnTo>
                    <a:pt x="1371" y="389"/>
                  </a:lnTo>
                  <a:lnTo>
                    <a:pt x="1326" y="390"/>
                  </a:lnTo>
                  <a:lnTo>
                    <a:pt x="1282" y="392"/>
                  </a:lnTo>
                  <a:lnTo>
                    <a:pt x="1236" y="392"/>
                  </a:lnTo>
                  <a:lnTo>
                    <a:pt x="1191" y="390"/>
                  </a:lnTo>
                  <a:lnTo>
                    <a:pt x="1147" y="390"/>
                  </a:lnTo>
                  <a:lnTo>
                    <a:pt x="1102" y="388"/>
                  </a:lnTo>
                  <a:lnTo>
                    <a:pt x="1057" y="386"/>
                  </a:lnTo>
                  <a:lnTo>
                    <a:pt x="1012" y="383"/>
                  </a:lnTo>
                  <a:lnTo>
                    <a:pt x="968" y="379"/>
                  </a:lnTo>
                  <a:lnTo>
                    <a:pt x="923" y="374"/>
                  </a:lnTo>
                  <a:lnTo>
                    <a:pt x="879" y="369"/>
                  </a:lnTo>
                  <a:lnTo>
                    <a:pt x="835" y="363"/>
                  </a:lnTo>
                  <a:lnTo>
                    <a:pt x="791" y="357"/>
                  </a:lnTo>
                  <a:lnTo>
                    <a:pt x="747" y="351"/>
                  </a:lnTo>
                  <a:lnTo>
                    <a:pt x="703" y="343"/>
                  </a:lnTo>
                  <a:lnTo>
                    <a:pt x="660" y="334"/>
                  </a:lnTo>
                  <a:lnTo>
                    <a:pt x="617" y="326"/>
                  </a:lnTo>
                  <a:lnTo>
                    <a:pt x="574" y="316"/>
                  </a:lnTo>
                  <a:lnTo>
                    <a:pt x="532" y="306"/>
                  </a:lnTo>
                  <a:lnTo>
                    <a:pt x="490" y="295"/>
                  </a:lnTo>
                  <a:lnTo>
                    <a:pt x="448" y="284"/>
                  </a:lnTo>
                  <a:lnTo>
                    <a:pt x="407" y="272"/>
                  </a:lnTo>
                  <a:lnTo>
                    <a:pt x="366" y="260"/>
                  </a:lnTo>
                  <a:lnTo>
                    <a:pt x="327" y="246"/>
                  </a:lnTo>
                  <a:lnTo>
                    <a:pt x="286" y="232"/>
                  </a:lnTo>
                  <a:lnTo>
                    <a:pt x="247" y="217"/>
                  </a:lnTo>
                  <a:lnTo>
                    <a:pt x="207" y="202"/>
                  </a:lnTo>
                  <a:lnTo>
                    <a:pt x="169" y="186"/>
                  </a:lnTo>
                  <a:lnTo>
                    <a:pt x="132" y="169"/>
                  </a:lnTo>
                  <a:lnTo>
                    <a:pt x="94" y="152"/>
                  </a:lnTo>
                  <a:lnTo>
                    <a:pt x="57" y="135"/>
                  </a:lnTo>
                  <a:lnTo>
                    <a:pt x="0" y="24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flipH="1">
              <a:off x="7646400" y="3613320"/>
              <a:ext cx="96120" cy="234720"/>
            </a:xfrm>
            <a:custGeom>
              <a:avLst/>
              <a:gdLst/>
              <a:ahLst/>
              <a:rect l="l" t="t" r="r" b="b"/>
              <a:pathLst>
                <a:path w="770" h="1704">
                  <a:moveTo>
                    <a:pt x="471" y="0"/>
                  </a:moveTo>
                  <a:lnTo>
                    <a:pt x="439" y="24"/>
                  </a:lnTo>
                  <a:lnTo>
                    <a:pt x="408" y="47"/>
                  </a:lnTo>
                  <a:lnTo>
                    <a:pt x="376" y="72"/>
                  </a:lnTo>
                  <a:lnTo>
                    <a:pt x="348" y="97"/>
                  </a:lnTo>
                  <a:lnTo>
                    <a:pt x="320" y="122"/>
                  </a:lnTo>
                  <a:lnTo>
                    <a:pt x="293" y="147"/>
                  </a:lnTo>
                  <a:lnTo>
                    <a:pt x="268" y="173"/>
                  </a:lnTo>
                  <a:lnTo>
                    <a:pt x="244" y="198"/>
                  </a:lnTo>
                  <a:lnTo>
                    <a:pt x="220" y="225"/>
                  </a:lnTo>
                  <a:lnTo>
                    <a:pt x="199" y="251"/>
                  </a:lnTo>
                  <a:lnTo>
                    <a:pt x="177" y="278"/>
                  </a:lnTo>
                  <a:lnTo>
                    <a:pt x="158" y="306"/>
                  </a:lnTo>
                  <a:lnTo>
                    <a:pt x="138" y="333"/>
                  </a:lnTo>
                  <a:lnTo>
                    <a:pt x="121" y="361"/>
                  </a:lnTo>
                  <a:lnTo>
                    <a:pt x="105" y="389"/>
                  </a:lnTo>
                  <a:lnTo>
                    <a:pt x="90" y="417"/>
                  </a:lnTo>
                  <a:lnTo>
                    <a:pt x="76" y="446"/>
                  </a:lnTo>
                  <a:lnTo>
                    <a:pt x="63" y="475"/>
                  </a:lnTo>
                  <a:lnTo>
                    <a:pt x="51" y="504"/>
                  </a:lnTo>
                  <a:lnTo>
                    <a:pt x="40" y="533"/>
                  </a:lnTo>
                  <a:lnTo>
                    <a:pt x="32" y="562"/>
                  </a:lnTo>
                  <a:lnTo>
                    <a:pt x="23" y="591"/>
                  </a:lnTo>
                  <a:lnTo>
                    <a:pt x="17" y="620"/>
                  </a:lnTo>
                  <a:lnTo>
                    <a:pt x="10" y="651"/>
                  </a:lnTo>
                  <a:lnTo>
                    <a:pt x="6" y="680"/>
                  </a:lnTo>
                  <a:lnTo>
                    <a:pt x="3" y="710"/>
                  </a:lnTo>
                  <a:lnTo>
                    <a:pt x="1" y="739"/>
                  </a:lnTo>
                  <a:lnTo>
                    <a:pt x="0" y="769"/>
                  </a:lnTo>
                  <a:lnTo>
                    <a:pt x="0" y="798"/>
                  </a:lnTo>
                  <a:lnTo>
                    <a:pt x="1" y="829"/>
                  </a:lnTo>
                  <a:lnTo>
                    <a:pt x="4" y="858"/>
                  </a:lnTo>
                  <a:lnTo>
                    <a:pt x="7" y="888"/>
                  </a:lnTo>
                  <a:lnTo>
                    <a:pt x="12" y="917"/>
                  </a:lnTo>
                  <a:lnTo>
                    <a:pt x="19" y="946"/>
                  </a:lnTo>
                  <a:lnTo>
                    <a:pt x="25" y="975"/>
                  </a:lnTo>
                  <a:lnTo>
                    <a:pt x="34" y="1006"/>
                  </a:lnTo>
                  <a:lnTo>
                    <a:pt x="44" y="1034"/>
                  </a:lnTo>
                  <a:lnTo>
                    <a:pt x="54" y="1063"/>
                  </a:lnTo>
                  <a:lnTo>
                    <a:pt x="66" y="1091"/>
                  </a:lnTo>
                  <a:lnTo>
                    <a:pt x="79" y="1120"/>
                  </a:lnTo>
                  <a:lnTo>
                    <a:pt x="93" y="1148"/>
                  </a:lnTo>
                  <a:lnTo>
                    <a:pt x="108" y="1176"/>
                  </a:lnTo>
                  <a:lnTo>
                    <a:pt x="126" y="1203"/>
                  </a:lnTo>
                  <a:lnTo>
                    <a:pt x="143" y="1231"/>
                  </a:lnTo>
                  <a:lnTo>
                    <a:pt x="161" y="1258"/>
                  </a:lnTo>
                  <a:lnTo>
                    <a:pt x="180" y="1285"/>
                  </a:lnTo>
                  <a:lnTo>
                    <a:pt x="201" y="1311"/>
                  </a:lnTo>
                  <a:lnTo>
                    <a:pt x="223" y="1337"/>
                  </a:lnTo>
                  <a:lnTo>
                    <a:pt x="246" y="1363"/>
                  </a:lnTo>
                  <a:lnTo>
                    <a:pt x="270" y="1389"/>
                  </a:lnTo>
                  <a:lnTo>
                    <a:pt x="295" y="1414"/>
                  </a:lnTo>
                  <a:lnTo>
                    <a:pt x="321" y="1438"/>
                  </a:lnTo>
                  <a:lnTo>
                    <a:pt x="348" y="1463"/>
                  </a:lnTo>
                  <a:lnTo>
                    <a:pt x="376" y="1487"/>
                  </a:lnTo>
                  <a:lnTo>
                    <a:pt x="405" y="1511"/>
                  </a:lnTo>
                  <a:lnTo>
                    <a:pt x="436" y="1533"/>
                  </a:lnTo>
                  <a:lnTo>
                    <a:pt x="467" y="1557"/>
                  </a:lnTo>
                  <a:lnTo>
                    <a:pt x="499" y="1580"/>
                  </a:lnTo>
                  <a:lnTo>
                    <a:pt x="533" y="1601"/>
                  </a:lnTo>
                  <a:lnTo>
                    <a:pt x="566" y="1623"/>
                  </a:lnTo>
                  <a:lnTo>
                    <a:pt x="601" y="1644"/>
                  </a:lnTo>
                  <a:lnTo>
                    <a:pt x="638" y="1664"/>
                  </a:lnTo>
                  <a:lnTo>
                    <a:pt x="676" y="1685"/>
                  </a:lnTo>
                  <a:lnTo>
                    <a:pt x="713" y="1704"/>
                  </a:lnTo>
                  <a:lnTo>
                    <a:pt x="770" y="1591"/>
                  </a:lnTo>
                  <a:lnTo>
                    <a:pt x="734" y="1572"/>
                  </a:lnTo>
                  <a:lnTo>
                    <a:pt x="699" y="1553"/>
                  </a:lnTo>
                  <a:lnTo>
                    <a:pt x="665" y="1533"/>
                  </a:lnTo>
                  <a:lnTo>
                    <a:pt x="633" y="1514"/>
                  </a:lnTo>
                  <a:lnTo>
                    <a:pt x="600" y="1495"/>
                  </a:lnTo>
                  <a:lnTo>
                    <a:pt x="570" y="1474"/>
                  </a:lnTo>
                  <a:lnTo>
                    <a:pt x="540" y="1454"/>
                  </a:lnTo>
                  <a:lnTo>
                    <a:pt x="511" y="1432"/>
                  </a:lnTo>
                  <a:lnTo>
                    <a:pt x="484" y="1410"/>
                  </a:lnTo>
                  <a:lnTo>
                    <a:pt x="457" y="1390"/>
                  </a:lnTo>
                  <a:lnTo>
                    <a:pt x="431" y="1367"/>
                  </a:lnTo>
                  <a:lnTo>
                    <a:pt x="407" y="1346"/>
                  </a:lnTo>
                  <a:lnTo>
                    <a:pt x="384" y="1323"/>
                  </a:lnTo>
                  <a:lnTo>
                    <a:pt x="361" y="1300"/>
                  </a:lnTo>
                  <a:lnTo>
                    <a:pt x="340" y="1278"/>
                  </a:lnTo>
                  <a:lnTo>
                    <a:pt x="319" y="1255"/>
                  </a:lnTo>
                  <a:lnTo>
                    <a:pt x="300" y="1231"/>
                  </a:lnTo>
                  <a:lnTo>
                    <a:pt x="282" y="1209"/>
                  </a:lnTo>
                  <a:lnTo>
                    <a:pt x="264" y="1185"/>
                  </a:lnTo>
                  <a:lnTo>
                    <a:pt x="248" y="1161"/>
                  </a:lnTo>
                  <a:lnTo>
                    <a:pt x="233" y="1137"/>
                  </a:lnTo>
                  <a:lnTo>
                    <a:pt x="219" y="1114"/>
                  </a:lnTo>
                  <a:lnTo>
                    <a:pt x="206" y="1089"/>
                  </a:lnTo>
                  <a:lnTo>
                    <a:pt x="193" y="1065"/>
                  </a:lnTo>
                  <a:lnTo>
                    <a:pt x="183" y="1040"/>
                  </a:lnTo>
                  <a:lnTo>
                    <a:pt x="173" y="1016"/>
                  </a:lnTo>
                  <a:lnTo>
                    <a:pt x="163" y="992"/>
                  </a:lnTo>
                  <a:lnTo>
                    <a:pt x="156" y="967"/>
                  </a:lnTo>
                  <a:lnTo>
                    <a:pt x="148" y="943"/>
                  </a:lnTo>
                  <a:lnTo>
                    <a:pt x="143" y="918"/>
                  </a:lnTo>
                  <a:lnTo>
                    <a:pt x="137" y="893"/>
                  </a:lnTo>
                  <a:lnTo>
                    <a:pt x="133" y="870"/>
                  </a:lnTo>
                  <a:lnTo>
                    <a:pt x="130" y="845"/>
                  </a:lnTo>
                  <a:lnTo>
                    <a:pt x="128" y="820"/>
                  </a:lnTo>
                  <a:lnTo>
                    <a:pt x="127" y="795"/>
                  </a:lnTo>
                  <a:lnTo>
                    <a:pt x="127" y="770"/>
                  </a:lnTo>
                  <a:lnTo>
                    <a:pt x="128" y="746"/>
                  </a:lnTo>
                  <a:lnTo>
                    <a:pt x="129" y="721"/>
                  </a:lnTo>
                  <a:lnTo>
                    <a:pt x="132" y="697"/>
                  </a:lnTo>
                  <a:lnTo>
                    <a:pt x="136" y="672"/>
                  </a:lnTo>
                  <a:lnTo>
                    <a:pt x="141" y="647"/>
                  </a:lnTo>
                  <a:lnTo>
                    <a:pt x="146" y="623"/>
                  </a:lnTo>
                  <a:lnTo>
                    <a:pt x="154" y="598"/>
                  </a:lnTo>
                  <a:lnTo>
                    <a:pt x="161" y="574"/>
                  </a:lnTo>
                  <a:lnTo>
                    <a:pt x="170" y="549"/>
                  </a:lnTo>
                  <a:lnTo>
                    <a:pt x="179" y="524"/>
                  </a:lnTo>
                  <a:lnTo>
                    <a:pt x="190" y="501"/>
                  </a:lnTo>
                  <a:lnTo>
                    <a:pt x="203" y="476"/>
                  </a:lnTo>
                  <a:lnTo>
                    <a:pt x="216" y="451"/>
                  </a:lnTo>
                  <a:lnTo>
                    <a:pt x="230" y="427"/>
                  </a:lnTo>
                  <a:lnTo>
                    <a:pt x="245" y="403"/>
                  </a:lnTo>
                  <a:lnTo>
                    <a:pt x="261" y="379"/>
                  </a:lnTo>
                  <a:lnTo>
                    <a:pt x="278" y="355"/>
                  </a:lnTo>
                  <a:lnTo>
                    <a:pt x="297" y="331"/>
                  </a:lnTo>
                  <a:lnTo>
                    <a:pt x="317" y="307"/>
                  </a:lnTo>
                  <a:lnTo>
                    <a:pt x="338" y="285"/>
                  </a:lnTo>
                  <a:lnTo>
                    <a:pt x="359" y="261"/>
                  </a:lnTo>
                  <a:lnTo>
                    <a:pt x="382" y="238"/>
                  </a:lnTo>
                  <a:lnTo>
                    <a:pt x="407" y="215"/>
                  </a:lnTo>
                  <a:lnTo>
                    <a:pt x="431" y="192"/>
                  </a:lnTo>
                  <a:lnTo>
                    <a:pt x="458" y="170"/>
                  </a:lnTo>
                  <a:lnTo>
                    <a:pt x="485" y="148"/>
                  </a:lnTo>
                  <a:lnTo>
                    <a:pt x="514" y="126"/>
                  </a:lnTo>
                  <a:lnTo>
                    <a:pt x="543" y="105"/>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7386840" y="3873240"/>
              <a:ext cx="265680" cy="35640"/>
            </a:xfrm>
            <a:custGeom>
              <a:avLst/>
              <a:gdLst/>
              <a:ahLst/>
              <a:rect l="l" t="t" r="r" b="b"/>
              <a:pathLst>
                <a:path w="2131" h="254">
                  <a:moveTo>
                    <a:pt x="2131" y="0"/>
                  </a:moveTo>
                  <a:lnTo>
                    <a:pt x="2129" y="12"/>
                  </a:lnTo>
                  <a:lnTo>
                    <a:pt x="2125" y="25"/>
                  </a:lnTo>
                  <a:lnTo>
                    <a:pt x="2119" y="38"/>
                  </a:lnTo>
                  <a:lnTo>
                    <a:pt x="2109" y="51"/>
                  </a:lnTo>
                  <a:lnTo>
                    <a:pt x="2097" y="63"/>
                  </a:lnTo>
                  <a:lnTo>
                    <a:pt x="2083" y="75"/>
                  </a:lnTo>
                  <a:lnTo>
                    <a:pt x="2066" y="87"/>
                  </a:lnTo>
                  <a:lnTo>
                    <a:pt x="2047" y="99"/>
                  </a:lnTo>
                  <a:lnTo>
                    <a:pt x="2026" y="110"/>
                  </a:lnTo>
                  <a:lnTo>
                    <a:pt x="2002" y="122"/>
                  </a:lnTo>
                  <a:lnTo>
                    <a:pt x="1977" y="131"/>
                  </a:lnTo>
                  <a:lnTo>
                    <a:pt x="1949" y="142"/>
                  </a:lnTo>
                  <a:lnTo>
                    <a:pt x="1918" y="152"/>
                  </a:lnTo>
                  <a:lnTo>
                    <a:pt x="1887" y="161"/>
                  </a:lnTo>
                  <a:lnTo>
                    <a:pt x="1854" y="171"/>
                  </a:lnTo>
                  <a:lnTo>
                    <a:pt x="1818" y="180"/>
                  </a:lnTo>
                  <a:lnTo>
                    <a:pt x="1782" y="188"/>
                  </a:lnTo>
                  <a:lnTo>
                    <a:pt x="1743" y="196"/>
                  </a:lnTo>
                  <a:lnTo>
                    <a:pt x="1702" y="204"/>
                  </a:lnTo>
                  <a:lnTo>
                    <a:pt x="1660" y="211"/>
                  </a:lnTo>
                  <a:lnTo>
                    <a:pt x="1617" y="218"/>
                  </a:lnTo>
                  <a:lnTo>
                    <a:pt x="1573" y="224"/>
                  </a:lnTo>
                  <a:lnTo>
                    <a:pt x="1527" y="229"/>
                  </a:lnTo>
                  <a:lnTo>
                    <a:pt x="1479" y="235"/>
                  </a:lnTo>
                  <a:lnTo>
                    <a:pt x="1431" y="239"/>
                  </a:lnTo>
                  <a:lnTo>
                    <a:pt x="1381" y="243"/>
                  </a:lnTo>
                  <a:lnTo>
                    <a:pt x="1332" y="247"/>
                  </a:lnTo>
                  <a:lnTo>
                    <a:pt x="1280" y="250"/>
                  </a:lnTo>
                  <a:lnTo>
                    <a:pt x="1227" y="252"/>
                  </a:lnTo>
                  <a:lnTo>
                    <a:pt x="1174" y="253"/>
                  </a:lnTo>
                  <a:lnTo>
                    <a:pt x="1120" y="254"/>
                  </a:lnTo>
                  <a:lnTo>
                    <a:pt x="1066" y="254"/>
                  </a:lnTo>
                  <a:lnTo>
                    <a:pt x="1011" y="254"/>
                  </a:lnTo>
                  <a:lnTo>
                    <a:pt x="957" y="253"/>
                  </a:lnTo>
                  <a:lnTo>
                    <a:pt x="903" y="252"/>
                  </a:lnTo>
                  <a:lnTo>
                    <a:pt x="851" y="250"/>
                  </a:lnTo>
                  <a:lnTo>
                    <a:pt x="800" y="247"/>
                  </a:lnTo>
                  <a:lnTo>
                    <a:pt x="749" y="243"/>
                  </a:lnTo>
                  <a:lnTo>
                    <a:pt x="700" y="239"/>
                  </a:lnTo>
                  <a:lnTo>
                    <a:pt x="651" y="235"/>
                  </a:lnTo>
                  <a:lnTo>
                    <a:pt x="604" y="229"/>
                  </a:lnTo>
                  <a:lnTo>
                    <a:pt x="559" y="224"/>
                  </a:lnTo>
                  <a:lnTo>
                    <a:pt x="513" y="218"/>
                  </a:lnTo>
                  <a:lnTo>
                    <a:pt x="470" y="211"/>
                  </a:lnTo>
                  <a:lnTo>
                    <a:pt x="428" y="204"/>
                  </a:lnTo>
                  <a:lnTo>
                    <a:pt x="388" y="196"/>
                  </a:lnTo>
                  <a:lnTo>
                    <a:pt x="350" y="188"/>
                  </a:lnTo>
                  <a:lnTo>
                    <a:pt x="312" y="180"/>
                  </a:lnTo>
                  <a:lnTo>
                    <a:pt x="278" y="171"/>
                  </a:lnTo>
                  <a:lnTo>
                    <a:pt x="243" y="161"/>
                  </a:lnTo>
                  <a:lnTo>
                    <a:pt x="212" y="152"/>
                  </a:lnTo>
                  <a:lnTo>
                    <a:pt x="182" y="142"/>
                  </a:lnTo>
                  <a:lnTo>
                    <a:pt x="155" y="131"/>
                  </a:lnTo>
                  <a:lnTo>
                    <a:pt x="129" y="122"/>
                  </a:lnTo>
                  <a:lnTo>
                    <a:pt x="105" y="110"/>
                  </a:lnTo>
                  <a:lnTo>
                    <a:pt x="84" y="99"/>
                  </a:lnTo>
                  <a:lnTo>
                    <a:pt x="64" y="87"/>
                  </a:lnTo>
                  <a:lnTo>
                    <a:pt x="48" y="75"/>
                  </a:lnTo>
                  <a:lnTo>
                    <a:pt x="33" y="63"/>
                  </a:lnTo>
                  <a:lnTo>
                    <a:pt x="21" y="51"/>
                  </a:lnTo>
                  <a:lnTo>
                    <a:pt x="12" y="38"/>
                  </a:lnTo>
                  <a:lnTo>
                    <a:pt x="5" y="25"/>
                  </a:lnTo>
                  <a:lnTo>
                    <a:pt x="1" y="12"/>
                  </a:lnTo>
                  <a:lnTo>
                    <a:pt x="0" y="0"/>
                  </a:lnTo>
                </a:path>
              </a:pathLst>
            </a:custGeom>
            <a:noFill/>
            <a:ln w="1800">
              <a:solidFill>
                <a:srgbClr val="6666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ff"/>
                </a:solidFill>
                <a:latin typeface="Verdana"/>
              </a:rPr>
              <a:t>DHCycle</a:t>
            </a:r>
            <a:endParaRPr b="0" lang="en-US" sz="500" spc="-1" strike="noStrike">
              <a:solidFill>
                <a:srgbClr val="000000"/>
              </a:solidFill>
              <a:latin typeface="Times New Roman"/>
            </a:endParaRPr>
          </a:p>
        </p:txBody>
      </p:sp>
      <p:sp>
        <p:nvSpPr>
          <p:cNvPr id="478" name=""/>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roblem Solving Approach</a:t>
            </a:r>
            <a:endParaRPr b="0" lang="en-US" sz="2400" spc="-1" strike="noStrike">
              <a:solidFill>
                <a:srgbClr val="000000"/>
              </a:solidFill>
              <a:latin typeface="Times New Roman"/>
            </a:endParaRPr>
          </a:p>
        </p:txBody>
      </p:sp>
      <p:sp>
        <p:nvSpPr>
          <p:cNvPr id="479" name=""/>
          <p:cNvSpPr/>
          <p:nvPr/>
        </p:nvSpPr>
        <p:spPr>
          <a:xfrm>
            <a:off x="4932360" y="3247920"/>
            <a:ext cx="2970360" cy="117000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860560" y="4329000"/>
            <a:ext cx="3149640" cy="1890720"/>
          </a:xfrm>
          <a:prstGeom prst="rect">
            <a:avLst/>
          </a:prstGeom>
          <a:solidFill>
            <a:srgbClr val="ffffff">
              <a:alpha val="8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51280" y="2347920"/>
            <a:ext cx="1621080" cy="1440000"/>
          </a:xfrm>
          <a:custGeom>
            <a:avLst/>
            <a:gdLst>
              <a:gd name="textAreaLeft" fmla="*/ 0 w 1621080"/>
              <a:gd name="textAreaRight" fmla="*/ 1621440 w 1621080"/>
              <a:gd name="textAreaTop" fmla="*/ 0 h 1440000"/>
              <a:gd name="textAreaBottom" fmla="*/ 1440000 h 1440000"/>
            </a:gdLst>
            <a:ahLst/>
            <a:rect l="textAreaLeft" t="textAreaTop" r="textAreaRight" b="textAreaBottom"/>
            <a:pathLst>
              <a:path w="21600" h="21600">
                <a:moveTo>
                  <a:pt x="2601" y="10458"/>
                </a:moveTo>
                <a:arcTo wR="-8206" hR="-8206" stAng="-10656687" swAng="-5447225"/>
                <a:lnTo>
                  <a:pt x="11102" y="4"/>
                </a:lnTo>
                <a:arcTo wR="10800" hR="10800" stAng="-5303912" swAng="5447225"/>
                <a:lnTo>
                  <a:pt x="24288" y="11363"/>
                </a:lnTo>
                <a:lnTo>
                  <a:pt x="20128" y="15190"/>
                </a:lnTo>
                <a:lnTo>
                  <a:pt x="16301" y="11029"/>
                </a:lnTo>
                <a:close/>
              </a:path>
            </a:pathLst>
          </a:cu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0" y="6553080"/>
            <a:ext cx="4572000" cy="30492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858000" y="0"/>
            <a:ext cx="2286000" cy="304920"/>
          </a:xfrm>
          <a:prstGeom prst="rect">
            <a:avLst/>
          </a:prstGeom>
          <a:solidFill>
            <a:srgbClr val="ff99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34320" y="-360"/>
            <a:ext cx="2209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Discuss</a:t>
            </a:r>
            <a:endParaRPr b="0" lang="en-US" sz="1600" spc="-1" strike="noStrike">
              <a:solidFill>
                <a:srgbClr val="000000"/>
              </a:solidFill>
              <a:latin typeface="Times New Roman"/>
            </a:endParaRPr>
          </a:p>
        </p:txBody>
      </p:sp>
      <p:sp>
        <p:nvSpPr>
          <p:cNvPr id="485" name=""/>
          <p:cNvSpPr/>
          <p:nvPr/>
        </p:nvSpPr>
        <p:spPr>
          <a:xfrm>
            <a:off x="6157800" y="2176560"/>
            <a:ext cx="204480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You are</a:t>
            </a:r>
            <a:endParaRPr b="0" lang="en-US" sz="2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w he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481"/>
                                        </p:tgtEl>
                                        <p:attrNameLst>
                                          <p:attrName>style.visibility</p:attrName>
                                        </p:attrNameLst>
                                      </p:cBhvr>
                                      <p:to>
                                        <p:strVal val="visible"/>
                                      </p:to>
                                    </p:set>
                                  </p:childTnLst>
                                </p:cTn>
                              </p:par>
                              <p:par>
                                <p:cTn id="136" nodeType="withEffect" fill="hold" presetClass="exit" presetID="1">
                                  <p:stCondLst>
                                    <p:cond delay="0"/>
                                  </p:stCondLst>
                                  <p:childTnLst>
                                    <p:set>
                                      <p:cBhvr>
                                        <p:cTn id="137" dur="1" fill="hold">
                                          <p:stCondLst>
                                            <p:cond delay="0"/>
                                          </p:stCondLst>
                                        </p:cTn>
                                        <p:tgtEl>
                                          <p:spTgt spid="479"/>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499"/>
                                          </p:stCondLst>
                                        </p:cTn>
                                        <p:tgtEl>
                                          <p:spTgt spid="485"/>
                                        </p:tgtEl>
                                        <p:attrNameLst>
                                          <p:attrName>style.visibility</p:attrName>
                                        </p:attrNameLst>
                                      </p:cBhvr>
                                      <p:to>
                                        <p:strVal val="visible"/>
                                      </p:to>
                                    </p:set>
                                  </p:childTnLst>
                                </p:cTn>
                              </p:par>
                              <p:par>
                                <p:cTn id="140" nodeType="withEffect" fill="hold" presetClass="exit" presetID="1">
                                  <p:stCondLst>
                                    <p:cond delay="0"/>
                                  </p:stCondLst>
                                  <p:childTnLst>
                                    <p:set>
                                      <p:cBhvr>
                                        <p:cTn id="141" dur="1" fill="hold">
                                          <p:stCondLst>
                                            <p:cond delay="0"/>
                                          </p:stCondLst>
                                        </p:cTn>
                                        <p:tgtEl>
                                          <p:spTgt spid="4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8:40:41Z</dcterms:created>
  <dc:creator>Mark Crowley</dc:creator>
  <dc:description/>
  <dc:language>en-US</dc:language>
  <cp:lastModifiedBy>Bruno Reddy</cp:lastModifiedBy>
  <dcterms:modified xsi:type="dcterms:W3CDTF">2006-04-20T11:09:09Z</dcterms:modified>
  <cp:revision>63</cp:revision>
  <dc:subject>Data Handling Cycle</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75847641</vt:r8>
  </property>
  <property fmtid="{D5CDD505-2E9C-101B-9397-08002B2CF9AE}" pid="3" name="_AuthorEmail">
    <vt:lpwstr>elizabeth.gibson@ntu.ac.uk</vt:lpwstr>
  </property>
  <property fmtid="{D5CDD505-2E9C-101B-9397-08002B2CF9AE}" pid="4" name="_AuthorEmailDisplayName">
    <vt:lpwstr>Gibson, Elizabeth</vt:lpwstr>
  </property>
  <property fmtid="{D5CDD505-2E9C-101B-9397-08002B2CF9AE}" pid="5" name="_EmailSubject">
    <vt:lpwstr>CSE</vt:lpwstr>
  </property>
  <property fmtid="{D5CDD505-2E9C-101B-9397-08002B2CF9AE}" pid="6" name="_PreviousAdHocReviewCycleID">
    <vt:r8>325722422</vt:r8>
  </property>
  <property fmtid="{D5CDD505-2E9C-101B-9397-08002B2CF9AE}" pid="7" name="_ReviewingToolsShownOnce">
    <vt:lpwstr/>
  </property>
</Properties>
</file>